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BAF1-8FC3-4A69-8BF7-122346AFB4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rag and drop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rag and drop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rag and drop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4400" y="6611760"/>
            <a:ext cx="914580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859932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 rot="10801200">
            <a:off x="21744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oardworks_logo" descr="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07400" y="665964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72720" y="476280"/>
            <a:ext cx="315108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EY STAGE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5080" y="5157720"/>
            <a:ext cx="546444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HEART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80360" y="6237360"/>
            <a:ext cx="952560" cy="266760"/>
          </a:xfrm>
          <a:prstGeom prst="rect">
            <a:avLst/>
          </a:prstGeom>
          <a:ln w="0">
            <a:noFill/>
          </a:ln>
        </p:spPr>
      </p:pic>
      <p:pic>
        <p:nvPicPr>
          <p:cNvPr id="54" name="circulation_system" descr=""/>
          <p:cNvPicPr/>
          <p:nvPr/>
        </p:nvPicPr>
        <p:blipFill>
          <a:blip r:embed="rId2"/>
          <a:stretch/>
        </p:blipFill>
        <p:spPr>
          <a:xfrm>
            <a:off x="3067200" y="1447920"/>
            <a:ext cx="24955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76120" y="69840"/>
            <a:ext cx="75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ides the chambers there is also another very important part of the heart –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the valv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 These valves are found between the top and bottom chambers on both sides of the he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2743200"/>
            <a:ext cx="990360" cy="9144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75160" y="2476440"/>
            <a:ext cx="4539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75160" y="2703600"/>
            <a:ext cx="453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9120" y="2703600"/>
            <a:ext cx="1440" cy="795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74800" y="3497400"/>
            <a:ext cx="453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029120" y="2249640"/>
            <a:ext cx="1440" cy="226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24360" y="2249640"/>
            <a:ext cx="1800" cy="907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75160" y="3724200"/>
            <a:ext cx="4539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29120" y="3724200"/>
            <a:ext cx="1440" cy="227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29120" y="3951360"/>
            <a:ext cx="795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24360" y="3155760"/>
            <a:ext cx="1800" cy="795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121200" y="2529000"/>
            <a:ext cx="1249200" cy="123840"/>
            <a:chOff x="3121200" y="2529000"/>
            <a:chExt cx="1249200" cy="123840"/>
          </a:xfrm>
        </p:grpSpPr>
        <p:sp>
          <p:nvSpPr>
            <p:cNvPr id="158" name=""/>
            <p:cNvSpPr/>
            <p:nvPr/>
          </p:nvSpPr>
          <p:spPr>
            <a:xfrm>
              <a:off x="3121200" y="2589480"/>
              <a:ext cx="1130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46560" y="252900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78"/>
                  </a:moveTo>
                  <a:lnTo>
                    <a:pt x="78" y="38"/>
                  </a:lnTo>
                  <a:lnTo>
                    <a:pt x="0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121200" y="3548160"/>
            <a:ext cx="1021680" cy="123840"/>
            <a:chOff x="3121200" y="3548160"/>
            <a:chExt cx="1021680" cy="123840"/>
          </a:xfrm>
        </p:grpSpPr>
        <p:sp>
          <p:nvSpPr>
            <p:cNvPr id="161" name=""/>
            <p:cNvSpPr/>
            <p:nvPr/>
          </p:nvSpPr>
          <p:spPr>
            <a:xfrm flipH="1">
              <a:off x="3239640" y="3610080"/>
              <a:ext cx="9032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21200" y="3548160"/>
              <a:ext cx="122040" cy="12384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77" y="0"/>
                  </a:moveTo>
                  <a:lnTo>
                    <a:pt x="0" y="39"/>
                  </a:lnTo>
                  <a:lnTo>
                    <a:pt x="77" y="7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03848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31240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572000" y="31240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600200"/>
            <a:ext cx="1218960" cy="18288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354240 h 1828800"/>
              <a:gd name="textAreaBottom" fmla="*/ 115380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74" stAng="-5400000" swAng="-5400000"/>
                <a:lnTo>
                  <a:pt x="0" y="9440"/>
                </a:lnTo>
                <a:arcTo wR="21600" hR="8374" stAng="10800000" swAng="-2858084"/>
                <a:lnTo>
                  <a:pt x="14400" y="21121"/>
                </a:lnTo>
                <a:lnTo>
                  <a:pt x="21600" y="17280"/>
                </a:lnTo>
                <a:lnTo>
                  <a:pt x="14400" y="12481"/>
                </a:lnTo>
                <a:lnTo>
                  <a:pt x="14400" y="16268"/>
                </a:lnTo>
                <a:arcTo wR="21600" hR="8374" stAng="7941916" swAng="2773099"/>
                <a:lnTo>
                  <a:pt x="44" y="8907"/>
                </a:lnTo>
                <a:arcTo wR="21600" hR="8374" stAng="-10715015" swAng="5315015"/>
                <a:close/>
              </a:path>
              <a:path fill="darkenLess" w="21600" h="21600">
                <a:moveTo>
                  <a:pt x="21600" y="0"/>
                </a:moveTo>
                <a:arcTo wR="21600" hR="8374" stAng="-5400000" swAng="-5400000"/>
                <a:lnTo>
                  <a:pt x="0" y="8374"/>
                </a:lnTo>
                <a:arcTo wR="21600" hR="8374" stAng="10800000" swAng="-84985"/>
                <a:lnTo>
                  <a:pt x="44" y="8907"/>
                </a:lnTo>
                <a:arcTo wR="21600" hR="8374" stAng="-10715015" swAng="53150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742840" y="3200400"/>
            <a:ext cx="1219320" cy="1752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3124080"/>
            <a:ext cx="1067040" cy="205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5257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52578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5257800"/>
            <a:ext cx="4572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572000" y="525780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5867280"/>
            <a:ext cx="477720" cy="152640"/>
          </a:xfrm>
          <a:custGeom>
            <a:avLst/>
            <a:gdLst/>
            <a:ahLst/>
            <a:rect l="l" t="t" r="r" b="b"/>
            <a:pathLst>
              <a:path w="218" h="76">
                <a:moveTo>
                  <a:pt x="218" y="0"/>
                </a:moveTo>
                <a:cubicBezTo>
                  <a:pt x="147" y="48"/>
                  <a:pt x="86" y="76"/>
                  <a:pt x="0" y="76"/>
                </a:cubicBezTo>
              </a:path>
            </a:pathLst>
          </a:custGeom>
          <a:noFill/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7520" y="5867280"/>
            <a:ext cx="378000" cy="228600"/>
          </a:xfrm>
          <a:custGeom>
            <a:avLst/>
            <a:gdLst/>
            <a:ahLst/>
            <a:rect l="l" t="t" r="r" b="b"/>
            <a:pathLst>
              <a:path w="142" h="98">
                <a:moveTo>
                  <a:pt x="0" y="0"/>
                </a:moveTo>
                <a:cubicBezTo>
                  <a:pt x="7" y="11"/>
                  <a:pt x="12" y="25"/>
                  <a:pt x="22" y="33"/>
                </a:cubicBezTo>
                <a:cubicBezTo>
                  <a:pt x="31" y="40"/>
                  <a:pt x="45" y="38"/>
                  <a:pt x="55" y="44"/>
                </a:cubicBezTo>
                <a:cubicBezTo>
                  <a:pt x="78" y="57"/>
                  <a:pt x="98" y="73"/>
                  <a:pt x="120" y="87"/>
                </a:cubicBezTo>
                <a:cubicBezTo>
                  <a:pt x="127" y="92"/>
                  <a:pt x="135" y="94"/>
                  <a:pt x="142" y="9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4876920"/>
            <a:ext cx="304560" cy="9144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50292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5105520"/>
            <a:ext cx="0" cy="14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4267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5562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981080" y="548604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26668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valves are rather like doors that only open in one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22557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886200" y="228600"/>
            <a:ext cx="2819160" cy="2080800"/>
            <a:chOff x="3886200" y="228600"/>
            <a:chExt cx="2819160" cy="2080800"/>
          </a:xfrm>
        </p:grpSpPr>
        <p:grpSp>
          <p:nvGrpSpPr>
            <p:cNvPr id="185" name=""/>
            <p:cNvGrpSpPr/>
            <p:nvPr/>
          </p:nvGrpSpPr>
          <p:grpSpPr>
            <a:xfrm>
              <a:off x="4038480" y="228600"/>
              <a:ext cx="2448720" cy="2080800"/>
              <a:chOff x="4038480" y="228600"/>
              <a:chExt cx="2448720" cy="2080800"/>
            </a:xfrm>
          </p:grpSpPr>
          <p:sp>
            <p:nvSpPr>
              <p:cNvPr id="186" name=""/>
              <p:cNvSpPr/>
              <p:nvPr/>
            </p:nvSpPr>
            <p:spPr>
              <a:xfrm>
                <a:off x="4343040" y="228600"/>
                <a:ext cx="18381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3040" y="228600"/>
                <a:ext cx="180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43040" y="709560"/>
                <a:ext cx="1800" cy="11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343040" y="1987200"/>
                <a:ext cx="180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43040" y="2307240"/>
                <a:ext cx="18381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6181200" y="1986840"/>
                <a:ext cx="180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181200" y="709560"/>
                <a:ext cx="1800" cy="11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181200" y="228600"/>
                <a:ext cx="180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62840" y="228600"/>
                <a:ext cx="2520" cy="207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4038480" y="547920"/>
                <a:ext cx="30456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4038480" y="709560"/>
                <a:ext cx="3045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4038480" y="1828440"/>
                <a:ext cx="3045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4038480" y="1987200"/>
                <a:ext cx="3045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181200" y="1987200"/>
                <a:ext cx="3060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81200" y="1828440"/>
                <a:ext cx="3060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81200" y="709560"/>
                <a:ext cx="3060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181200" y="547920"/>
                <a:ext cx="30600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43040" y="1188000"/>
                <a:ext cx="3067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56480" y="1188000"/>
                <a:ext cx="6109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874480" y="1188000"/>
                <a:ext cx="3067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4419360" y="304560"/>
              <a:ext cx="762120" cy="838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33760" y="304560"/>
              <a:ext cx="762120" cy="838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86200" y="60948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324480" y="60948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0" y="1218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6400" y="1218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838080" y="38088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the atrium fills with blood, the valves are clo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200400" y="12189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8195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atrium contracts and squeeze the blood, the valves are pushed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038120" y="2971800"/>
            <a:ext cx="2450160" cy="1700280"/>
            <a:chOff x="4038120" y="2971800"/>
            <a:chExt cx="2450160" cy="1700280"/>
          </a:xfrm>
        </p:grpSpPr>
        <p:sp>
          <p:nvSpPr>
            <p:cNvPr id="216" name=""/>
            <p:cNvSpPr/>
            <p:nvPr/>
          </p:nvSpPr>
          <p:spPr>
            <a:xfrm>
              <a:off x="4343400" y="29718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43400" y="2971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43400" y="3276720"/>
              <a:ext cx="14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43400" y="4349880"/>
              <a:ext cx="14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43400" y="4668840"/>
              <a:ext cx="18381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181560" y="4349880"/>
              <a:ext cx="180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172200" y="3276720"/>
              <a:ext cx="93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57800" y="2971800"/>
              <a:ext cx="7920" cy="16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038120" y="3124080"/>
              <a:ext cx="30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038120" y="3276720"/>
              <a:ext cx="3049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038120" y="4191120"/>
              <a:ext cx="30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038120" y="4349880"/>
              <a:ext cx="30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81560" y="4349880"/>
              <a:ext cx="30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81560" y="4191120"/>
              <a:ext cx="30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72200" y="3276720"/>
              <a:ext cx="306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72200" y="3124080"/>
              <a:ext cx="30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3400" y="3551400"/>
              <a:ext cx="30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6120" y="3551400"/>
              <a:ext cx="61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75200" y="3551400"/>
              <a:ext cx="30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9720" y="3200400"/>
              <a:ext cx="7617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200400"/>
              <a:ext cx="7617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2971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48320" y="3581280"/>
              <a:ext cx="7596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62720" y="3581280"/>
              <a:ext cx="7596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876560" y="3581280"/>
              <a:ext cx="7596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790960" y="3581280"/>
              <a:ext cx="7596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24280" y="3429000"/>
              <a:ext cx="152640" cy="533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38680" y="3429000"/>
              <a:ext cx="152640" cy="533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0600" y="411480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15000" y="411480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800600" y="2666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2666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248160" y="26668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6668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429000" y="36576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51055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valves are connected to the side wall of the heart by tough tendons. These tendons allow the valves to close but not inv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317680" y="289080"/>
            <a:ext cx="3189240" cy="4205160"/>
          </a:xfrm>
          <a:custGeom>
            <a:avLst/>
            <a:gdLst/>
            <a:ahLst/>
            <a:rect l="l" t="t" r="r" b="b"/>
            <a:pathLst>
              <a:path w="2009" h="2649">
                <a:moveTo>
                  <a:pt x="275" y="1051"/>
                </a:moveTo>
                <a:cubicBezTo>
                  <a:pt x="287" y="1132"/>
                  <a:pt x="302" y="1241"/>
                  <a:pt x="253" y="1313"/>
                </a:cubicBezTo>
                <a:cubicBezTo>
                  <a:pt x="238" y="1335"/>
                  <a:pt x="217" y="1353"/>
                  <a:pt x="209" y="1378"/>
                </a:cubicBezTo>
                <a:cubicBezTo>
                  <a:pt x="202" y="1400"/>
                  <a:pt x="187" y="1443"/>
                  <a:pt x="187" y="1443"/>
                </a:cubicBezTo>
                <a:cubicBezTo>
                  <a:pt x="183" y="1465"/>
                  <a:pt x="181" y="1487"/>
                  <a:pt x="176" y="1509"/>
                </a:cubicBezTo>
                <a:cubicBezTo>
                  <a:pt x="171" y="1531"/>
                  <a:pt x="155" y="1574"/>
                  <a:pt x="155" y="1574"/>
                </a:cubicBezTo>
                <a:cubicBezTo>
                  <a:pt x="162" y="1585"/>
                  <a:pt x="165" y="1600"/>
                  <a:pt x="176" y="1607"/>
                </a:cubicBezTo>
                <a:cubicBezTo>
                  <a:pt x="196" y="1619"/>
                  <a:pt x="242" y="1629"/>
                  <a:pt x="242" y="1629"/>
                </a:cubicBezTo>
                <a:cubicBezTo>
                  <a:pt x="249" y="1640"/>
                  <a:pt x="258" y="1650"/>
                  <a:pt x="264" y="1662"/>
                </a:cubicBezTo>
                <a:cubicBezTo>
                  <a:pt x="269" y="1672"/>
                  <a:pt x="270" y="1684"/>
                  <a:pt x="275" y="1694"/>
                </a:cubicBezTo>
                <a:cubicBezTo>
                  <a:pt x="288" y="1717"/>
                  <a:pt x="318" y="1760"/>
                  <a:pt x="318" y="1760"/>
                </a:cubicBezTo>
                <a:cubicBezTo>
                  <a:pt x="314" y="1800"/>
                  <a:pt x="314" y="1840"/>
                  <a:pt x="307" y="1880"/>
                </a:cubicBezTo>
                <a:cubicBezTo>
                  <a:pt x="303" y="1903"/>
                  <a:pt x="285" y="1945"/>
                  <a:pt x="285" y="1945"/>
                </a:cubicBezTo>
                <a:cubicBezTo>
                  <a:pt x="294" y="2035"/>
                  <a:pt x="286" y="2092"/>
                  <a:pt x="362" y="2142"/>
                </a:cubicBezTo>
                <a:cubicBezTo>
                  <a:pt x="378" y="2165"/>
                  <a:pt x="401" y="2183"/>
                  <a:pt x="416" y="2207"/>
                </a:cubicBezTo>
                <a:cubicBezTo>
                  <a:pt x="457" y="2270"/>
                  <a:pt x="388" y="2214"/>
                  <a:pt x="460" y="2262"/>
                </a:cubicBezTo>
                <a:cubicBezTo>
                  <a:pt x="497" y="2315"/>
                  <a:pt x="472" y="2287"/>
                  <a:pt x="547" y="2338"/>
                </a:cubicBezTo>
                <a:cubicBezTo>
                  <a:pt x="558" y="2345"/>
                  <a:pt x="580" y="2360"/>
                  <a:pt x="580" y="2360"/>
                </a:cubicBezTo>
                <a:cubicBezTo>
                  <a:pt x="612" y="2409"/>
                  <a:pt x="652" y="2423"/>
                  <a:pt x="700" y="2447"/>
                </a:cubicBezTo>
                <a:cubicBezTo>
                  <a:pt x="773" y="2483"/>
                  <a:pt x="858" y="2519"/>
                  <a:pt x="940" y="2534"/>
                </a:cubicBezTo>
                <a:cubicBezTo>
                  <a:pt x="991" y="2543"/>
                  <a:pt x="1093" y="2556"/>
                  <a:pt x="1093" y="2556"/>
                </a:cubicBezTo>
                <a:cubicBezTo>
                  <a:pt x="1158" y="2578"/>
                  <a:pt x="1224" y="2600"/>
                  <a:pt x="1289" y="2622"/>
                </a:cubicBezTo>
                <a:cubicBezTo>
                  <a:pt x="1368" y="2648"/>
                  <a:pt x="1456" y="2629"/>
                  <a:pt x="1540" y="2633"/>
                </a:cubicBezTo>
                <a:cubicBezTo>
                  <a:pt x="1604" y="2645"/>
                  <a:pt x="1658" y="2649"/>
                  <a:pt x="1715" y="2611"/>
                </a:cubicBezTo>
                <a:cubicBezTo>
                  <a:pt x="1727" y="2529"/>
                  <a:pt x="1732" y="2413"/>
                  <a:pt x="1824" y="2382"/>
                </a:cubicBezTo>
                <a:cubicBezTo>
                  <a:pt x="1899" y="2332"/>
                  <a:pt x="1881" y="2363"/>
                  <a:pt x="1900" y="2305"/>
                </a:cubicBezTo>
                <a:cubicBezTo>
                  <a:pt x="1904" y="2229"/>
                  <a:pt x="1902" y="2152"/>
                  <a:pt x="1911" y="2076"/>
                </a:cubicBezTo>
                <a:cubicBezTo>
                  <a:pt x="1915" y="2042"/>
                  <a:pt x="1933" y="2011"/>
                  <a:pt x="1944" y="1978"/>
                </a:cubicBezTo>
                <a:cubicBezTo>
                  <a:pt x="1948" y="1967"/>
                  <a:pt x="1955" y="1945"/>
                  <a:pt x="1955" y="1945"/>
                </a:cubicBezTo>
                <a:cubicBezTo>
                  <a:pt x="1968" y="1594"/>
                  <a:pt x="1947" y="1770"/>
                  <a:pt x="2009" y="1585"/>
                </a:cubicBezTo>
                <a:cubicBezTo>
                  <a:pt x="1997" y="1527"/>
                  <a:pt x="1996" y="1507"/>
                  <a:pt x="1955" y="1465"/>
                </a:cubicBezTo>
                <a:cubicBezTo>
                  <a:pt x="1938" y="1416"/>
                  <a:pt x="1875" y="1310"/>
                  <a:pt x="1835" y="1269"/>
                </a:cubicBezTo>
                <a:cubicBezTo>
                  <a:pt x="1820" y="1225"/>
                  <a:pt x="1802" y="1203"/>
                  <a:pt x="1769" y="1171"/>
                </a:cubicBezTo>
                <a:cubicBezTo>
                  <a:pt x="1701" y="967"/>
                  <a:pt x="1672" y="1054"/>
                  <a:pt x="1704" y="865"/>
                </a:cubicBezTo>
                <a:cubicBezTo>
                  <a:pt x="1678" y="790"/>
                  <a:pt x="1676" y="747"/>
                  <a:pt x="1660" y="669"/>
                </a:cubicBezTo>
                <a:cubicBezTo>
                  <a:pt x="1649" y="541"/>
                  <a:pt x="1568" y="607"/>
                  <a:pt x="1540" y="483"/>
                </a:cubicBezTo>
                <a:cubicBezTo>
                  <a:pt x="1508" y="338"/>
                  <a:pt x="1411" y="398"/>
                  <a:pt x="1333" y="374"/>
                </a:cubicBezTo>
                <a:cubicBezTo>
                  <a:pt x="1276" y="392"/>
                  <a:pt x="1085" y="207"/>
                  <a:pt x="1027" y="222"/>
                </a:cubicBezTo>
                <a:cubicBezTo>
                  <a:pt x="921" y="249"/>
                  <a:pt x="899" y="109"/>
                  <a:pt x="787" y="113"/>
                </a:cubicBezTo>
                <a:cubicBezTo>
                  <a:pt x="602" y="119"/>
                  <a:pt x="754" y="0"/>
                  <a:pt x="569" y="3"/>
                </a:cubicBezTo>
                <a:cubicBezTo>
                  <a:pt x="471" y="28"/>
                  <a:pt x="510" y="16"/>
                  <a:pt x="449" y="36"/>
                </a:cubicBezTo>
                <a:cubicBezTo>
                  <a:pt x="440" y="45"/>
                  <a:pt x="394" y="81"/>
                  <a:pt x="384" y="91"/>
                </a:cubicBezTo>
                <a:cubicBezTo>
                  <a:pt x="355" y="120"/>
                  <a:pt x="343" y="150"/>
                  <a:pt x="296" y="156"/>
                </a:cubicBezTo>
                <a:cubicBezTo>
                  <a:pt x="249" y="162"/>
                  <a:pt x="202" y="163"/>
                  <a:pt x="155" y="167"/>
                </a:cubicBezTo>
                <a:cubicBezTo>
                  <a:pt x="122" y="174"/>
                  <a:pt x="91" y="173"/>
                  <a:pt x="67" y="200"/>
                </a:cubicBezTo>
                <a:cubicBezTo>
                  <a:pt x="50" y="220"/>
                  <a:pt x="38" y="243"/>
                  <a:pt x="24" y="265"/>
                </a:cubicBezTo>
                <a:cubicBezTo>
                  <a:pt x="17" y="276"/>
                  <a:pt x="2" y="298"/>
                  <a:pt x="2" y="298"/>
                </a:cubicBezTo>
                <a:cubicBezTo>
                  <a:pt x="6" y="378"/>
                  <a:pt x="0" y="459"/>
                  <a:pt x="13" y="538"/>
                </a:cubicBezTo>
                <a:cubicBezTo>
                  <a:pt x="16" y="555"/>
                  <a:pt x="85" y="573"/>
                  <a:pt x="111" y="582"/>
                </a:cubicBezTo>
                <a:cubicBezTo>
                  <a:pt x="167" y="601"/>
                  <a:pt x="218" y="628"/>
                  <a:pt x="275" y="647"/>
                </a:cubicBezTo>
                <a:cubicBezTo>
                  <a:pt x="300" y="655"/>
                  <a:pt x="467" y="669"/>
                  <a:pt x="471" y="669"/>
                </a:cubicBezTo>
                <a:cubicBezTo>
                  <a:pt x="527" y="688"/>
                  <a:pt x="634" y="704"/>
                  <a:pt x="678" y="734"/>
                </a:cubicBezTo>
                <a:cubicBezTo>
                  <a:pt x="700" y="749"/>
                  <a:pt x="744" y="778"/>
                  <a:pt x="744" y="778"/>
                </a:cubicBezTo>
                <a:cubicBezTo>
                  <a:pt x="751" y="789"/>
                  <a:pt x="755" y="802"/>
                  <a:pt x="765" y="811"/>
                </a:cubicBezTo>
                <a:cubicBezTo>
                  <a:pt x="785" y="828"/>
                  <a:pt x="831" y="854"/>
                  <a:pt x="831" y="854"/>
                </a:cubicBezTo>
                <a:cubicBezTo>
                  <a:pt x="866" y="907"/>
                  <a:pt x="854" y="939"/>
                  <a:pt x="907" y="974"/>
                </a:cubicBezTo>
                <a:cubicBezTo>
                  <a:pt x="937" y="1018"/>
                  <a:pt x="952" y="1011"/>
                  <a:pt x="995" y="1040"/>
                </a:cubicBezTo>
                <a:cubicBezTo>
                  <a:pt x="1035" y="1103"/>
                  <a:pt x="1047" y="1177"/>
                  <a:pt x="1071" y="1247"/>
                </a:cubicBezTo>
                <a:cubicBezTo>
                  <a:pt x="1075" y="1260"/>
                  <a:pt x="1088" y="1268"/>
                  <a:pt x="1093" y="1280"/>
                </a:cubicBezTo>
                <a:cubicBezTo>
                  <a:pt x="1102" y="1301"/>
                  <a:pt x="1115" y="1345"/>
                  <a:pt x="1115" y="1345"/>
                </a:cubicBezTo>
                <a:cubicBezTo>
                  <a:pt x="1103" y="1395"/>
                  <a:pt x="1099" y="1416"/>
                  <a:pt x="1049" y="1433"/>
                </a:cubicBezTo>
                <a:cubicBezTo>
                  <a:pt x="960" y="1425"/>
                  <a:pt x="928" y="1433"/>
                  <a:pt x="864" y="1389"/>
                </a:cubicBezTo>
                <a:cubicBezTo>
                  <a:pt x="849" y="1367"/>
                  <a:pt x="835" y="1345"/>
                  <a:pt x="820" y="1323"/>
                </a:cubicBezTo>
                <a:cubicBezTo>
                  <a:pt x="813" y="1312"/>
                  <a:pt x="797" y="1310"/>
                  <a:pt x="787" y="1302"/>
                </a:cubicBezTo>
                <a:cubicBezTo>
                  <a:pt x="775" y="1292"/>
                  <a:pt x="765" y="1281"/>
                  <a:pt x="755" y="1269"/>
                </a:cubicBezTo>
                <a:cubicBezTo>
                  <a:pt x="747" y="1259"/>
                  <a:pt x="743" y="1245"/>
                  <a:pt x="733" y="1236"/>
                </a:cubicBezTo>
                <a:cubicBezTo>
                  <a:pt x="713" y="1219"/>
                  <a:pt x="667" y="1193"/>
                  <a:pt x="667" y="1193"/>
                </a:cubicBezTo>
                <a:cubicBezTo>
                  <a:pt x="630" y="1083"/>
                  <a:pt x="536" y="1084"/>
                  <a:pt x="438" y="1051"/>
                </a:cubicBezTo>
                <a:cubicBezTo>
                  <a:pt x="349" y="1021"/>
                  <a:pt x="460" y="1059"/>
                  <a:pt x="373" y="1029"/>
                </a:cubicBezTo>
                <a:cubicBezTo>
                  <a:pt x="362" y="1025"/>
                  <a:pt x="340" y="1018"/>
                  <a:pt x="340" y="1018"/>
                </a:cubicBezTo>
                <a:cubicBezTo>
                  <a:pt x="277" y="1031"/>
                  <a:pt x="293" y="1012"/>
                  <a:pt x="275" y="105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838080"/>
            <a:ext cx="3504960" cy="3868920"/>
          </a:xfrm>
          <a:custGeom>
            <a:avLst/>
            <a:gdLst/>
            <a:ahLst/>
            <a:rect l="l" t="t" r="r" b="b"/>
            <a:pathLst>
              <a:path w="2062" h="2389">
                <a:moveTo>
                  <a:pt x="22" y="0"/>
                </a:moveTo>
                <a:cubicBezTo>
                  <a:pt x="18" y="16"/>
                  <a:pt x="0" y="85"/>
                  <a:pt x="0" y="98"/>
                </a:cubicBezTo>
                <a:cubicBezTo>
                  <a:pt x="0" y="131"/>
                  <a:pt x="5" y="164"/>
                  <a:pt x="11" y="196"/>
                </a:cubicBezTo>
                <a:cubicBezTo>
                  <a:pt x="45" y="373"/>
                  <a:pt x="239" y="372"/>
                  <a:pt x="382" y="382"/>
                </a:cubicBezTo>
                <a:cubicBezTo>
                  <a:pt x="469" y="411"/>
                  <a:pt x="542" y="430"/>
                  <a:pt x="632" y="447"/>
                </a:cubicBezTo>
                <a:cubicBezTo>
                  <a:pt x="647" y="450"/>
                  <a:pt x="662" y="454"/>
                  <a:pt x="676" y="458"/>
                </a:cubicBezTo>
                <a:cubicBezTo>
                  <a:pt x="698" y="465"/>
                  <a:pt x="742" y="480"/>
                  <a:pt x="742" y="480"/>
                </a:cubicBezTo>
                <a:cubicBezTo>
                  <a:pt x="774" y="513"/>
                  <a:pt x="782" y="541"/>
                  <a:pt x="807" y="578"/>
                </a:cubicBezTo>
                <a:cubicBezTo>
                  <a:pt x="834" y="658"/>
                  <a:pt x="799" y="562"/>
                  <a:pt x="840" y="644"/>
                </a:cubicBezTo>
                <a:cubicBezTo>
                  <a:pt x="870" y="703"/>
                  <a:pt x="892" y="760"/>
                  <a:pt x="949" y="796"/>
                </a:cubicBezTo>
                <a:cubicBezTo>
                  <a:pt x="972" y="865"/>
                  <a:pt x="941" y="792"/>
                  <a:pt x="1003" y="862"/>
                </a:cubicBezTo>
                <a:cubicBezTo>
                  <a:pt x="1020" y="882"/>
                  <a:pt x="1032" y="905"/>
                  <a:pt x="1047" y="927"/>
                </a:cubicBezTo>
                <a:cubicBezTo>
                  <a:pt x="1054" y="938"/>
                  <a:pt x="1069" y="960"/>
                  <a:pt x="1069" y="960"/>
                </a:cubicBezTo>
                <a:cubicBezTo>
                  <a:pt x="1058" y="964"/>
                  <a:pt x="1047" y="973"/>
                  <a:pt x="1036" y="971"/>
                </a:cubicBezTo>
                <a:cubicBezTo>
                  <a:pt x="985" y="963"/>
                  <a:pt x="1014" y="944"/>
                  <a:pt x="992" y="916"/>
                </a:cubicBezTo>
                <a:cubicBezTo>
                  <a:pt x="984" y="906"/>
                  <a:pt x="971" y="902"/>
                  <a:pt x="960" y="895"/>
                </a:cubicBezTo>
                <a:cubicBezTo>
                  <a:pt x="953" y="884"/>
                  <a:pt x="948" y="870"/>
                  <a:pt x="938" y="862"/>
                </a:cubicBezTo>
                <a:cubicBezTo>
                  <a:pt x="929" y="855"/>
                  <a:pt x="913" y="859"/>
                  <a:pt x="905" y="851"/>
                </a:cubicBezTo>
                <a:cubicBezTo>
                  <a:pt x="873" y="819"/>
                  <a:pt x="844" y="759"/>
                  <a:pt x="818" y="720"/>
                </a:cubicBezTo>
                <a:cubicBezTo>
                  <a:pt x="796" y="687"/>
                  <a:pt x="806" y="648"/>
                  <a:pt x="774" y="622"/>
                </a:cubicBezTo>
                <a:cubicBezTo>
                  <a:pt x="765" y="615"/>
                  <a:pt x="752" y="616"/>
                  <a:pt x="742" y="611"/>
                </a:cubicBezTo>
                <a:cubicBezTo>
                  <a:pt x="629" y="554"/>
                  <a:pt x="577" y="547"/>
                  <a:pt x="447" y="535"/>
                </a:cubicBezTo>
                <a:cubicBezTo>
                  <a:pt x="425" y="539"/>
                  <a:pt x="403" y="541"/>
                  <a:pt x="382" y="546"/>
                </a:cubicBezTo>
                <a:cubicBezTo>
                  <a:pt x="360" y="551"/>
                  <a:pt x="316" y="567"/>
                  <a:pt x="316" y="567"/>
                </a:cubicBezTo>
                <a:cubicBezTo>
                  <a:pt x="289" y="607"/>
                  <a:pt x="266" y="609"/>
                  <a:pt x="251" y="655"/>
                </a:cubicBezTo>
                <a:cubicBezTo>
                  <a:pt x="247" y="739"/>
                  <a:pt x="248" y="823"/>
                  <a:pt x="240" y="906"/>
                </a:cubicBezTo>
                <a:cubicBezTo>
                  <a:pt x="228" y="1029"/>
                  <a:pt x="151" y="1132"/>
                  <a:pt x="131" y="1255"/>
                </a:cubicBezTo>
                <a:cubicBezTo>
                  <a:pt x="132" y="1262"/>
                  <a:pt x="144" y="1347"/>
                  <a:pt x="152" y="1353"/>
                </a:cubicBezTo>
                <a:cubicBezTo>
                  <a:pt x="178" y="1372"/>
                  <a:pt x="253" y="1381"/>
                  <a:pt x="283" y="1386"/>
                </a:cubicBezTo>
                <a:cubicBezTo>
                  <a:pt x="307" y="1456"/>
                  <a:pt x="260" y="1489"/>
                  <a:pt x="240" y="1549"/>
                </a:cubicBezTo>
                <a:cubicBezTo>
                  <a:pt x="248" y="1686"/>
                  <a:pt x="233" y="1772"/>
                  <a:pt x="327" y="1866"/>
                </a:cubicBezTo>
                <a:cubicBezTo>
                  <a:pt x="342" y="1908"/>
                  <a:pt x="355" y="1928"/>
                  <a:pt x="392" y="1953"/>
                </a:cubicBezTo>
                <a:cubicBezTo>
                  <a:pt x="420" y="2036"/>
                  <a:pt x="379" y="1937"/>
                  <a:pt x="436" y="2007"/>
                </a:cubicBezTo>
                <a:cubicBezTo>
                  <a:pt x="480" y="2061"/>
                  <a:pt x="407" y="2027"/>
                  <a:pt x="480" y="2051"/>
                </a:cubicBezTo>
                <a:cubicBezTo>
                  <a:pt x="537" y="2136"/>
                  <a:pt x="464" y="2036"/>
                  <a:pt x="534" y="2106"/>
                </a:cubicBezTo>
                <a:cubicBezTo>
                  <a:pt x="573" y="2145"/>
                  <a:pt x="563" y="2151"/>
                  <a:pt x="622" y="2171"/>
                </a:cubicBezTo>
                <a:cubicBezTo>
                  <a:pt x="654" y="2193"/>
                  <a:pt x="683" y="2223"/>
                  <a:pt x="720" y="2236"/>
                </a:cubicBezTo>
                <a:cubicBezTo>
                  <a:pt x="818" y="2269"/>
                  <a:pt x="916" y="2301"/>
                  <a:pt x="1014" y="2335"/>
                </a:cubicBezTo>
                <a:cubicBezTo>
                  <a:pt x="1124" y="2373"/>
                  <a:pt x="1247" y="2342"/>
                  <a:pt x="1363" y="2346"/>
                </a:cubicBezTo>
                <a:cubicBezTo>
                  <a:pt x="1417" y="2362"/>
                  <a:pt x="1471" y="2378"/>
                  <a:pt x="1527" y="2389"/>
                </a:cubicBezTo>
                <a:cubicBezTo>
                  <a:pt x="1622" y="2382"/>
                  <a:pt x="1675" y="2383"/>
                  <a:pt x="1756" y="2356"/>
                </a:cubicBezTo>
                <a:cubicBezTo>
                  <a:pt x="1763" y="2345"/>
                  <a:pt x="1769" y="2333"/>
                  <a:pt x="1778" y="2324"/>
                </a:cubicBezTo>
                <a:cubicBezTo>
                  <a:pt x="1787" y="2315"/>
                  <a:pt x="1804" y="2313"/>
                  <a:pt x="1811" y="2302"/>
                </a:cubicBezTo>
                <a:cubicBezTo>
                  <a:pt x="1832" y="2268"/>
                  <a:pt x="1831" y="2205"/>
                  <a:pt x="1854" y="2171"/>
                </a:cubicBezTo>
                <a:cubicBezTo>
                  <a:pt x="1861" y="2160"/>
                  <a:pt x="1871" y="2150"/>
                  <a:pt x="1876" y="2138"/>
                </a:cubicBezTo>
                <a:cubicBezTo>
                  <a:pt x="1914" y="2052"/>
                  <a:pt x="1872" y="2090"/>
                  <a:pt x="1931" y="2051"/>
                </a:cubicBezTo>
                <a:cubicBezTo>
                  <a:pt x="1938" y="2040"/>
                  <a:pt x="1943" y="2027"/>
                  <a:pt x="1952" y="2018"/>
                </a:cubicBezTo>
                <a:cubicBezTo>
                  <a:pt x="1961" y="2009"/>
                  <a:pt x="1977" y="2006"/>
                  <a:pt x="1985" y="1996"/>
                </a:cubicBezTo>
                <a:cubicBezTo>
                  <a:pt x="1992" y="1987"/>
                  <a:pt x="1991" y="1974"/>
                  <a:pt x="1996" y="1964"/>
                </a:cubicBezTo>
                <a:cubicBezTo>
                  <a:pt x="2002" y="1952"/>
                  <a:pt x="2013" y="1943"/>
                  <a:pt x="2018" y="1931"/>
                </a:cubicBezTo>
                <a:cubicBezTo>
                  <a:pt x="2020" y="1928"/>
                  <a:pt x="2045" y="1851"/>
                  <a:pt x="2051" y="1833"/>
                </a:cubicBezTo>
                <a:cubicBezTo>
                  <a:pt x="2055" y="1822"/>
                  <a:pt x="2062" y="1800"/>
                  <a:pt x="2062" y="1800"/>
                </a:cubicBezTo>
                <a:cubicBezTo>
                  <a:pt x="2046" y="1458"/>
                  <a:pt x="2051" y="1640"/>
                  <a:pt x="2051" y="1255"/>
                </a:cubicBezTo>
              </a:path>
            </a:pathLst>
          </a:custGeom>
          <a:noFill/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666880" y="23623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514600" y="228564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657240" y="13716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3124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3200400" y="28195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4876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l of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72200" y="26668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tendons can be compared to an arm holding onto the handle of a d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457200"/>
            <a:ext cx="3857400" cy="4978440"/>
          </a:xfrm>
          <a:custGeom>
            <a:avLst/>
            <a:gdLst/>
            <a:ahLst/>
            <a:rect l="l" t="t" r="r" b="b"/>
            <a:pathLst>
              <a:path w="2430" h="3136">
                <a:moveTo>
                  <a:pt x="1978" y="3104"/>
                </a:moveTo>
                <a:cubicBezTo>
                  <a:pt x="1982" y="3084"/>
                  <a:pt x="618" y="2970"/>
                  <a:pt x="309" y="2515"/>
                </a:cubicBezTo>
                <a:cubicBezTo>
                  <a:pt x="0" y="2060"/>
                  <a:pt x="96" y="752"/>
                  <a:pt x="121" y="376"/>
                </a:cubicBezTo>
                <a:cubicBezTo>
                  <a:pt x="146" y="0"/>
                  <a:pt x="404" y="234"/>
                  <a:pt x="462" y="256"/>
                </a:cubicBezTo>
                <a:cubicBezTo>
                  <a:pt x="467" y="293"/>
                  <a:pt x="448" y="481"/>
                  <a:pt x="475" y="507"/>
                </a:cubicBezTo>
                <a:cubicBezTo>
                  <a:pt x="503" y="535"/>
                  <a:pt x="546" y="545"/>
                  <a:pt x="575" y="573"/>
                </a:cubicBezTo>
                <a:cubicBezTo>
                  <a:pt x="586" y="584"/>
                  <a:pt x="594" y="598"/>
                  <a:pt x="607" y="606"/>
                </a:cubicBezTo>
                <a:cubicBezTo>
                  <a:pt x="622" y="616"/>
                  <a:pt x="706" y="627"/>
                  <a:pt x="707" y="627"/>
                </a:cubicBezTo>
                <a:cubicBezTo>
                  <a:pt x="792" y="644"/>
                  <a:pt x="858" y="653"/>
                  <a:pt x="950" y="660"/>
                </a:cubicBezTo>
                <a:cubicBezTo>
                  <a:pt x="1015" y="704"/>
                  <a:pt x="1048" y="696"/>
                  <a:pt x="1138" y="704"/>
                </a:cubicBezTo>
                <a:cubicBezTo>
                  <a:pt x="1215" y="730"/>
                  <a:pt x="1181" y="719"/>
                  <a:pt x="1237" y="736"/>
                </a:cubicBezTo>
                <a:cubicBezTo>
                  <a:pt x="1261" y="772"/>
                  <a:pt x="1291" y="788"/>
                  <a:pt x="1315" y="824"/>
                </a:cubicBezTo>
                <a:cubicBezTo>
                  <a:pt x="1333" y="881"/>
                  <a:pt x="1319" y="847"/>
                  <a:pt x="1370" y="922"/>
                </a:cubicBezTo>
                <a:cubicBezTo>
                  <a:pt x="1376" y="932"/>
                  <a:pt x="1373" y="947"/>
                  <a:pt x="1381" y="955"/>
                </a:cubicBezTo>
                <a:cubicBezTo>
                  <a:pt x="1399" y="973"/>
                  <a:pt x="1446" y="998"/>
                  <a:pt x="1446" y="998"/>
                </a:cubicBezTo>
                <a:cubicBezTo>
                  <a:pt x="1474" y="1078"/>
                  <a:pt x="1438" y="982"/>
                  <a:pt x="1480" y="1064"/>
                </a:cubicBezTo>
                <a:cubicBezTo>
                  <a:pt x="1485" y="1074"/>
                  <a:pt x="1483" y="1088"/>
                  <a:pt x="1491" y="1096"/>
                </a:cubicBezTo>
                <a:cubicBezTo>
                  <a:pt x="1499" y="1104"/>
                  <a:pt x="1513" y="1103"/>
                  <a:pt x="1524" y="1107"/>
                </a:cubicBezTo>
                <a:cubicBezTo>
                  <a:pt x="1530" y="1114"/>
                  <a:pt x="1564" y="1159"/>
                  <a:pt x="1558" y="1173"/>
                </a:cubicBezTo>
                <a:cubicBezTo>
                  <a:pt x="1553" y="1185"/>
                  <a:pt x="1536" y="1188"/>
                  <a:pt x="1524" y="1195"/>
                </a:cubicBezTo>
                <a:cubicBezTo>
                  <a:pt x="1513" y="1188"/>
                  <a:pt x="1500" y="1182"/>
                  <a:pt x="1491" y="1173"/>
                </a:cubicBezTo>
                <a:cubicBezTo>
                  <a:pt x="1482" y="1164"/>
                  <a:pt x="1479" y="1148"/>
                  <a:pt x="1469" y="1140"/>
                </a:cubicBezTo>
                <a:cubicBezTo>
                  <a:pt x="1460" y="1133"/>
                  <a:pt x="1446" y="1134"/>
                  <a:pt x="1436" y="1129"/>
                </a:cubicBezTo>
                <a:cubicBezTo>
                  <a:pt x="1424" y="1123"/>
                  <a:pt x="1414" y="1114"/>
                  <a:pt x="1403" y="1107"/>
                </a:cubicBezTo>
                <a:cubicBezTo>
                  <a:pt x="1383" y="1050"/>
                  <a:pt x="1398" y="1084"/>
                  <a:pt x="1347" y="1009"/>
                </a:cubicBezTo>
                <a:cubicBezTo>
                  <a:pt x="1340" y="998"/>
                  <a:pt x="1325" y="976"/>
                  <a:pt x="1325" y="976"/>
                </a:cubicBezTo>
                <a:cubicBezTo>
                  <a:pt x="1300" y="900"/>
                  <a:pt x="1311" y="933"/>
                  <a:pt x="1293" y="878"/>
                </a:cubicBezTo>
                <a:cubicBezTo>
                  <a:pt x="1289" y="867"/>
                  <a:pt x="1269" y="872"/>
                  <a:pt x="1259" y="867"/>
                </a:cubicBezTo>
                <a:cubicBezTo>
                  <a:pt x="1247" y="861"/>
                  <a:pt x="1238" y="851"/>
                  <a:pt x="1226" y="846"/>
                </a:cubicBezTo>
                <a:cubicBezTo>
                  <a:pt x="1151" y="814"/>
                  <a:pt x="1071" y="805"/>
                  <a:pt x="994" y="780"/>
                </a:cubicBezTo>
                <a:cubicBezTo>
                  <a:pt x="888" y="787"/>
                  <a:pt x="813" y="780"/>
                  <a:pt x="729" y="835"/>
                </a:cubicBezTo>
                <a:cubicBezTo>
                  <a:pt x="696" y="928"/>
                  <a:pt x="706" y="1026"/>
                  <a:pt x="674" y="1118"/>
                </a:cubicBezTo>
                <a:cubicBezTo>
                  <a:pt x="688" y="1160"/>
                  <a:pt x="675" y="1194"/>
                  <a:pt x="663" y="1238"/>
                </a:cubicBezTo>
                <a:cubicBezTo>
                  <a:pt x="647" y="1296"/>
                  <a:pt x="630" y="1363"/>
                  <a:pt x="596" y="1413"/>
                </a:cubicBezTo>
                <a:cubicBezTo>
                  <a:pt x="569" y="1501"/>
                  <a:pt x="536" y="1474"/>
                  <a:pt x="575" y="1609"/>
                </a:cubicBezTo>
                <a:cubicBezTo>
                  <a:pt x="580" y="1627"/>
                  <a:pt x="652" y="1646"/>
                  <a:pt x="674" y="1653"/>
                </a:cubicBezTo>
                <a:cubicBezTo>
                  <a:pt x="685" y="1657"/>
                  <a:pt x="707" y="1664"/>
                  <a:pt x="707" y="1664"/>
                </a:cubicBezTo>
                <a:cubicBezTo>
                  <a:pt x="744" y="1719"/>
                  <a:pt x="743" y="1740"/>
                  <a:pt x="707" y="1795"/>
                </a:cubicBezTo>
                <a:cubicBezTo>
                  <a:pt x="686" y="1879"/>
                  <a:pt x="704" y="1964"/>
                  <a:pt x="729" y="2046"/>
                </a:cubicBezTo>
                <a:cubicBezTo>
                  <a:pt x="733" y="2060"/>
                  <a:pt x="732" y="2077"/>
                  <a:pt x="740" y="2089"/>
                </a:cubicBezTo>
                <a:cubicBezTo>
                  <a:pt x="747" y="2100"/>
                  <a:pt x="762" y="2104"/>
                  <a:pt x="773" y="2111"/>
                </a:cubicBezTo>
                <a:cubicBezTo>
                  <a:pt x="815" y="2172"/>
                  <a:pt x="830" y="2261"/>
                  <a:pt x="906" y="2286"/>
                </a:cubicBezTo>
                <a:cubicBezTo>
                  <a:pt x="913" y="2297"/>
                  <a:pt x="918" y="2309"/>
                  <a:pt x="928" y="2318"/>
                </a:cubicBezTo>
                <a:cubicBezTo>
                  <a:pt x="948" y="2335"/>
                  <a:pt x="994" y="2362"/>
                  <a:pt x="994" y="2362"/>
                </a:cubicBezTo>
                <a:cubicBezTo>
                  <a:pt x="1018" y="2433"/>
                  <a:pt x="985" y="2365"/>
                  <a:pt x="1038" y="2406"/>
                </a:cubicBezTo>
                <a:cubicBezTo>
                  <a:pt x="1049" y="2414"/>
                  <a:pt x="1050" y="2431"/>
                  <a:pt x="1061" y="2438"/>
                </a:cubicBezTo>
                <a:cubicBezTo>
                  <a:pt x="1090" y="2456"/>
                  <a:pt x="1131" y="2452"/>
                  <a:pt x="1160" y="2471"/>
                </a:cubicBezTo>
                <a:cubicBezTo>
                  <a:pt x="1307" y="2567"/>
                  <a:pt x="1472" y="2619"/>
                  <a:pt x="1646" y="2635"/>
                </a:cubicBezTo>
                <a:cubicBezTo>
                  <a:pt x="1770" y="2660"/>
                  <a:pt x="1617" y="2635"/>
                  <a:pt x="1790" y="2635"/>
                </a:cubicBezTo>
                <a:cubicBezTo>
                  <a:pt x="1805" y="2635"/>
                  <a:pt x="1906" y="2649"/>
                  <a:pt x="1932" y="2656"/>
                </a:cubicBezTo>
                <a:cubicBezTo>
                  <a:pt x="1955" y="2662"/>
                  <a:pt x="2348" y="2678"/>
                  <a:pt x="2371" y="2678"/>
                </a:cubicBezTo>
                <a:cubicBezTo>
                  <a:pt x="2430" y="2678"/>
                  <a:pt x="2414" y="3041"/>
                  <a:pt x="2425" y="3136"/>
                </a:cubicBezTo>
              </a:path>
            </a:pathLst>
          </a:custGeom>
          <a:solidFill>
            <a:srgbClr val="80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91520" y="4876920"/>
            <a:ext cx="304560" cy="990360"/>
          </a:xfrm>
          <a:prstGeom prst="downArrow">
            <a:avLst>
              <a:gd name="adj1" fmla="val 50000"/>
              <a:gd name="adj2" fmla="val 81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752480" y="419076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8600" y="8380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arm bends as the door is ope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34320" y="914400"/>
            <a:ext cx="19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en the door is closed the arm is fully exten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4038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ould be impossible for the door to open in the other direction without the person mov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4952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ndon (represented by the arm) is held in a fixed position and therefore the valve (door) can only open in one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ShockwaveFlash1"/>
          <p:cNvGraphicFramePr/>
          <p:nvPr/>
        </p:nvGraphicFramePr>
        <p:xfrm>
          <a:off x="1676520" y="304920"/>
          <a:ext cx="54100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920"/>
                    <a:ext cx="5410080" cy="342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71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28600" y="19810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lood will naturally push against the va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20574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the valves remain firmly sh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887480" y="609480"/>
            <a:ext cx="4970160" cy="4266000"/>
            <a:chOff x="1887480" y="609480"/>
            <a:chExt cx="4970160" cy="4266000"/>
          </a:xfrm>
        </p:grpSpPr>
        <p:grpSp>
          <p:nvGrpSpPr>
            <p:cNvPr id="275" name=""/>
            <p:cNvGrpSpPr/>
            <p:nvPr/>
          </p:nvGrpSpPr>
          <p:grpSpPr>
            <a:xfrm>
              <a:off x="2057400" y="609480"/>
              <a:ext cx="4416840" cy="4266000"/>
              <a:chOff x="2057400" y="609480"/>
              <a:chExt cx="4416840" cy="4266000"/>
            </a:xfrm>
          </p:grpSpPr>
          <p:sp>
            <p:nvSpPr>
              <p:cNvPr id="276" name=""/>
              <p:cNvSpPr/>
              <p:nvPr/>
            </p:nvSpPr>
            <p:spPr>
              <a:xfrm>
                <a:off x="2606760" y="609480"/>
                <a:ext cx="33152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06760" y="609480"/>
                <a:ext cx="3600" cy="65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06760" y="1595520"/>
                <a:ext cx="3600" cy="229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06760" y="4214880"/>
                <a:ext cx="3600" cy="65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06760" y="4871160"/>
                <a:ext cx="33152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5922000" y="4214520"/>
                <a:ext cx="3600" cy="65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922000" y="1595520"/>
                <a:ext cx="3600" cy="229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922000" y="609480"/>
                <a:ext cx="3600" cy="65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266000" y="609480"/>
                <a:ext cx="4680" cy="426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057400" y="1264320"/>
                <a:ext cx="5493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2057400" y="1595520"/>
                <a:ext cx="5493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2057400" y="3889800"/>
                <a:ext cx="5493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2057400" y="4214880"/>
                <a:ext cx="5493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22000" y="4214880"/>
                <a:ext cx="5522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22000" y="3889800"/>
                <a:ext cx="5522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922000" y="1595520"/>
                <a:ext cx="5522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22000" y="1264320"/>
                <a:ext cx="55224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06760" y="2577240"/>
                <a:ext cx="5533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713400" y="2577240"/>
                <a:ext cx="11016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368680" y="2577240"/>
                <a:ext cx="5533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2666880" y="2666880"/>
              <a:ext cx="1514520" cy="2133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43400" y="2666880"/>
              <a:ext cx="1523880" cy="2133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87480" y="1363680"/>
              <a:ext cx="68760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170400" y="1363680"/>
              <a:ext cx="687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8120" y="2590920"/>
              <a:ext cx="82548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2590920"/>
              <a:ext cx="82548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3429000" y="2666520"/>
              <a:ext cx="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5105520" y="2590920"/>
              <a:ext cx="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62320" y="3048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590560" y="25909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25909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4267080" y="2590920"/>
              <a:ext cx="609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34120" y="25909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762120" y="5257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way, the blood can be moved from chamber to chamber quite efficiently. The valves prevent the blood from moving in the wrong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2362320" y="380880"/>
            <a:ext cx="4436640" cy="3047400"/>
            <a:chOff x="2362320" y="380880"/>
            <a:chExt cx="4436640" cy="3047400"/>
          </a:xfrm>
        </p:grpSpPr>
        <p:grpSp>
          <p:nvGrpSpPr>
            <p:cNvPr id="311" name=""/>
            <p:cNvGrpSpPr/>
            <p:nvPr/>
          </p:nvGrpSpPr>
          <p:grpSpPr>
            <a:xfrm>
              <a:off x="2513880" y="380880"/>
              <a:ext cx="3942360" cy="3047400"/>
              <a:chOff x="2513880" y="380880"/>
              <a:chExt cx="3942360" cy="3047400"/>
            </a:xfrm>
          </p:grpSpPr>
          <p:sp>
            <p:nvSpPr>
              <p:cNvPr id="312" name=""/>
              <p:cNvSpPr/>
              <p:nvPr/>
            </p:nvSpPr>
            <p:spPr>
              <a:xfrm>
                <a:off x="3004200" y="380880"/>
                <a:ext cx="29592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04200" y="380880"/>
                <a:ext cx="3240" cy="4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04200" y="1085040"/>
                <a:ext cx="3240" cy="163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04200" y="2956320"/>
                <a:ext cx="3240" cy="46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04200" y="3425040"/>
                <a:ext cx="29592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5963400" y="2956320"/>
                <a:ext cx="3240" cy="46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5963400" y="1085040"/>
                <a:ext cx="3240" cy="163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63400" y="380880"/>
                <a:ext cx="3240" cy="4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85240" y="380880"/>
                <a:ext cx="4320" cy="304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2513880" y="848520"/>
                <a:ext cx="4903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2513880" y="1085040"/>
                <a:ext cx="4903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513880" y="2723760"/>
                <a:ext cx="4903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2513880" y="2956320"/>
                <a:ext cx="4903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963400" y="2956320"/>
                <a:ext cx="4928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963400" y="2723760"/>
                <a:ext cx="4928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963400" y="1085040"/>
                <a:ext cx="4928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963400" y="848520"/>
                <a:ext cx="49284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04200" y="1786320"/>
                <a:ext cx="493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92040" y="1786320"/>
                <a:ext cx="9835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69480" y="1786320"/>
                <a:ext cx="493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057840" y="1850400"/>
              <a:ext cx="1351800" cy="1523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54360" y="1850400"/>
              <a:ext cx="1360080" cy="1523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919440"/>
              <a:ext cx="613800" cy="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185520" y="919440"/>
              <a:ext cx="613440" cy="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98040" y="1796040"/>
              <a:ext cx="73656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94560" y="1796040"/>
              <a:ext cx="73656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738240" y="1850040"/>
              <a:ext cx="0" cy="59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234760" y="1796040"/>
              <a:ext cx="0" cy="598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86040" y="2122560"/>
              <a:ext cx="88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989800" y="1796040"/>
              <a:ext cx="54396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10400" y="1796040"/>
              <a:ext cx="475920" cy="2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4486320" y="1795680"/>
              <a:ext cx="544320" cy="2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38880" y="1796040"/>
              <a:ext cx="54396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04920" y="25146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lso find valv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108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93432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and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6477120" y="28191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4114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extra valves stop the blood from re-entering the heart when it is pumped from the ventr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3341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blood knocks against the first heart valves, it makes a ‘lub’ like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0880" y="609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blood knocks against the second set of heart valves, it makes a ‘dub’ like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228600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97180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429000" y="1752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29000" y="35812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422440" y="2286000"/>
            <a:ext cx="377640" cy="708480"/>
            <a:chOff x="2422440" y="2286000"/>
            <a:chExt cx="377640" cy="708480"/>
          </a:xfrm>
        </p:grpSpPr>
        <p:sp>
          <p:nvSpPr>
            <p:cNvPr id="358" name=""/>
            <p:cNvSpPr/>
            <p:nvPr/>
          </p:nvSpPr>
          <p:spPr>
            <a:xfrm>
              <a:off x="2514240" y="2286000"/>
              <a:ext cx="228600" cy="415800"/>
            </a:xfrm>
            <a:custGeom>
              <a:avLst/>
              <a:gdLst/>
              <a:ahLst/>
              <a:rect l="l" t="t" r="r" b="b"/>
              <a:pathLst>
                <a:path w="142" h="218">
                  <a:moveTo>
                    <a:pt x="142" y="0"/>
                  </a:moveTo>
                  <a:cubicBezTo>
                    <a:pt x="137" y="45"/>
                    <a:pt x="140" y="126"/>
                    <a:pt x="98" y="163"/>
                  </a:cubicBezTo>
                  <a:cubicBezTo>
                    <a:pt x="78" y="180"/>
                    <a:pt x="58" y="199"/>
                    <a:pt x="33" y="207"/>
                  </a:cubicBezTo>
                  <a:cubicBezTo>
                    <a:pt x="22" y="211"/>
                    <a:pt x="0" y="218"/>
                    <a:pt x="0" y="218"/>
                  </a:cubicBezTo>
                </a:path>
              </a:pathLst>
            </a:custGeom>
            <a:noFill/>
            <a:ln w="54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758000">
              <a:off x="2498400" y="2682360"/>
              <a:ext cx="225360" cy="345960"/>
            </a:xfrm>
            <a:custGeom>
              <a:avLst/>
              <a:gdLst/>
              <a:ahLst/>
              <a:rect l="l" t="t" r="r" b="b"/>
              <a:pathLst>
                <a:path w="142" h="218">
                  <a:moveTo>
                    <a:pt x="142" y="0"/>
                  </a:moveTo>
                  <a:cubicBezTo>
                    <a:pt x="137" y="45"/>
                    <a:pt x="140" y="126"/>
                    <a:pt x="98" y="163"/>
                  </a:cubicBezTo>
                  <a:cubicBezTo>
                    <a:pt x="78" y="180"/>
                    <a:pt x="58" y="199"/>
                    <a:pt x="33" y="207"/>
                  </a:cubicBezTo>
                  <a:cubicBezTo>
                    <a:pt x="22" y="211"/>
                    <a:pt x="0" y="218"/>
                    <a:pt x="0" y="218"/>
                  </a:cubicBezTo>
                </a:path>
              </a:pathLst>
            </a:custGeom>
            <a:noFill/>
            <a:ln w="54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80880" y="2292480"/>
            <a:ext cx="2252880" cy="661680"/>
          </a:xfrm>
          <a:custGeom>
            <a:avLst/>
            <a:gdLst/>
            <a:ahLst/>
            <a:rect l="l" t="t" r="r" b="b"/>
            <a:pathLst>
              <a:path w="1190" h="417">
                <a:moveTo>
                  <a:pt x="76" y="46"/>
                </a:moveTo>
                <a:cubicBezTo>
                  <a:pt x="213" y="0"/>
                  <a:pt x="365" y="59"/>
                  <a:pt x="502" y="13"/>
                </a:cubicBezTo>
                <a:cubicBezTo>
                  <a:pt x="505" y="14"/>
                  <a:pt x="578" y="26"/>
                  <a:pt x="589" y="35"/>
                </a:cubicBezTo>
                <a:cubicBezTo>
                  <a:pt x="658" y="90"/>
                  <a:pt x="554" y="54"/>
                  <a:pt x="655" y="79"/>
                </a:cubicBezTo>
                <a:cubicBezTo>
                  <a:pt x="741" y="64"/>
                  <a:pt x="701" y="75"/>
                  <a:pt x="786" y="46"/>
                </a:cubicBezTo>
                <a:cubicBezTo>
                  <a:pt x="797" y="42"/>
                  <a:pt x="818" y="35"/>
                  <a:pt x="818" y="35"/>
                </a:cubicBezTo>
                <a:cubicBezTo>
                  <a:pt x="858" y="39"/>
                  <a:pt x="898" y="39"/>
                  <a:pt x="938" y="46"/>
                </a:cubicBezTo>
                <a:cubicBezTo>
                  <a:pt x="961" y="50"/>
                  <a:pt x="1004" y="68"/>
                  <a:pt x="1004" y="68"/>
                </a:cubicBezTo>
                <a:cubicBezTo>
                  <a:pt x="1054" y="63"/>
                  <a:pt x="1128" y="40"/>
                  <a:pt x="1178" y="57"/>
                </a:cubicBezTo>
                <a:cubicBezTo>
                  <a:pt x="1182" y="68"/>
                  <a:pt x="1190" y="78"/>
                  <a:pt x="1189" y="90"/>
                </a:cubicBezTo>
                <a:cubicBezTo>
                  <a:pt x="1186" y="113"/>
                  <a:pt x="1174" y="133"/>
                  <a:pt x="1167" y="155"/>
                </a:cubicBezTo>
                <a:cubicBezTo>
                  <a:pt x="1148" y="212"/>
                  <a:pt x="1134" y="197"/>
                  <a:pt x="1069" y="210"/>
                </a:cubicBezTo>
                <a:cubicBezTo>
                  <a:pt x="1047" y="277"/>
                  <a:pt x="1075" y="288"/>
                  <a:pt x="1135" y="308"/>
                </a:cubicBezTo>
                <a:cubicBezTo>
                  <a:pt x="1151" y="333"/>
                  <a:pt x="1186" y="375"/>
                  <a:pt x="1156" y="406"/>
                </a:cubicBezTo>
                <a:cubicBezTo>
                  <a:pt x="1148" y="414"/>
                  <a:pt x="1135" y="413"/>
                  <a:pt x="1124" y="417"/>
                </a:cubicBezTo>
                <a:cubicBezTo>
                  <a:pt x="1077" y="401"/>
                  <a:pt x="1029" y="388"/>
                  <a:pt x="982" y="373"/>
                </a:cubicBezTo>
                <a:cubicBezTo>
                  <a:pt x="971" y="369"/>
                  <a:pt x="960" y="366"/>
                  <a:pt x="949" y="363"/>
                </a:cubicBezTo>
                <a:cubicBezTo>
                  <a:pt x="938" y="359"/>
                  <a:pt x="916" y="352"/>
                  <a:pt x="916" y="352"/>
                </a:cubicBezTo>
                <a:cubicBezTo>
                  <a:pt x="854" y="362"/>
                  <a:pt x="805" y="371"/>
                  <a:pt x="753" y="406"/>
                </a:cubicBezTo>
                <a:cubicBezTo>
                  <a:pt x="588" y="393"/>
                  <a:pt x="656" y="410"/>
                  <a:pt x="546" y="373"/>
                </a:cubicBezTo>
                <a:cubicBezTo>
                  <a:pt x="524" y="366"/>
                  <a:pt x="502" y="359"/>
                  <a:pt x="480" y="352"/>
                </a:cubicBezTo>
                <a:cubicBezTo>
                  <a:pt x="469" y="348"/>
                  <a:pt x="447" y="341"/>
                  <a:pt x="447" y="341"/>
                </a:cubicBezTo>
                <a:cubicBezTo>
                  <a:pt x="399" y="353"/>
                  <a:pt x="353" y="368"/>
                  <a:pt x="306" y="384"/>
                </a:cubicBezTo>
                <a:cubicBezTo>
                  <a:pt x="215" y="376"/>
                  <a:pt x="143" y="363"/>
                  <a:pt x="55" y="352"/>
                </a:cubicBezTo>
                <a:cubicBezTo>
                  <a:pt x="44" y="348"/>
                  <a:pt x="29" y="350"/>
                  <a:pt x="22" y="341"/>
                </a:cubicBezTo>
                <a:cubicBezTo>
                  <a:pt x="9" y="322"/>
                  <a:pt x="0" y="275"/>
                  <a:pt x="0" y="275"/>
                </a:cubicBezTo>
                <a:cubicBezTo>
                  <a:pt x="4" y="264"/>
                  <a:pt x="5" y="253"/>
                  <a:pt x="11" y="243"/>
                </a:cubicBezTo>
                <a:cubicBezTo>
                  <a:pt x="24" y="220"/>
                  <a:pt x="55" y="177"/>
                  <a:pt x="55" y="177"/>
                </a:cubicBezTo>
                <a:cubicBezTo>
                  <a:pt x="79" y="76"/>
                  <a:pt x="76" y="120"/>
                  <a:pt x="76" y="4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828800" y="2514600"/>
            <a:ext cx="380880" cy="228600"/>
            <a:chOff x="1828800" y="2514600"/>
            <a:chExt cx="380880" cy="228600"/>
          </a:xfrm>
        </p:grpSpPr>
        <p:sp>
          <p:nvSpPr>
            <p:cNvPr id="362" name=""/>
            <p:cNvSpPr/>
            <p:nvPr/>
          </p:nvSpPr>
          <p:spPr>
            <a:xfrm>
              <a:off x="1828800" y="25146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0968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828800" y="27432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 flipH="1">
            <a:off x="2666880" y="1447920"/>
            <a:ext cx="914400" cy="609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05120" y="3505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514600" y="3048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053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17524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198108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lood ‘slaps’ against the valve and then passes along the art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920" y="43434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two sounds – lub and dub – are actually what we hear as our heartbeat.  So our heartbeat is in fact the sound of the valves opening and clo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7543800" cy="947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following diagram shows the position and name of the main valves in the he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heart%20with%20valves%20labels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2388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04920" y="609480"/>
            <a:ext cx="7991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that we can name all of the parts of the heart it is time to see how they work to push blood around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eart pumps blood when its muscle contracts.  As the muscle contracts the chamber gets smaller and squeeze the blood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wo sides of the heart work together.  The atria contract and relax at the same time, as do the ventr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xt two slides describe what occurs inside the heart during one heart cyc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1314360" y="422640"/>
            <a:ext cx="2493720" cy="2929680"/>
            <a:chOff x="1314360" y="422640"/>
            <a:chExt cx="2493720" cy="2929680"/>
          </a:xfrm>
        </p:grpSpPr>
        <p:sp>
          <p:nvSpPr>
            <p:cNvPr id="376" name=""/>
            <p:cNvSpPr/>
            <p:nvPr/>
          </p:nvSpPr>
          <p:spPr>
            <a:xfrm>
              <a:off x="2993400" y="788760"/>
              <a:ext cx="682560" cy="887400"/>
            </a:xfrm>
            <a:custGeom>
              <a:avLst/>
              <a:gdLst/>
              <a:ahLst/>
              <a:rect l="l" t="t" r="r" b="b"/>
              <a:pathLst>
                <a:path w="602" h="781">
                  <a:moveTo>
                    <a:pt x="76" y="159"/>
                  </a:moveTo>
                  <a:cubicBezTo>
                    <a:pt x="0" y="185"/>
                    <a:pt x="18" y="159"/>
                    <a:pt x="0" y="214"/>
                  </a:cubicBezTo>
                  <a:cubicBezTo>
                    <a:pt x="4" y="258"/>
                    <a:pt x="4" y="302"/>
                    <a:pt x="11" y="345"/>
                  </a:cubicBezTo>
                  <a:cubicBezTo>
                    <a:pt x="24" y="422"/>
                    <a:pt x="62" y="512"/>
                    <a:pt x="87" y="585"/>
                  </a:cubicBezTo>
                  <a:cubicBezTo>
                    <a:pt x="95" y="608"/>
                    <a:pt x="101" y="633"/>
                    <a:pt x="120" y="650"/>
                  </a:cubicBezTo>
                  <a:cubicBezTo>
                    <a:pt x="140" y="667"/>
                    <a:pt x="185" y="694"/>
                    <a:pt x="185" y="694"/>
                  </a:cubicBezTo>
                  <a:cubicBezTo>
                    <a:pt x="199" y="735"/>
                    <a:pt x="227" y="745"/>
                    <a:pt x="251" y="781"/>
                  </a:cubicBezTo>
                  <a:cubicBezTo>
                    <a:pt x="276" y="777"/>
                    <a:pt x="303" y="777"/>
                    <a:pt x="327" y="770"/>
                  </a:cubicBezTo>
                  <a:cubicBezTo>
                    <a:pt x="397" y="749"/>
                    <a:pt x="420" y="640"/>
                    <a:pt x="458" y="585"/>
                  </a:cubicBezTo>
                  <a:cubicBezTo>
                    <a:pt x="479" y="521"/>
                    <a:pt x="453" y="579"/>
                    <a:pt x="501" y="530"/>
                  </a:cubicBezTo>
                  <a:cubicBezTo>
                    <a:pt x="570" y="459"/>
                    <a:pt x="472" y="531"/>
                    <a:pt x="556" y="475"/>
                  </a:cubicBezTo>
                  <a:cubicBezTo>
                    <a:pt x="602" y="408"/>
                    <a:pt x="593" y="303"/>
                    <a:pt x="600" y="225"/>
                  </a:cubicBezTo>
                  <a:cubicBezTo>
                    <a:pt x="586" y="155"/>
                    <a:pt x="600" y="87"/>
                    <a:pt x="523" y="61"/>
                  </a:cubicBezTo>
                  <a:cubicBezTo>
                    <a:pt x="434" y="0"/>
                    <a:pt x="400" y="31"/>
                    <a:pt x="261" y="39"/>
                  </a:cubicBezTo>
                  <a:cubicBezTo>
                    <a:pt x="239" y="46"/>
                    <a:pt x="218" y="54"/>
                    <a:pt x="196" y="61"/>
                  </a:cubicBezTo>
                  <a:cubicBezTo>
                    <a:pt x="185" y="65"/>
                    <a:pt x="163" y="72"/>
                    <a:pt x="163" y="72"/>
                  </a:cubicBezTo>
                  <a:cubicBezTo>
                    <a:pt x="141" y="86"/>
                    <a:pt x="120" y="101"/>
                    <a:pt x="98" y="115"/>
                  </a:cubicBezTo>
                  <a:cubicBezTo>
                    <a:pt x="58" y="141"/>
                    <a:pt x="59" y="125"/>
                    <a:pt x="76" y="159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09120" y="1017000"/>
              <a:ext cx="580320" cy="792720"/>
            </a:xfrm>
            <a:custGeom>
              <a:avLst/>
              <a:gdLst/>
              <a:ahLst/>
              <a:rect l="l" t="t" r="r" b="b"/>
              <a:pathLst>
                <a:path w="512" h="653">
                  <a:moveTo>
                    <a:pt x="0" y="227"/>
                  </a:moveTo>
                  <a:cubicBezTo>
                    <a:pt x="11" y="314"/>
                    <a:pt x="21" y="405"/>
                    <a:pt x="98" y="456"/>
                  </a:cubicBezTo>
                  <a:cubicBezTo>
                    <a:pt x="105" y="467"/>
                    <a:pt x="110" y="479"/>
                    <a:pt x="120" y="488"/>
                  </a:cubicBezTo>
                  <a:cubicBezTo>
                    <a:pt x="140" y="505"/>
                    <a:pt x="185" y="532"/>
                    <a:pt x="185" y="532"/>
                  </a:cubicBezTo>
                  <a:cubicBezTo>
                    <a:pt x="248" y="626"/>
                    <a:pt x="164" y="516"/>
                    <a:pt x="240" y="576"/>
                  </a:cubicBezTo>
                  <a:cubicBezTo>
                    <a:pt x="250" y="584"/>
                    <a:pt x="252" y="599"/>
                    <a:pt x="261" y="608"/>
                  </a:cubicBezTo>
                  <a:cubicBezTo>
                    <a:pt x="270" y="617"/>
                    <a:pt x="283" y="623"/>
                    <a:pt x="294" y="630"/>
                  </a:cubicBezTo>
                  <a:cubicBezTo>
                    <a:pt x="466" y="601"/>
                    <a:pt x="254" y="653"/>
                    <a:pt x="403" y="554"/>
                  </a:cubicBezTo>
                  <a:cubicBezTo>
                    <a:pt x="425" y="539"/>
                    <a:pt x="469" y="510"/>
                    <a:pt x="469" y="510"/>
                  </a:cubicBezTo>
                  <a:cubicBezTo>
                    <a:pt x="493" y="473"/>
                    <a:pt x="501" y="444"/>
                    <a:pt x="512" y="401"/>
                  </a:cubicBezTo>
                  <a:cubicBezTo>
                    <a:pt x="499" y="282"/>
                    <a:pt x="470" y="205"/>
                    <a:pt x="403" y="107"/>
                  </a:cubicBezTo>
                  <a:cubicBezTo>
                    <a:pt x="391" y="89"/>
                    <a:pt x="295" y="49"/>
                    <a:pt x="272" y="41"/>
                  </a:cubicBezTo>
                  <a:cubicBezTo>
                    <a:pt x="219" y="4"/>
                    <a:pt x="227" y="0"/>
                    <a:pt x="130" y="30"/>
                  </a:cubicBezTo>
                  <a:cubicBezTo>
                    <a:pt x="105" y="38"/>
                    <a:pt x="65" y="74"/>
                    <a:pt x="65" y="74"/>
                  </a:cubicBezTo>
                  <a:cubicBezTo>
                    <a:pt x="31" y="124"/>
                    <a:pt x="0" y="164"/>
                    <a:pt x="0" y="227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7920" y="700200"/>
              <a:ext cx="2286000" cy="2652120"/>
            </a:xfrm>
            <a:custGeom>
              <a:avLst/>
              <a:gdLst/>
              <a:ahLst/>
              <a:rect l="l" t="t" r="r" b="b"/>
              <a:pathLst>
                <a:path w="2381" h="2184">
                  <a:moveTo>
                    <a:pt x="36" y="417"/>
                  </a:moveTo>
                  <a:cubicBezTo>
                    <a:pt x="17" y="472"/>
                    <a:pt x="10" y="521"/>
                    <a:pt x="3" y="580"/>
                  </a:cubicBezTo>
                  <a:cubicBezTo>
                    <a:pt x="10" y="656"/>
                    <a:pt x="0" y="752"/>
                    <a:pt x="68" y="799"/>
                  </a:cubicBezTo>
                  <a:cubicBezTo>
                    <a:pt x="83" y="821"/>
                    <a:pt x="97" y="842"/>
                    <a:pt x="112" y="864"/>
                  </a:cubicBezTo>
                  <a:cubicBezTo>
                    <a:pt x="119" y="875"/>
                    <a:pt x="134" y="897"/>
                    <a:pt x="134" y="897"/>
                  </a:cubicBezTo>
                  <a:cubicBezTo>
                    <a:pt x="158" y="1089"/>
                    <a:pt x="213" y="1290"/>
                    <a:pt x="297" y="1464"/>
                  </a:cubicBezTo>
                  <a:cubicBezTo>
                    <a:pt x="336" y="1545"/>
                    <a:pt x="373" y="1631"/>
                    <a:pt x="450" y="1682"/>
                  </a:cubicBezTo>
                  <a:cubicBezTo>
                    <a:pt x="501" y="1759"/>
                    <a:pt x="472" y="1734"/>
                    <a:pt x="527" y="1769"/>
                  </a:cubicBezTo>
                  <a:cubicBezTo>
                    <a:pt x="551" y="1849"/>
                    <a:pt x="515" y="1756"/>
                    <a:pt x="570" y="1824"/>
                  </a:cubicBezTo>
                  <a:cubicBezTo>
                    <a:pt x="631" y="1900"/>
                    <a:pt x="519" y="1816"/>
                    <a:pt x="614" y="1879"/>
                  </a:cubicBezTo>
                  <a:cubicBezTo>
                    <a:pt x="636" y="1942"/>
                    <a:pt x="608" y="1884"/>
                    <a:pt x="657" y="1933"/>
                  </a:cubicBezTo>
                  <a:cubicBezTo>
                    <a:pt x="666" y="1942"/>
                    <a:pt x="669" y="1957"/>
                    <a:pt x="679" y="1966"/>
                  </a:cubicBezTo>
                  <a:cubicBezTo>
                    <a:pt x="797" y="2068"/>
                    <a:pt x="702" y="1978"/>
                    <a:pt x="777" y="2020"/>
                  </a:cubicBezTo>
                  <a:cubicBezTo>
                    <a:pt x="800" y="2033"/>
                    <a:pt x="824" y="2045"/>
                    <a:pt x="843" y="2064"/>
                  </a:cubicBezTo>
                  <a:cubicBezTo>
                    <a:pt x="854" y="2075"/>
                    <a:pt x="862" y="2089"/>
                    <a:pt x="876" y="2097"/>
                  </a:cubicBezTo>
                  <a:cubicBezTo>
                    <a:pt x="896" y="2108"/>
                    <a:pt x="919" y="2112"/>
                    <a:pt x="941" y="2119"/>
                  </a:cubicBezTo>
                  <a:cubicBezTo>
                    <a:pt x="974" y="2130"/>
                    <a:pt x="1006" y="2140"/>
                    <a:pt x="1039" y="2151"/>
                  </a:cubicBezTo>
                  <a:cubicBezTo>
                    <a:pt x="1050" y="2155"/>
                    <a:pt x="1061" y="2158"/>
                    <a:pt x="1072" y="2162"/>
                  </a:cubicBezTo>
                  <a:cubicBezTo>
                    <a:pt x="1083" y="2166"/>
                    <a:pt x="1105" y="2173"/>
                    <a:pt x="1105" y="2173"/>
                  </a:cubicBezTo>
                  <a:cubicBezTo>
                    <a:pt x="1174" y="2169"/>
                    <a:pt x="1251" y="2184"/>
                    <a:pt x="1312" y="2151"/>
                  </a:cubicBezTo>
                  <a:cubicBezTo>
                    <a:pt x="1315" y="2149"/>
                    <a:pt x="1392" y="2098"/>
                    <a:pt x="1410" y="2086"/>
                  </a:cubicBezTo>
                  <a:cubicBezTo>
                    <a:pt x="1421" y="2079"/>
                    <a:pt x="1443" y="2064"/>
                    <a:pt x="1443" y="2064"/>
                  </a:cubicBezTo>
                  <a:cubicBezTo>
                    <a:pt x="1450" y="2053"/>
                    <a:pt x="1456" y="2040"/>
                    <a:pt x="1465" y="2031"/>
                  </a:cubicBezTo>
                  <a:cubicBezTo>
                    <a:pt x="1474" y="2022"/>
                    <a:pt x="1490" y="2020"/>
                    <a:pt x="1497" y="2009"/>
                  </a:cubicBezTo>
                  <a:cubicBezTo>
                    <a:pt x="1519" y="1973"/>
                    <a:pt x="1509" y="1939"/>
                    <a:pt x="1541" y="1911"/>
                  </a:cubicBezTo>
                  <a:cubicBezTo>
                    <a:pt x="1561" y="1894"/>
                    <a:pt x="1607" y="1868"/>
                    <a:pt x="1607" y="1868"/>
                  </a:cubicBezTo>
                  <a:cubicBezTo>
                    <a:pt x="1655" y="1794"/>
                    <a:pt x="1702" y="1719"/>
                    <a:pt x="1737" y="1639"/>
                  </a:cubicBezTo>
                  <a:cubicBezTo>
                    <a:pt x="1774" y="1554"/>
                    <a:pt x="1774" y="1442"/>
                    <a:pt x="1857" y="1388"/>
                  </a:cubicBezTo>
                  <a:cubicBezTo>
                    <a:pt x="1881" y="1315"/>
                    <a:pt x="1848" y="1393"/>
                    <a:pt x="1901" y="1333"/>
                  </a:cubicBezTo>
                  <a:cubicBezTo>
                    <a:pt x="1928" y="1302"/>
                    <a:pt x="1952" y="1268"/>
                    <a:pt x="1977" y="1235"/>
                  </a:cubicBezTo>
                  <a:cubicBezTo>
                    <a:pt x="1993" y="1214"/>
                    <a:pt x="2006" y="1191"/>
                    <a:pt x="2021" y="1169"/>
                  </a:cubicBezTo>
                  <a:cubicBezTo>
                    <a:pt x="2028" y="1158"/>
                    <a:pt x="2043" y="1137"/>
                    <a:pt x="2043" y="1137"/>
                  </a:cubicBezTo>
                  <a:cubicBezTo>
                    <a:pt x="2069" y="1059"/>
                    <a:pt x="2052" y="1090"/>
                    <a:pt x="2087" y="1039"/>
                  </a:cubicBezTo>
                  <a:cubicBezTo>
                    <a:pt x="2118" y="938"/>
                    <a:pt x="2071" y="1079"/>
                    <a:pt x="2119" y="973"/>
                  </a:cubicBezTo>
                  <a:cubicBezTo>
                    <a:pt x="2128" y="952"/>
                    <a:pt x="2141" y="908"/>
                    <a:pt x="2141" y="908"/>
                  </a:cubicBezTo>
                  <a:cubicBezTo>
                    <a:pt x="2145" y="875"/>
                    <a:pt x="2136" y="838"/>
                    <a:pt x="2152" y="809"/>
                  </a:cubicBezTo>
                  <a:cubicBezTo>
                    <a:pt x="2164" y="786"/>
                    <a:pt x="2217" y="766"/>
                    <a:pt x="2217" y="766"/>
                  </a:cubicBezTo>
                  <a:cubicBezTo>
                    <a:pt x="2232" y="744"/>
                    <a:pt x="2246" y="722"/>
                    <a:pt x="2261" y="700"/>
                  </a:cubicBezTo>
                  <a:cubicBezTo>
                    <a:pt x="2268" y="689"/>
                    <a:pt x="2283" y="668"/>
                    <a:pt x="2283" y="668"/>
                  </a:cubicBezTo>
                  <a:cubicBezTo>
                    <a:pt x="2309" y="589"/>
                    <a:pt x="2292" y="621"/>
                    <a:pt x="2327" y="569"/>
                  </a:cubicBezTo>
                  <a:cubicBezTo>
                    <a:pt x="2340" y="529"/>
                    <a:pt x="2347" y="507"/>
                    <a:pt x="2359" y="471"/>
                  </a:cubicBezTo>
                  <a:cubicBezTo>
                    <a:pt x="2363" y="460"/>
                    <a:pt x="2366" y="450"/>
                    <a:pt x="2370" y="439"/>
                  </a:cubicBezTo>
                  <a:cubicBezTo>
                    <a:pt x="2374" y="428"/>
                    <a:pt x="2381" y="406"/>
                    <a:pt x="2381" y="406"/>
                  </a:cubicBezTo>
                  <a:cubicBezTo>
                    <a:pt x="2368" y="306"/>
                    <a:pt x="2337" y="197"/>
                    <a:pt x="2305" y="100"/>
                  </a:cubicBezTo>
                  <a:cubicBezTo>
                    <a:pt x="2219" y="228"/>
                    <a:pt x="2334" y="351"/>
                    <a:pt x="2185" y="449"/>
                  </a:cubicBezTo>
                  <a:cubicBezTo>
                    <a:pt x="2126" y="537"/>
                    <a:pt x="2203" y="431"/>
                    <a:pt x="2130" y="504"/>
                  </a:cubicBezTo>
                  <a:cubicBezTo>
                    <a:pt x="2080" y="554"/>
                    <a:pt x="2139" y="526"/>
                    <a:pt x="2076" y="548"/>
                  </a:cubicBezTo>
                  <a:cubicBezTo>
                    <a:pt x="2025" y="624"/>
                    <a:pt x="2054" y="598"/>
                    <a:pt x="1999" y="635"/>
                  </a:cubicBezTo>
                  <a:cubicBezTo>
                    <a:pt x="1975" y="706"/>
                    <a:pt x="1921" y="769"/>
                    <a:pt x="1879" y="831"/>
                  </a:cubicBezTo>
                  <a:cubicBezTo>
                    <a:pt x="1872" y="841"/>
                    <a:pt x="1902" y="825"/>
                    <a:pt x="1912" y="820"/>
                  </a:cubicBezTo>
                  <a:cubicBezTo>
                    <a:pt x="1924" y="814"/>
                    <a:pt x="1934" y="806"/>
                    <a:pt x="1945" y="799"/>
                  </a:cubicBezTo>
                  <a:cubicBezTo>
                    <a:pt x="1974" y="802"/>
                    <a:pt x="2005" y="797"/>
                    <a:pt x="2032" y="809"/>
                  </a:cubicBezTo>
                  <a:cubicBezTo>
                    <a:pt x="2052" y="818"/>
                    <a:pt x="2041" y="866"/>
                    <a:pt x="2032" y="875"/>
                  </a:cubicBezTo>
                  <a:cubicBezTo>
                    <a:pt x="2024" y="883"/>
                    <a:pt x="2010" y="882"/>
                    <a:pt x="1999" y="886"/>
                  </a:cubicBezTo>
                  <a:cubicBezTo>
                    <a:pt x="1962" y="941"/>
                    <a:pt x="1902" y="958"/>
                    <a:pt x="1847" y="995"/>
                  </a:cubicBezTo>
                  <a:cubicBezTo>
                    <a:pt x="1836" y="1002"/>
                    <a:pt x="1825" y="1010"/>
                    <a:pt x="1814" y="1017"/>
                  </a:cubicBezTo>
                  <a:cubicBezTo>
                    <a:pt x="1803" y="1024"/>
                    <a:pt x="1781" y="1039"/>
                    <a:pt x="1781" y="1039"/>
                  </a:cubicBezTo>
                  <a:cubicBezTo>
                    <a:pt x="1774" y="1050"/>
                    <a:pt x="1768" y="1062"/>
                    <a:pt x="1759" y="1071"/>
                  </a:cubicBezTo>
                  <a:cubicBezTo>
                    <a:pt x="1750" y="1080"/>
                    <a:pt x="1735" y="1083"/>
                    <a:pt x="1727" y="1093"/>
                  </a:cubicBezTo>
                  <a:cubicBezTo>
                    <a:pt x="1720" y="1102"/>
                    <a:pt x="1721" y="1116"/>
                    <a:pt x="1716" y="1126"/>
                  </a:cubicBezTo>
                  <a:cubicBezTo>
                    <a:pt x="1687" y="1183"/>
                    <a:pt x="1661" y="1242"/>
                    <a:pt x="1607" y="1279"/>
                  </a:cubicBezTo>
                  <a:cubicBezTo>
                    <a:pt x="1589" y="1306"/>
                    <a:pt x="1561" y="1347"/>
                    <a:pt x="1541" y="1377"/>
                  </a:cubicBezTo>
                  <a:cubicBezTo>
                    <a:pt x="1534" y="1388"/>
                    <a:pt x="1519" y="1409"/>
                    <a:pt x="1519" y="1409"/>
                  </a:cubicBezTo>
                  <a:cubicBezTo>
                    <a:pt x="1480" y="1526"/>
                    <a:pt x="1541" y="1352"/>
                    <a:pt x="1487" y="1475"/>
                  </a:cubicBezTo>
                  <a:cubicBezTo>
                    <a:pt x="1454" y="1549"/>
                    <a:pt x="1451" y="1613"/>
                    <a:pt x="1377" y="1660"/>
                  </a:cubicBezTo>
                  <a:cubicBezTo>
                    <a:pt x="1358" y="1723"/>
                    <a:pt x="1383" y="1666"/>
                    <a:pt x="1334" y="1715"/>
                  </a:cubicBezTo>
                  <a:cubicBezTo>
                    <a:pt x="1325" y="1724"/>
                    <a:pt x="1323" y="1741"/>
                    <a:pt x="1312" y="1748"/>
                  </a:cubicBezTo>
                  <a:cubicBezTo>
                    <a:pt x="1293" y="1760"/>
                    <a:pt x="1247" y="1769"/>
                    <a:pt x="1247" y="1769"/>
                  </a:cubicBezTo>
                  <a:cubicBezTo>
                    <a:pt x="1236" y="1766"/>
                    <a:pt x="1222" y="1767"/>
                    <a:pt x="1214" y="1759"/>
                  </a:cubicBezTo>
                  <a:cubicBezTo>
                    <a:pt x="1206" y="1751"/>
                    <a:pt x="1204" y="1738"/>
                    <a:pt x="1203" y="1726"/>
                  </a:cubicBezTo>
                  <a:cubicBezTo>
                    <a:pt x="1196" y="1624"/>
                    <a:pt x="1201" y="1522"/>
                    <a:pt x="1192" y="1420"/>
                  </a:cubicBezTo>
                  <a:cubicBezTo>
                    <a:pt x="1186" y="1353"/>
                    <a:pt x="1142" y="1280"/>
                    <a:pt x="1127" y="1213"/>
                  </a:cubicBezTo>
                  <a:cubicBezTo>
                    <a:pt x="1142" y="1064"/>
                    <a:pt x="1165" y="915"/>
                    <a:pt x="1181" y="766"/>
                  </a:cubicBezTo>
                  <a:cubicBezTo>
                    <a:pt x="1203" y="553"/>
                    <a:pt x="1183" y="629"/>
                    <a:pt x="1225" y="504"/>
                  </a:cubicBezTo>
                  <a:cubicBezTo>
                    <a:pt x="1233" y="479"/>
                    <a:pt x="1290" y="460"/>
                    <a:pt x="1290" y="460"/>
                  </a:cubicBezTo>
                  <a:cubicBezTo>
                    <a:pt x="1243" y="444"/>
                    <a:pt x="1239" y="465"/>
                    <a:pt x="1192" y="449"/>
                  </a:cubicBezTo>
                  <a:cubicBezTo>
                    <a:pt x="1156" y="308"/>
                    <a:pt x="1234" y="147"/>
                    <a:pt x="1279" y="13"/>
                  </a:cubicBezTo>
                  <a:cubicBezTo>
                    <a:pt x="1283" y="0"/>
                    <a:pt x="1264" y="35"/>
                    <a:pt x="1257" y="46"/>
                  </a:cubicBezTo>
                  <a:cubicBezTo>
                    <a:pt x="1242" y="96"/>
                    <a:pt x="1210" y="134"/>
                    <a:pt x="1181" y="177"/>
                  </a:cubicBezTo>
                  <a:cubicBezTo>
                    <a:pt x="1174" y="188"/>
                    <a:pt x="1166" y="198"/>
                    <a:pt x="1159" y="209"/>
                  </a:cubicBezTo>
                  <a:cubicBezTo>
                    <a:pt x="1152" y="220"/>
                    <a:pt x="1137" y="242"/>
                    <a:pt x="1137" y="242"/>
                  </a:cubicBezTo>
                  <a:cubicBezTo>
                    <a:pt x="1123" y="289"/>
                    <a:pt x="1099" y="326"/>
                    <a:pt x="1083" y="373"/>
                  </a:cubicBezTo>
                  <a:cubicBezTo>
                    <a:pt x="1079" y="384"/>
                    <a:pt x="1076" y="395"/>
                    <a:pt x="1072" y="406"/>
                  </a:cubicBezTo>
                  <a:cubicBezTo>
                    <a:pt x="1068" y="417"/>
                    <a:pt x="1061" y="439"/>
                    <a:pt x="1061" y="439"/>
                  </a:cubicBezTo>
                  <a:cubicBezTo>
                    <a:pt x="1052" y="323"/>
                    <a:pt x="1042" y="150"/>
                    <a:pt x="930" y="79"/>
                  </a:cubicBezTo>
                  <a:cubicBezTo>
                    <a:pt x="926" y="66"/>
                    <a:pt x="917" y="16"/>
                    <a:pt x="887" y="24"/>
                  </a:cubicBezTo>
                  <a:cubicBezTo>
                    <a:pt x="876" y="27"/>
                    <a:pt x="880" y="46"/>
                    <a:pt x="876" y="57"/>
                  </a:cubicBezTo>
                  <a:cubicBezTo>
                    <a:pt x="880" y="68"/>
                    <a:pt x="882" y="79"/>
                    <a:pt x="887" y="89"/>
                  </a:cubicBezTo>
                  <a:cubicBezTo>
                    <a:pt x="893" y="101"/>
                    <a:pt x="903" y="110"/>
                    <a:pt x="908" y="122"/>
                  </a:cubicBezTo>
                  <a:cubicBezTo>
                    <a:pt x="932" y="177"/>
                    <a:pt x="926" y="181"/>
                    <a:pt x="941" y="231"/>
                  </a:cubicBezTo>
                  <a:cubicBezTo>
                    <a:pt x="964" y="308"/>
                    <a:pt x="993" y="383"/>
                    <a:pt x="1017" y="460"/>
                  </a:cubicBezTo>
                  <a:cubicBezTo>
                    <a:pt x="1018" y="463"/>
                    <a:pt x="945" y="440"/>
                    <a:pt x="941" y="439"/>
                  </a:cubicBezTo>
                  <a:cubicBezTo>
                    <a:pt x="930" y="442"/>
                    <a:pt x="908" y="438"/>
                    <a:pt x="908" y="449"/>
                  </a:cubicBezTo>
                  <a:cubicBezTo>
                    <a:pt x="908" y="462"/>
                    <a:pt x="932" y="461"/>
                    <a:pt x="941" y="471"/>
                  </a:cubicBezTo>
                  <a:cubicBezTo>
                    <a:pt x="980" y="515"/>
                    <a:pt x="1020" y="578"/>
                    <a:pt x="1039" y="635"/>
                  </a:cubicBezTo>
                  <a:cubicBezTo>
                    <a:pt x="1029" y="701"/>
                    <a:pt x="1016" y="765"/>
                    <a:pt x="1007" y="831"/>
                  </a:cubicBezTo>
                  <a:cubicBezTo>
                    <a:pt x="1010" y="955"/>
                    <a:pt x="1011" y="1078"/>
                    <a:pt x="1017" y="1202"/>
                  </a:cubicBezTo>
                  <a:cubicBezTo>
                    <a:pt x="1018" y="1216"/>
                    <a:pt x="1034" y="1283"/>
                    <a:pt x="1039" y="1300"/>
                  </a:cubicBezTo>
                  <a:cubicBezTo>
                    <a:pt x="1046" y="1322"/>
                    <a:pt x="1054" y="1344"/>
                    <a:pt x="1061" y="1366"/>
                  </a:cubicBezTo>
                  <a:cubicBezTo>
                    <a:pt x="1065" y="1377"/>
                    <a:pt x="1072" y="1399"/>
                    <a:pt x="1072" y="1399"/>
                  </a:cubicBezTo>
                  <a:cubicBezTo>
                    <a:pt x="1064" y="1606"/>
                    <a:pt x="1135" y="1656"/>
                    <a:pt x="996" y="1704"/>
                  </a:cubicBezTo>
                  <a:cubicBezTo>
                    <a:pt x="956" y="1696"/>
                    <a:pt x="902" y="1691"/>
                    <a:pt x="865" y="1671"/>
                  </a:cubicBezTo>
                  <a:cubicBezTo>
                    <a:pt x="842" y="1658"/>
                    <a:pt x="799" y="1628"/>
                    <a:pt x="799" y="1628"/>
                  </a:cubicBezTo>
                  <a:cubicBezTo>
                    <a:pt x="795" y="1621"/>
                    <a:pt x="727" y="1507"/>
                    <a:pt x="712" y="1497"/>
                  </a:cubicBezTo>
                  <a:cubicBezTo>
                    <a:pt x="690" y="1482"/>
                    <a:pt x="672" y="1461"/>
                    <a:pt x="647" y="1453"/>
                  </a:cubicBezTo>
                  <a:cubicBezTo>
                    <a:pt x="636" y="1449"/>
                    <a:pt x="624" y="1447"/>
                    <a:pt x="614" y="1442"/>
                  </a:cubicBezTo>
                  <a:cubicBezTo>
                    <a:pt x="592" y="1431"/>
                    <a:pt x="570" y="1421"/>
                    <a:pt x="548" y="1409"/>
                  </a:cubicBezTo>
                  <a:cubicBezTo>
                    <a:pt x="525" y="1396"/>
                    <a:pt x="483" y="1366"/>
                    <a:pt x="483" y="1366"/>
                  </a:cubicBezTo>
                  <a:cubicBezTo>
                    <a:pt x="476" y="1355"/>
                    <a:pt x="469" y="1343"/>
                    <a:pt x="461" y="1333"/>
                  </a:cubicBezTo>
                  <a:cubicBezTo>
                    <a:pt x="451" y="1321"/>
                    <a:pt x="437" y="1313"/>
                    <a:pt x="428" y="1300"/>
                  </a:cubicBezTo>
                  <a:cubicBezTo>
                    <a:pt x="422" y="1291"/>
                    <a:pt x="422" y="1278"/>
                    <a:pt x="417" y="1268"/>
                  </a:cubicBezTo>
                  <a:cubicBezTo>
                    <a:pt x="386" y="1211"/>
                    <a:pt x="344" y="1159"/>
                    <a:pt x="308" y="1104"/>
                  </a:cubicBezTo>
                  <a:cubicBezTo>
                    <a:pt x="276" y="1054"/>
                    <a:pt x="289" y="1079"/>
                    <a:pt x="265" y="1006"/>
                  </a:cubicBezTo>
                  <a:cubicBezTo>
                    <a:pt x="261" y="995"/>
                    <a:pt x="254" y="973"/>
                    <a:pt x="254" y="973"/>
                  </a:cubicBezTo>
                  <a:cubicBezTo>
                    <a:pt x="265" y="884"/>
                    <a:pt x="249" y="852"/>
                    <a:pt x="341" y="875"/>
                  </a:cubicBezTo>
                  <a:cubicBezTo>
                    <a:pt x="352" y="882"/>
                    <a:pt x="365" y="888"/>
                    <a:pt x="374" y="897"/>
                  </a:cubicBezTo>
                  <a:cubicBezTo>
                    <a:pt x="383" y="906"/>
                    <a:pt x="396" y="942"/>
                    <a:pt x="396" y="929"/>
                  </a:cubicBezTo>
                  <a:cubicBezTo>
                    <a:pt x="396" y="906"/>
                    <a:pt x="381" y="886"/>
                    <a:pt x="374" y="864"/>
                  </a:cubicBezTo>
                  <a:cubicBezTo>
                    <a:pt x="356" y="810"/>
                    <a:pt x="357" y="775"/>
                    <a:pt x="297" y="755"/>
                  </a:cubicBezTo>
                  <a:cubicBezTo>
                    <a:pt x="275" y="740"/>
                    <a:pt x="254" y="726"/>
                    <a:pt x="232" y="711"/>
                  </a:cubicBezTo>
                  <a:cubicBezTo>
                    <a:pt x="221" y="704"/>
                    <a:pt x="199" y="689"/>
                    <a:pt x="199" y="689"/>
                  </a:cubicBezTo>
                  <a:cubicBezTo>
                    <a:pt x="171" y="607"/>
                    <a:pt x="212" y="707"/>
                    <a:pt x="156" y="635"/>
                  </a:cubicBezTo>
                  <a:cubicBezTo>
                    <a:pt x="149" y="626"/>
                    <a:pt x="150" y="612"/>
                    <a:pt x="145" y="602"/>
                  </a:cubicBezTo>
                  <a:cubicBezTo>
                    <a:pt x="139" y="590"/>
                    <a:pt x="128" y="581"/>
                    <a:pt x="123" y="569"/>
                  </a:cubicBezTo>
                  <a:cubicBezTo>
                    <a:pt x="114" y="548"/>
                    <a:pt x="101" y="504"/>
                    <a:pt x="101" y="504"/>
                  </a:cubicBezTo>
                  <a:cubicBezTo>
                    <a:pt x="97" y="460"/>
                    <a:pt x="100" y="416"/>
                    <a:pt x="90" y="373"/>
                  </a:cubicBezTo>
                  <a:cubicBezTo>
                    <a:pt x="87" y="362"/>
                    <a:pt x="86" y="397"/>
                    <a:pt x="79" y="406"/>
                  </a:cubicBezTo>
                  <a:cubicBezTo>
                    <a:pt x="52" y="440"/>
                    <a:pt x="52" y="433"/>
                    <a:pt x="36" y="41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06040" y="802080"/>
              <a:ext cx="531720" cy="1024920"/>
            </a:xfrm>
            <a:custGeom>
              <a:avLst/>
              <a:gdLst/>
              <a:ahLst/>
              <a:rect l="l" t="t" r="r" b="b"/>
              <a:pathLst>
                <a:path w="469" h="844">
                  <a:moveTo>
                    <a:pt x="0" y="174"/>
                  </a:moveTo>
                  <a:cubicBezTo>
                    <a:pt x="77" y="200"/>
                    <a:pt x="44" y="188"/>
                    <a:pt x="98" y="207"/>
                  </a:cubicBezTo>
                  <a:cubicBezTo>
                    <a:pt x="123" y="216"/>
                    <a:pt x="142" y="236"/>
                    <a:pt x="164" y="251"/>
                  </a:cubicBezTo>
                  <a:cubicBezTo>
                    <a:pt x="175" y="258"/>
                    <a:pt x="196" y="273"/>
                    <a:pt x="196" y="273"/>
                  </a:cubicBezTo>
                  <a:cubicBezTo>
                    <a:pt x="200" y="284"/>
                    <a:pt x="202" y="295"/>
                    <a:pt x="207" y="305"/>
                  </a:cubicBezTo>
                  <a:cubicBezTo>
                    <a:pt x="213" y="317"/>
                    <a:pt x="224" y="326"/>
                    <a:pt x="229" y="338"/>
                  </a:cubicBezTo>
                  <a:cubicBezTo>
                    <a:pt x="238" y="359"/>
                    <a:pt x="251" y="404"/>
                    <a:pt x="251" y="404"/>
                  </a:cubicBezTo>
                  <a:cubicBezTo>
                    <a:pt x="264" y="509"/>
                    <a:pt x="260" y="643"/>
                    <a:pt x="164" y="709"/>
                  </a:cubicBezTo>
                  <a:cubicBezTo>
                    <a:pt x="146" y="764"/>
                    <a:pt x="127" y="742"/>
                    <a:pt x="109" y="796"/>
                  </a:cubicBezTo>
                  <a:cubicBezTo>
                    <a:pt x="113" y="807"/>
                    <a:pt x="110" y="824"/>
                    <a:pt x="120" y="829"/>
                  </a:cubicBezTo>
                  <a:cubicBezTo>
                    <a:pt x="150" y="844"/>
                    <a:pt x="165" y="793"/>
                    <a:pt x="175" y="785"/>
                  </a:cubicBezTo>
                  <a:cubicBezTo>
                    <a:pt x="194" y="770"/>
                    <a:pt x="220" y="766"/>
                    <a:pt x="240" y="753"/>
                  </a:cubicBezTo>
                  <a:cubicBezTo>
                    <a:pt x="247" y="742"/>
                    <a:pt x="253" y="729"/>
                    <a:pt x="262" y="720"/>
                  </a:cubicBezTo>
                  <a:cubicBezTo>
                    <a:pt x="271" y="711"/>
                    <a:pt x="287" y="708"/>
                    <a:pt x="295" y="698"/>
                  </a:cubicBezTo>
                  <a:cubicBezTo>
                    <a:pt x="302" y="689"/>
                    <a:pt x="301" y="675"/>
                    <a:pt x="306" y="665"/>
                  </a:cubicBezTo>
                  <a:cubicBezTo>
                    <a:pt x="312" y="654"/>
                    <a:pt x="322" y="645"/>
                    <a:pt x="327" y="633"/>
                  </a:cubicBezTo>
                  <a:cubicBezTo>
                    <a:pt x="349" y="582"/>
                    <a:pt x="352" y="546"/>
                    <a:pt x="382" y="502"/>
                  </a:cubicBezTo>
                  <a:cubicBezTo>
                    <a:pt x="397" y="506"/>
                    <a:pt x="412" y="507"/>
                    <a:pt x="426" y="513"/>
                  </a:cubicBezTo>
                  <a:cubicBezTo>
                    <a:pt x="438" y="518"/>
                    <a:pt x="446" y="537"/>
                    <a:pt x="458" y="534"/>
                  </a:cubicBezTo>
                  <a:cubicBezTo>
                    <a:pt x="469" y="531"/>
                    <a:pt x="465" y="513"/>
                    <a:pt x="469" y="502"/>
                  </a:cubicBezTo>
                  <a:cubicBezTo>
                    <a:pt x="453" y="455"/>
                    <a:pt x="431" y="419"/>
                    <a:pt x="415" y="371"/>
                  </a:cubicBezTo>
                  <a:cubicBezTo>
                    <a:pt x="411" y="360"/>
                    <a:pt x="408" y="349"/>
                    <a:pt x="404" y="338"/>
                  </a:cubicBezTo>
                  <a:cubicBezTo>
                    <a:pt x="400" y="327"/>
                    <a:pt x="393" y="305"/>
                    <a:pt x="393" y="305"/>
                  </a:cubicBezTo>
                  <a:cubicBezTo>
                    <a:pt x="389" y="207"/>
                    <a:pt x="397" y="108"/>
                    <a:pt x="382" y="11"/>
                  </a:cubicBezTo>
                  <a:cubicBezTo>
                    <a:pt x="380" y="0"/>
                    <a:pt x="356" y="13"/>
                    <a:pt x="349" y="22"/>
                  </a:cubicBezTo>
                  <a:cubicBezTo>
                    <a:pt x="340" y="33"/>
                    <a:pt x="342" y="51"/>
                    <a:pt x="338" y="65"/>
                  </a:cubicBezTo>
                  <a:cubicBezTo>
                    <a:pt x="334" y="123"/>
                    <a:pt x="331" y="182"/>
                    <a:pt x="327" y="240"/>
                  </a:cubicBezTo>
                  <a:cubicBezTo>
                    <a:pt x="324" y="284"/>
                    <a:pt x="335" y="332"/>
                    <a:pt x="316" y="371"/>
                  </a:cubicBezTo>
                  <a:cubicBezTo>
                    <a:pt x="306" y="392"/>
                    <a:pt x="302" y="327"/>
                    <a:pt x="295" y="305"/>
                  </a:cubicBezTo>
                  <a:cubicBezTo>
                    <a:pt x="291" y="293"/>
                    <a:pt x="273" y="291"/>
                    <a:pt x="262" y="284"/>
                  </a:cubicBezTo>
                  <a:cubicBezTo>
                    <a:pt x="258" y="273"/>
                    <a:pt x="259" y="259"/>
                    <a:pt x="251" y="251"/>
                  </a:cubicBezTo>
                  <a:cubicBezTo>
                    <a:pt x="243" y="243"/>
                    <a:pt x="228" y="245"/>
                    <a:pt x="218" y="240"/>
                  </a:cubicBezTo>
                  <a:cubicBezTo>
                    <a:pt x="170" y="216"/>
                    <a:pt x="122" y="185"/>
                    <a:pt x="66" y="185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57320" y="731520"/>
              <a:ext cx="469440" cy="988560"/>
            </a:xfrm>
            <a:custGeom>
              <a:avLst/>
              <a:gdLst/>
              <a:ahLst/>
              <a:rect l="l" t="t" r="r" b="b"/>
              <a:pathLst>
                <a:path w="414" h="814">
                  <a:moveTo>
                    <a:pt x="414" y="47"/>
                  </a:moveTo>
                  <a:cubicBezTo>
                    <a:pt x="357" y="66"/>
                    <a:pt x="301" y="79"/>
                    <a:pt x="251" y="112"/>
                  </a:cubicBezTo>
                  <a:cubicBezTo>
                    <a:pt x="212" y="228"/>
                    <a:pt x="273" y="55"/>
                    <a:pt x="218" y="178"/>
                  </a:cubicBezTo>
                  <a:cubicBezTo>
                    <a:pt x="209" y="199"/>
                    <a:pt x="196" y="243"/>
                    <a:pt x="196" y="243"/>
                  </a:cubicBezTo>
                  <a:cubicBezTo>
                    <a:pt x="200" y="331"/>
                    <a:pt x="175" y="573"/>
                    <a:pt x="283" y="647"/>
                  </a:cubicBezTo>
                  <a:cubicBezTo>
                    <a:pt x="290" y="658"/>
                    <a:pt x="299" y="668"/>
                    <a:pt x="305" y="680"/>
                  </a:cubicBezTo>
                  <a:cubicBezTo>
                    <a:pt x="310" y="690"/>
                    <a:pt x="310" y="702"/>
                    <a:pt x="316" y="712"/>
                  </a:cubicBezTo>
                  <a:cubicBezTo>
                    <a:pt x="329" y="735"/>
                    <a:pt x="368" y="803"/>
                    <a:pt x="360" y="778"/>
                  </a:cubicBezTo>
                  <a:cubicBezTo>
                    <a:pt x="345" y="732"/>
                    <a:pt x="359" y="751"/>
                    <a:pt x="316" y="723"/>
                  </a:cubicBezTo>
                  <a:cubicBezTo>
                    <a:pt x="316" y="723"/>
                    <a:pt x="338" y="738"/>
                    <a:pt x="349" y="745"/>
                  </a:cubicBezTo>
                  <a:cubicBezTo>
                    <a:pt x="353" y="756"/>
                    <a:pt x="355" y="768"/>
                    <a:pt x="360" y="778"/>
                  </a:cubicBezTo>
                  <a:cubicBezTo>
                    <a:pt x="366" y="790"/>
                    <a:pt x="394" y="814"/>
                    <a:pt x="381" y="811"/>
                  </a:cubicBezTo>
                  <a:cubicBezTo>
                    <a:pt x="356" y="805"/>
                    <a:pt x="338" y="782"/>
                    <a:pt x="316" y="767"/>
                  </a:cubicBezTo>
                  <a:cubicBezTo>
                    <a:pt x="305" y="760"/>
                    <a:pt x="283" y="745"/>
                    <a:pt x="283" y="745"/>
                  </a:cubicBezTo>
                  <a:cubicBezTo>
                    <a:pt x="269" y="702"/>
                    <a:pt x="262" y="684"/>
                    <a:pt x="218" y="669"/>
                  </a:cubicBezTo>
                  <a:cubicBezTo>
                    <a:pt x="203" y="647"/>
                    <a:pt x="182" y="628"/>
                    <a:pt x="174" y="603"/>
                  </a:cubicBezTo>
                  <a:cubicBezTo>
                    <a:pt x="159" y="560"/>
                    <a:pt x="146" y="515"/>
                    <a:pt x="131" y="472"/>
                  </a:cubicBezTo>
                  <a:cubicBezTo>
                    <a:pt x="127" y="461"/>
                    <a:pt x="128" y="448"/>
                    <a:pt x="120" y="440"/>
                  </a:cubicBezTo>
                  <a:cubicBezTo>
                    <a:pt x="112" y="432"/>
                    <a:pt x="98" y="433"/>
                    <a:pt x="87" y="429"/>
                  </a:cubicBezTo>
                  <a:cubicBezTo>
                    <a:pt x="62" y="433"/>
                    <a:pt x="37" y="440"/>
                    <a:pt x="11" y="440"/>
                  </a:cubicBezTo>
                  <a:cubicBezTo>
                    <a:pt x="0" y="440"/>
                    <a:pt x="34" y="436"/>
                    <a:pt x="43" y="429"/>
                  </a:cubicBezTo>
                  <a:cubicBezTo>
                    <a:pt x="53" y="421"/>
                    <a:pt x="60" y="408"/>
                    <a:pt x="65" y="396"/>
                  </a:cubicBezTo>
                  <a:cubicBezTo>
                    <a:pt x="67" y="393"/>
                    <a:pt x="92" y="316"/>
                    <a:pt x="98" y="298"/>
                  </a:cubicBezTo>
                  <a:cubicBezTo>
                    <a:pt x="102" y="287"/>
                    <a:pt x="109" y="265"/>
                    <a:pt x="109" y="265"/>
                  </a:cubicBezTo>
                  <a:cubicBezTo>
                    <a:pt x="105" y="225"/>
                    <a:pt x="104" y="185"/>
                    <a:pt x="98" y="145"/>
                  </a:cubicBezTo>
                  <a:cubicBezTo>
                    <a:pt x="96" y="134"/>
                    <a:pt x="93" y="122"/>
                    <a:pt x="87" y="112"/>
                  </a:cubicBezTo>
                  <a:cubicBezTo>
                    <a:pt x="24" y="0"/>
                    <a:pt x="40" y="39"/>
                    <a:pt x="54" y="80"/>
                  </a:cubicBezTo>
                  <a:cubicBezTo>
                    <a:pt x="58" y="91"/>
                    <a:pt x="77" y="86"/>
                    <a:pt x="87" y="91"/>
                  </a:cubicBezTo>
                  <a:cubicBezTo>
                    <a:pt x="99" y="97"/>
                    <a:pt x="109" y="105"/>
                    <a:pt x="120" y="112"/>
                  </a:cubicBezTo>
                  <a:cubicBezTo>
                    <a:pt x="222" y="102"/>
                    <a:pt x="314" y="69"/>
                    <a:pt x="414" y="4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2773800">
              <a:off x="1263600" y="967320"/>
              <a:ext cx="582840" cy="108720"/>
            </a:xfrm>
            <a:prstGeom prst="rightArrow">
              <a:avLst>
                <a:gd name="adj1" fmla="val 50000"/>
                <a:gd name="adj2" fmla="val 13402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987200">
              <a:off x="3277440" y="617760"/>
              <a:ext cx="582840" cy="108720"/>
            </a:xfrm>
            <a:prstGeom prst="rightArrow">
              <a:avLst>
                <a:gd name="adj1" fmla="val 50000"/>
                <a:gd name="adj2" fmla="val 13402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52280" y="2286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ood from the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38480" y="2286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ood from the lu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8480" y="152388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The heart beat begi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when the heart muscles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ela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blood flows into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the at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447920" y="3809880"/>
            <a:ext cx="2361960" cy="2667240"/>
            <a:chOff x="1447920" y="3809880"/>
            <a:chExt cx="2361960" cy="2667240"/>
          </a:xfrm>
        </p:grpSpPr>
        <p:sp>
          <p:nvSpPr>
            <p:cNvPr id="387" name=""/>
            <p:cNvSpPr/>
            <p:nvPr/>
          </p:nvSpPr>
          <p:spPr>
            <a:xfrm>
              <a:off x="2517120" y="4317840"/>
              <a:ext cx="1027440" cy="1758600"/>
            </a:xfrm>
            <a:custGeom>
              <a:avLst/>
              <a:gdLst/>
              <a:ahLst/>
              <a:rect l="l" t="t" r="r" b="b"/>
              <a:pathLst>
                <a:path w="919" h="1582">
                  <a:moveTo>
                    <a:pt x="54" y="120"/>
                  </a:moveTo>
                  <a:cubicBezTo>
                    <a:pt x="24" y="209"/>
                    <a:pt x="65" y="73"/>
                    <a:pt x="54" y="262"/>
                  </a:cubicBezTo>
                  <a:cubicBezTo>
                    <a:pt x="51" y="322"/>
                    <a:pt x="19" y="390"/>
                    <a:pt x="0" y="447"/>
                  </a:cubicBezTo>
                  <a:cubicBezTo>
                    <a:pt x="4" y="582"/>
                    <a:pt x="5" y="716"/>
                    <a:pt x="11" y="851"/>
                  </a:cubicBezTo>
                  <a:cubicBezTo>
                    <a:pt x="13" y="888"/>
                    <a:pt x="23" y="924"/>
                    <a:pt x="32" y="960"/>
                  </a:cubicBezTo>
                  <a:cubicBezTo>
                    <a:pt x="38" y="982"/>
                    <a:pt x="54" y="1026"/>
                    <a:pt x="54" y="1026"/>
                  </a:cubicBezTo>
                  <a:cubicBezTo>
                    <a:pt x="45" y="1161"/>
                    <a:pt x="25" y="1308"/>
                    <a:pt x="65" y="1440"/>
                  </a:cubicBezTo>
                  <a:cubicBezTo>
                    <a:pt x="71" y="1461"/>
                    <a:pt x="85" y="1519"/>
                    <a:pt x="109" y="1538"/>
                  </a:cubicBezTo>
                  <a:cubicBezTo>
                    <a:pt x="132" y="1556"/>
                    <a:pt x="179" y="1573"/>
                    <a:pt x="207" y="1582"/>
                  </a:cubicBezTo>
                  <a:cubicBezTo>
                    <a:pt x="296" y="1569"/>
                    <a:pt x="319" y="1582"/>
                    <a:pt x="349" y="1495"/>
                  </a:cubicBezTo>
                  <a:cubicBezTo>
                    <a:pt x="360" y="1349"/>
                    <a:pt x="361" y="1301"/>
                    <a:pt x="436" y="1189"/>
                  </a:cubicBezTo>
                  <a:cubicBezTo>
                    <a:pt x="442" y="1180"/>
                    <a:pt x="441" y="1167"/>
                    <a:pt x="447" y="1157"/>
                  </a:cubicBezTo>
                  <a:cubicBezTo>
                    <a:pt x="485" y="1089"/>
                    <a:pt x="476" y="1102"/>
                    <a:pt x="523" y="1069"/>
                  </a:cubicBezTo>
                  <a:cubicBezTo>
                    <a:pt x="579" y="988"/>
                    <a:pt x="568" y="875"/>
                    <a:pt x="654" y="818"/>
                  </a:cubicBezTo>
                  <a:cubicBezTo>
                    <a:pt x="661" y="807"/>
                    <a:pt x="667" y="795"/>
                    <a:pt x="676" y="786"/>
                  </a:cubicBezTo>
                  <a:cubicBezTo>
                    <a:pt x="685" y="777"/>
                    <a:pt x="700" y="774"/>
                    <a:pt x="709" y="764"/>
                  </a:cubicBezTo>
                  <a:cubicBezTo>
                    <a:pt x="795" y="664"/>
                    <a:pt x="712" y="724"/>
                    <a:pt x="785" y="677"/>
                  </a:cubicBezTo>
                  <a:cubicBezTo>
                    <a:pt x="819" y="626"/>
                    <a:pt x="835" y="589"/>
                    <a:pt x="883" y="557"/>
                  </a:cubicBezTo>
                  <a:cubicBezTo>
                    <a:pt x="891" y="534"/>
                    <a:pt x="914" y="516"/>
                    <a:pt x="916" y="491"/>
                  </a:cubicBezTo>
                  <a:cubicBezTo>
                    <a:pt x="919" y="458"/>
                    <a:pt x="911" y="425"/>
                    <a:pt x="905" y="393"/>
                  </a:cubicBezTo>
                  <a:cubicBezTo>
                    <a:pt x="892" y="331"/>
                    <a:pt x="877" y="273"/>
                    <a:pt x="807" y="262"/>
                  </a:cubicBezTo>
                  <a:cubicBezTo>
                    <a:pt x="771" y="256"/>
                    <a:pt x="734" y="255"/>
                    <a:pt x="698" y="251"/>
                  </a:cubicBezTo>
                  <a:cubicBezTo>
                    <a:pt x="687" y="244"/>
                    <a:pt x="673" y="239"/>
                    <a:pt x="665" y="229"/>
                  </a:cubicBezTo>
                  <a:cubicBezTo>
                    <a:pt x="658" y="220"/>
                    <a:pt x="659" y="207"/>
                    <a:pt x="654" y="197"/>
                  </a:cubicBezTo>
                  <a:cubicBezTo>
                    <a:pt x="636" y="161"/>
                    <a:pt x="632" y="164"/>
                    <a:pt x="600" y="142"/>
                  </a:cubicBezTo>
                  <a:cubicBezTo>
                    <a:pt x="571" y="55"/>
                    <a:pt x="431" y="21"/>
                    <a:pt x="349" y="0"/>
                  </a:cubicBezTo>
                  <a:cubicBezTo>
                    <a:pt x="277" y="7"/>
                    <a:pt x="229" y="13"/>
                    <a:pt x="163" y="33"/>
                  </a:cubicBezTo>
                  <a:cubicBezTo>
                    <a:pt x="141" y="40"/>
                    <a:pt x="98" y="55"/>
                    <a:pt x="98" y="55"/>
                  </a:cubicBezTo>
                  <a:cubicBezTo>
                    <a:pt x="83" y="77"/>
                    <a:pt x="54" y="120"/>
                    <a:pt x="54" y="120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50240" y="4366800"/>
              <a:ext cx="947160" cy="1685520"/>
            </a:xfrm>
            <a:custGeom>
              <a:avLst/>
              <a:gdLst/>
              <a:ahLst/>
              <a:rect l="l" t="t" r="r" b="b"/>
              <a:pathLst>
                <a:path w="847" h="1516">
                  <a:moveTo>
                    <a:pt x="98" y="436"/>
                  </a:moveTo>
                  <a:cubicBezTo>
                    <a:pt x="44" y="422"/>
                    <a:pt x="31" y="422"/>
                    <a:pt x="0" y="469"/>
                  </a:cubicBezTo>
                  <a:cubicBezTo>
                    <a:pt x="8" y="551"/>
                    <a:pt x="2" y="582"/>
                    <a:pt x="44" y="643"/>
                  </a:cubicBezTo>
                  <a:cubicBezTo>
                    <a:pt x="51" y="665"/>
                    <a:pt x="59" y="687"/>
                    <a:pt x="66" y="709"/>
                  </a:cubicBezTo>
                  <a:cubicBezTo>
                    <a:pt x="104" y="823"/>
                    <a:pt x="38" y="811"/>
                    <a:pt x="131" y="873"/>
                  </a:cubicBezTo>
                  <a:cubicBezTo>
                    <a:pt x="159" y="956"/>
                    <a:pt x="174" y="1040"/>
                    <a:pt x="251" y="1091"/>
                  </a:cubicBezTo>
                  <a:cubicBezTo>
                    <a:pt x="315" y="1184"/>
                    <a:pt x="227" y="1064"/>
                    <a:pt x="306" y="1145"/>
                  </a:cubicBezTo>
                  <a:cubicBezTo>
                    <a:pt x="378" y="1219"/>
                    <a:pt x="271" y="1141"/>
                    <a:pt x="360" y="1200"/>
                  </a:cubicBezTo>
                  <a:cubicBezTo>
                    <a:pt x="367" y="1211"/>
                    <a:pt x="373" y="1224"/>
                    <a:pt x="382" y="1233"/>
                  </a:cubicBezTo>
                  <a:cubicBezTo>
                    <a:pt x="391" y="1242"/>
                    <a:pt x="407" y="1244"/>
                    <a:pt x="415" y="1254"/>
                  </a:cubicBezTo>
                  <a:cubicBezTo>
                    <a:pt x="430" y="1272"/>
                    <a:pt x="446" y="1330"/>
                    <a:pt x="458" y="1353"/>
                  </a:cubicBezTo>
                  <a:cubicBezTo>
                    <a:pt x="464" y="1365"/>
                    <a:pt x="470" y="1377"/>
                    <a:pt x="480" y="1385"/>
                  </a:cubicBezTo>
                  <a:cubicBezTo>
                    <a:pt x="500" y="1402"/>
                    <a:pt x="546" y="1429"/>
                    <a:pt x="546" y="1429"/>
                  </a:cubicBezTo>
                  <a:cubicBezTo>
                    <a:pt x="568" y="1464"/>
                    <a:pt x="595" y="1477"/>
                    <a:pt x="633" y="1494"/>
                  </a:cubicBezTo>
                  <a:cubicBezTo>
                    <a:pt x="654" y="1503"/>
                    <a:pt x="698" y="1516"/>
                    <a:pt x="698" y="1516"/>
                  </a:cubicBezTo>
                  <a:cubicBezTo>
                    <a:pt x="704" y="1515"/>
                    <a:pt x="799" y="1506"/>
                    <a:pt x="807" y="1494"/>
                  </a:cubicBezTo>
                  <a:cubicBezTo>
                    <a:pt x="820" y="1475"/>
                    <a:pt x="822" y="1451"/>
                    <a:pt x="829" y="1429"/>
                  </a:cubicBezTo>
                  <a:cubicBezTo>
                    <a:pt x="833" y="1418"/>
                    <a:pt x="840" y="1396"/>
                    <a:pt x="840" y="1396"/>
                  </a:cubicBezTo>
                  <a:cubicBezTo>
                    <a:pt x="830" y="1261"/>
                    <a:pt x="847" y="1139"/>
                    <a:pt x="829" y="1003"/>
                  </a:cubicBezTo>
                  <a:cubicBezTo>
                    <a:pt x="824" y="963"/>
                    <a:pt x="798" y="902"/>
                    <a:pt x="786" y="862"/>
                  </a:cubicBezTo>
                  <a:cubicBezTo>
                    <a:pt x="768" y="686"/>
                    <a:pt x="758" y="684"/>
                    <a:pt x="775" y="458"/>
                  </a:cubicBezTo>
                  <a:cubicBezTo>
                    <a:pt x="777" y="432"/>
                    <a:pt x="789" y="407"/>
                    <a:pt x="796" y="382"/>
                  </a:cubicBezTo>
                  <a:cubicBezTo>
                    <a:pt x="803" y="360"/>
                    <a:pt x="818" y="316"/>
                    <a:pt x="818" y="316"/>
                  </a:cubicBezTo>
                  <a:cubicBezTo>
                    <a:pt x="810" y="216"/>
                    <a:pt x="804" y="166"/>
                    <a:pt x="775" y="76"/>
                  </a:cubicBezTo>
                  <a:cubicBezTo>
                    <a:pt x="768" y="54"/>
                    <a:pt x="709" y="54"/>
                    <a:pt x="709" y="54"/>
                  </a:cubicBezTo>
                  <a:cubicBezTo>
                    <a:pt x="702" y="43"/>
                    <a:pt x="698" y="29"/>
                    <a:pt x="687" y="22"/>
                  </a:cubicBezTo>
                  <a:cubicBezTo>
                    <a:pt x="668" y="10"/>
                    <a:pt x="622" y="0"/>
                    <a:pt x="622" y="0"/>
                  </a:cubicBezTo>
                  <a:cubicBezTo>
                    <a:pt x="584" y="6"/>
                    <a:pt x="551" y="2"/>
                    <a:pt x="524" y="33"/>
                  </a:cubicBezTo>
                  <a:cubicBezTo>
                    <a:pt x="482" y="81"/>
                    <a:pt x="461" y="143"/>
                    <a:pt x="426" y="196"/>
                  </a:cubicBezTo>
                  <a:cubicBezTo>
                    <a:pt x="397" y="239"/>
                    <a:pt x="421" y="253"/>
                    <a:pt x="360" y="273"/>
                  </a:cubicBezTo>
                  <a:cubicBezTo>
                    <a:pt x="317" y="209"/>
                    <a:pt x="293" y="229"/>
                    <a:pt x="218" y="240"/>
                  </a:cubicBezTo>
                  <a:cubicBezTo>
                    <a:pt x="166" y="276"/>
                    <a:pt x="189" y="288"/>
                    <a:pt x="164" y="338"/>
                  </a:cubicBezTo>
                  <a:cubicBezTo>
                    <a:pt x="146" y="375"/>
                    <a:pt x="142" y="371"/>
                    <a:pt x="109" y="393"/>
                  </a:cubicBezTo>
                  <a:cubicBezTo>
                    <a:pt x="84" y="429"/>
                    <a:pt x="78" y="416"/>
                    <a:pt x="98" y="436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47920" y="3809880"/>
              <a:ext cx="2361960" cy="2667240"/>
            </a:xfrm>
            <a:custGeom>
              <a:avLst/>
              <a:gdLst/>
              <a:ahLst/>
              <a:rect l="l" t="t" r="r" b="b"/>
              <a:pathLst>
                <a:path w="2381" h="2184">
                  <a:moveTo>
                    <a:pt x="36" y="417"/>
                  </a:moveTo>
                  <a:cubicBezTo>
                    <a:pt x="17" y="472"/>
                    <a:pt x="10" y="521"/>
                    <a:pt x="3" y="580"/>
                  </a:cubicBezTo>
                  <a:cubicBezTo>
                    <a:pt x="10" y="656"/>
                    <a:pt x="0" y="752"/>
                    <a:pt x="68" y="799"/>
                  </a:cubicBezTo>
                  <a:cubicBezTo>
                    <a:pt x="83" y="821"/>
                    <a:pt x="97" y="842"/>
                    <a:pt x="112" y="864"/>
                  </a:cubicBezTo>
                  <a:cubicBezTo>
                    <a:pt x="119" y="875"/>
                    <a:pt x="134" y="897"/>
                    <a:pt x="134" y="897"/>
                  </a:cubicBezTo>
                  <a:cubicBezTo>
                    <a:pt x="158" y="1089"/>
                    <a:pt x="213" y="1290"/>
                    <a:pt x="297" y="1464"/>
                  </a:cubicBezTo>
                  <a:cubicBezTo>
                    <a:pt x="336" y="1545"/>
                    <a:pt x="373" y="1631"/>
                    <a:pt x="450" y="1682"/>
                  </a:cubicBezTo>
                  <a:cubicBezTo>
                    <a:pt x="501" y="1759"/>
                    <a:pt x="472" y="1734"/>
                    <a:pt x="527" y="1769"/>
                  </a:cubicBezTo>
                  <a:cubicBezTo>
                    <a:pt x="551" y="1849"/>
                    <a:pt x="515" y="1756"/>
                    <a:pt x="570" y="1824"/>
                  </a:cubicBezTo>
                  <a:cubicBezTo>
                    <a:pt x="631" y="1900"/>
                    <a:pt x="519" y="1816"/>
                    <a:pt x="614" y="1879"/>
                  </a:cubicBezTo>
                  <a:cubicBezTo>
                    <a:pt x="636" y="1942"/>
                    <a:pt x="608" y="1884"/>
                    <a:pt x="657" y="1933"/>
                  </a:cubicBezTo>
                  <a:cubicBezTo>
                    <a:pt x="666" y="1942"/>
                    <a:pt x="669" y="1957"/>
                    <a:pt x="679" y="1966"/>
                  </a:cubicBezTo>
                  <a:cubicBezTo>
                    <a:pt x="797" y="2068"/>
                    <a:pt x="702" y="1978"/>
                    <a:pt x="777" y="2020"/>
                  </a:cubicBezTo>
                  <a:cubicBezTo>
                    <a:pt x="800" y="2033"/>
                    <a:pt x="824" y="2045"/>
                    <a:pt x="843" y="2064"/>
                  </a:cubicBezTo>
                  <a:cubicBezTo>
                    <a:pt x="854" y="2075"/>
                    <a:pt x="862" y="2089"/>
                    <a:pt x="876" y="2097"/>
                  </a:cubicBezTo>
                  <a:cubicBezTo>
                    <a:pt x="896" y="2108"/>
                    <a:pt x="919" y="2112"/>
                    <a:pt x="941" y="2119"/>
                  </a:cubicBezTo>
                  <a:cubicBezTo>
                    <a:pt x="974" y="2130"/>
                    <a:pt x="1006" y="2140"/>
                    <a:pt x="1039" y="2151"/>
                  </a:cubicBezTo>
                  <a:cubicBezTo>
                    <a:pt x="1050" y="2155"/>
                    <a:pt x="1061" y="2158"/>
                    <a:pt x="1072" y="2162"/>
                  </a:cubicBezTo>
                  <a:cubicBezTo>
                    <a:pt x="1083" y="2166"/>
                    <a:pt x="1105" y="2173"/>
                    <a:pt x="1105" y="2173"/>
                  </a:cubicBezTo>
                  <a:cubicBezTo>
                    <a:pt x="1174" y="2169"/>
                    <a:pt x="1251" y="2184"/>
                    <a:pt x="1312" y="2151"/>
                  </a:cubicBezTo>
                  <a:cubicBezTo>
                    <a:pt x="1315" y="2149"/>
                    <a:pt x="1392" y="2098"/>
                    <a:pt x="1410" y="2086"/>
                  </a:cubicBezTo>
                  <a:cubicBezTo>
                    <a:pt x="1421" y="2079"/>
                    <a:pt x="1443" y="2064"/>
                    <a:pt x="1443" y="2064"/>
                  </a:cubicBezTo>
                  <a:cubicBezTo>
                    <a:pt x="1450" y="2053"/>
                    <a:pt x="1456" y="2040"/>
                    <a:pt x="1465" y="2031"/>
                  </a:cubicBezTo>
                  <a:cubicBezTo>
                    <a:pt x="1474" y="2022"/>
                    <a:pt x="1490" y="2020"/>
                    <a:pt x="1497" y="2009"/>
                  </a:cubicBezTo>
                  <a:cubicBezTo>
                    <a:pt x="1519" y="1973"/>
                    <a:pt x="1509" y="1939"/>
                    <a:pt x="1541" y="1911"/>
                  </a:cubicBezTo>
                  <a:cubicBezTo>
                    <a:pt x="1561" y="1894"/>
                    <a:pt x="1607" y="1868"/>
                    <a:pt x="1607" y="1868"/>
                  </a:cubicBezTo>
                  <a:cubicBezTo>
                    <a:pt x="1655" y="1794"/>
                    <a:pt x="1702" y="1719"/>
                    <a:pt x="1737" y="1639"/>
                  </a:cubicBezTo>
                  <a:cubicBezTo>
                    <a:pt x="1774" y="1554"/>
                    <a:pt x="1774" y="1442"/>
                    <a:pt x="1857" y="1388"/>
                  </a:cubicBezTo>
                  <a:cubicBezTo>
                    <a:pt x="1881" y="1315"/>
                    <a:pt x="1848" y="1393"/>
                    <a:pt x="1901" y="1333"/>
                  </a:cubicBezTo>
                  <a:cubicBezTo>
                    <a:pt x="1928" y="1302"/>
                    <a:pt x="1952" y="1268"/>
                    <a:pt x="1977" y="1235"/>
                  </a:cubicBezTo>
                  <a:cubicBezTo>
                    <a:pt x="1993" y="1214"/>
                    <a:pt x="2006" y="1191"/>
                    <a:pt x="2021" y="1169"/>
                  </a:cubicBezTo>
                  <a:cubicBezTo>
                    <a:pt x="2028" y="1158"/>
                    <a:pt x="2043" y="1137"/>
                    <a:pt x="2043" y="1137"/>
                  </a:cubicBezTo>
                  <a:cubicBezTo>
                    <a:pt x="2069" y="1059"/>
                    <a:pt x="2052" y="1090"/>
                    <a:pt x="2087" y="1039"/>
                  </a:cubicBezTo>
                  <a:cubicBezTo>
                    <a:pt x="2118" y="938"/>
                    <a:pt x="2071" y="1079"/>
                    <a:pt x="2119" y="973"/>
                  </a:cubicBezTo>
                  <a:cubicBezTo>
                    <a:pt x="2128" y="952"/>
                    <a:pt x="2141" y="908"/>
                    <a:pt x="2141" y="908"/>
                  </a:cubicBezTo>
                  <a:cubicBezTo>
                    <a:pt x="2145" y="875"/>
                    <a:pt x="2136" y="838"/>
                    <a:pt x="2152" y="809"/>
                  </a:cubicBezTo>
                  <a:cubicBezTo>
                    <a:pt x="2164" y="786"/>
                    <a:pt x="2217" y="766"/>
                    <a:pt x="2217" y="766"/>
                  </a:cubicBezTo>
                  <a:cubicBezTo>
                    <a:pt x="2232" y="744"/>
                    <a:pt x="2246" y="722"/>
                    <a:pt x="2261" y="700"/>
                  </a:cubicBezTo>
                  <a:cubicBezTo>
                    <a:pt x="2268" y="689"/>
                    <a:pt x="2283" y="668"/>
                    <a:pt x="2283" y="668"/>
                  </a:cubicBezTo>
                  <a:cubicBezTo>
                    <a:pt x="2309" y="589"/>
                    <a:pt x="2292" y="621"/>
                    <a:pt x="2327" y="569"/>
                  </a:cubicBezTo>
                  <a:cubicBezTo>
                    <a:pt x="2340" y="529"/>
                    <a:pt x="2347" y="507"/>
                    <a:pt x="2359" y="471"/>
                  </a:cubicBezTo>
                  <a:cubicBezTo>
                    <a:pt x="2363" y="460"/>
                    <a:pt x="2366" y="450"/>
                    <a:pt x="2370" y="439"/>
                  </a:cubicBezTo>
                  <a:cubicBezTo>
                    <a:pt x="2374" y="428"/>
                    <a:pt x="2381" y="406"/>
                    <a:pt x="2381" y="406"/>
                  </a:cubicBezTo>
                  <a:cubicBezTo>
                    <a:pt x="2368" y="306"/>
                    <a:pt x="2337" y="197"/>
                    <a:pt x="2305" y="100"/>
                  </a:cubicBezTo>
                  <a:cubicBezTo>
                    <a:pt x="2219" y="228"/>
                    <a:pt x="2334" y="351"/>
                    <a:pt x="2185" y="449"/>
                  </a:cubicBezTo>
                  <a:cubicBezTo>
                    <a:pt x="2126" y="537"/>
                    <a:pt x="2203" y="431"/>
                    <a:pt x="2130" y="504"/>
                  </a:cubicBezTo>
                  <a:cubicBezTo>
                    <a:pt x="2080" y="554"/>
                    <a:pt x="2139" y="526"/>
                    <a:pt x="2076" y="548"/>
                  </a:cubicBezTo>
                  <a:cubicBezTo>
                    <a:pt x="2025" y="624"/>
                    <a:pt x="2054" y="598"/>
                    <a:pt x="1999" y="635"/>
                  </a:cubicBezTo>
                  <a:cubicBezTo>
                    <a:pt x="1975" y="706"/>
                    <a:pt x="1921" y="769"/>
                    <a:pt x="1879" y="831"/>
                  </a:cubicBezTo>
                  <a:cubicBezTo>
                    <a:pt x="1872" y="841"/>
                    <a:pt x="1902" y="825"/>
                    <a:pt x="1912" y="820"/>
                  </a:cubicBezTo>
                  <a:cubicBezTo>
                    <a:pt x="1924" y="814"/>
                    <a:pt x="1934" y="806"/>
                    <a:pt x="1945" y="799"/>
                  </a:cubicBezTo>
                  <a:cubicBezTo>
                    <a:pt x="1974" y="802"/>
                    <a:pt x="2005" y="797"/>
                    <a:pt x="2032" y="809"/>
                  </a:cubicBezTo>
                  <a:cubicBezTo>
                    <a:pt x="2052" y="818"/>
                    <a:pt x="2041" y="866"/>
                    <a:pt x="2032" y="875"/>
                  </a:cubicBezTo>
                  <a:cubicBezTo>
                    <a:pt x="2024" y="883"/>
                    <a:pt x="2010" y="882"/>
                    <a:pt x="1999" y="886"/>
                  </a:cubicBezTo>
                  <a:cubicBezTo>
                    <a:pt x="1962" y="941"/>
                    <a:pt x="1902" y="958"/>
                    <a:pt x="1847" y="995"/>
                  </a:cubicBezTo>
                  <a:cubicBezTo>
                    <a:pt x="1836" y="1002"/>
                    <a:pt x="1825" y="1010"/>
                    <a:pt x="1814" y="1017"/>
                  </a:cubicBezTo>
                  <a:cubicBezTo>
                    <a:pt x="1803" y="1024"/>
                    <a:pt x="1781" y="1039"/>
                    <a:pt x="1781" y="1039"/>
                  </a:cubicBezTo>
                  <a:cubicBezTo>
                    <a:pt x="1774" y="1050"/>
                    <a:pt x="1768" y="1062"/>
                    <a:pt x="1759" y="1071"/>
                  </a:cubicBezTo>
                  <a:cubicBezTo>
                    <a:pt x="1750" y="1080"/>
                    <a:pt x="1735" y="1083"/>
                    <a:pt x="1727" y="1093"/>
                  </a:cubicBezTo>
                  <a:cubicBezTo>
                    <a:pt x="1720" y="1102"/>
                    <a:pt x="1721" y="1116"/>
                    <a:pt x="1716" y="1126"/>
                  </a:cubicBezTo>
                  <a:cubicBezTo>
                    <a:pt x="1687" y="1183"/>
                    <a:pt x="1661" y="1242"/>
                    <a:pt x="1607" y="1279"/>
                  </a:cubicBezTo>
                  <a:cubicBezTo>
                    <a:pt x="1589" y="1306"/>
                    <a:pt x="1561" y="1347"/>
                    <a:pt x="1541" y="1377"/>
                  </a:cubicBezTo>
                  <a:cubicBezTo>
                    <a:pt x="1534" y="1388"/>
                    <a:pt x="1519" y="1409"/>
                    <a:pt x="1519" y="1409"/>
                  </a:cubicBezTo>
                  <a:cubicBezTo>
                    <a:pt x="1480" y="1526"/>
                    <a:pt x="1541" y="1352"/>
                    <a:pt x="1487" y="1475"/>
                  </a:cubicBezTo>
                  <a:cubicBezTo>
                    <a:pt x="1454" y="1549"/>
                    <a:pt x="1451" y="1613"/>
                    <a:pt x="1377" y="1660"/>
                  </a:cubicBezTo>
                  <a:cubicBezTo>
                    <a:pt x="1358" y="1723"/>
                    <a:pt x="1383" y="1666"/>
                    <a:pt x="1334" y="1715"/>
                  </a:cubicBezTo>
                  <a:cubicBezTo>
                    <a:pt x="1325" y="1724"/>
                    <a:pt x="1323" y="1741"/>
                    <a:pt x="1312" y="1748"/>
                  </a:cubicBezTo>
                  <a:cubicBezTo>
                    <a:pt x="1293" y="1760"/>
                    <a:pt x="1247" y="1769"/>
                    <a:pt x="1247" y="1769"/>
                  </a:cubicBezTo>
                  <a:cubicBezTo>
                    <a:pt x="1236" y="1766"/>
                    <a:pt x="1222" y="1767"/>
                    <a:pt x="1214" y="1759"/>
                  </a:cubicBezTo>
                  <a:cubicBezTo>
                    <a:pt x="1206" y="1751"/>
                    <a:pt x="1204" y="1738"/>
                    <a:pt x="1203" y="1726"/>
                  </a:cubicBezTo>
                  <a:cubicBezTo>
                    <a:pt x="1196" y="1624"/>
                    <a:pt x="1201" y="1522"/>
                    <a:pt x="1192" y="1420"/>
                  </a:cubicBezTo>
                  <a:cubicBezTo>
                    <a:pt x="1186" y="1353"/>
                    <a:pt x="1142" y="1280"/>
                    <a:pt x="1127" y="1213"/>
                  </a:cubicBezTo>
                  <a:cubicBezTo>
                    <a:pt x="1142" y="1064"/>
                    <a:pt x="1165" y="915"/>
                    <a:pt x="1181" y="766"/>
                  </a:cubicBezTo>
                  <a:cubicBezTo>
                    <a:pt x="1203" y="553"/>
                    <a:pt x="1183" y="629"/>
                    <a:pt x="1225" y="504"/>
                  </a:cubicBezTo>
                  <a:cubicBezTo>
                    <a:pt x="1233" y="479"/>
                    <a:pt x="1290" y="460"/>
                    <a:pt x="1290" y="460"/>
                  </a:cubicBezTo>
                  <a:cubicBezTo>
                    <a:pt x="1243" y="444"/>
                    <a:pt x="1239" y="465"/>
                    <a:pt x="1192" y="449"/>
                  </a:cubicBezTo>
                  <a:cubicBezTo>
                    <a:pt x="1156" y="308"/>
                    <a:pt x="1234" y="147"/>
                    <a:pt x="1279" y="13"/>
                  </a:cubicBezTo>
                  <a:cubicBezTo>
                    <a:pt x="1283" y="0"/>
                    <a:pt x="1264" y="35"/>
                    <a:pt x="1257" y="46"/>
                  </a:cubicBezTo>
                  <a:cubicBezTo>
                    <a:pt x="1242" y="96"/>
                    <a:pt x="1210" y="134"/>
                    <a:pt x="1181" y="177"/>
                  </a:cubicBezTo>
                  <a:cubicBezTo>
                    <a:pt x="1174" y="188"/>
                    <a:pt x="1166" y="198"/>
                    <a:pt x="1159" y="209"/>
                  </a:cubicBezTo>
                  <a:cubicBezTo>
                    <a:pt x="1152" y="220"/>
                    <a:pt x="1137" y="242"/>
                    <a:pt x="1137" y="242"/>
                  </a:cubicBezTo>
                  <a:cubicBezTo>
                    <a:pt x="1123" y="289"/>
                    <a:pt x="1099" y="326"/>
                    <a:pt x="1083" y="373"/>
                  </a:cubicBezTo>
                  <a:cubicBezTo>
                    <a:pt x="1079" y="384"/>
                    <a:pt x="1076" y="395"/>
                    <a:pt x="1072" y="406"/>
                  </a:cubicBezTo>
                  <a:cubicBezTo>
                    <a:pt x="1068" y="417"/>
                    <a:pt x="1061" y="439"/>
                    <a:pt x="1061" y="439"/>
                  </a:cubicBezTo>
                  <a:cubicBezTo>
                    <a:pt x="1052" y="323"/>
                    <a:pt x="1042" y="150"/>
                    <a:pt x="930" y="79"/>
                  </a:cubicBezTo>
                  <a:cubicBezTo>
                    <a:pt x="926" y="66"/>
                    <a:pt x="917" y="16"/>
                    <a:pt x="887" y="24"/>
                  </a:cubicBezTo>
                  <a:cubicBezTo>
                    <a:pt x="876" y="27"/>
                    <a:pt x="880" y="46"/>
                    <a:pt x="876" y="57"/>
                  </a:cubicBezTo>
                  <a:cubicBezTo>
                    <a:pt x="880" y="68"/>
                    <a:pt x="882" y="79"/>
                    <a:pt x="887" y="89"/>
                  </a:cubicBezTo>
                  <a:cubicBezTo>
                    <a:pt x="893" y="101"/>
                    <a:pt x="903" y="110"/>
                    <a:pt x="908" y="122"/>
                  </a:cubicBezTo>
                  <a:cubicBezTo>
                    <a:pt x="932" y="177"/>
                    <a:pt x="926" y="181"/>
                    <a:pt x="941" y="231"/>
                  </a:cubicBezTo>
                  <a:cubicBezTo>
                    <a:pt x="964" y="308"/>
                    <a:pt x="993" y="383"/>
                    <a:pt x="1017" y="460"/>
                  </a:cubicBezTo>
                  <a:cubicBezTo>
                    <a:pt x="1018" y="463"/>
                    <a:pt x="945" y="440"/>
                    <a:pt x="941" y="439"/>
                  </a:cubicBezTo>
                  <a:cubicBezTo>
                    <a:pt x="930" y="442"/>
                    <a:pt x="908" y="438"/>
                    <a:pt x="908" y="449"/>
                  </a:cubicBezTo>
                  <a:cubicBezTo>
                    <a:pt x="908" y="462"/>
                    <a:pt x="932" y="461"/>
                    <a:pt x="941" y="471"/>
                  </a:cubicBezTo>
                  <a:cubicBezTo>
                    <a:pt x="980" y="515"/>
                    <a:pt x="1020" y="578"/>
                    <a:pt x="1039" y="635"/>
                  </a:cubicBezTo>
                  <a:cubicBezTo>
                    <a:pt x="1029" y="701"/>
                    <a:pt x="1016" y="765"/>
                    <a:pt x="1007" y="831"/>
                  </a:cubicBezTo>
                  <a:cubicBezTo>
                    <a:pt x="1010" y="955"/>
                    <a:pt x="1011" y="1078"/>
                    <a:pt x="1017" y="1202"/>
                  </a:cubicBezTo>
                  <a:cubicBezTo>
                    <a:pt x="1018" y="1216"/>
                    <a:pt x="1034" y="1283"/>
                    <a:pt x="1039" y="1300"/>
                  </a:cubicBezTo>
                  <a:cubicBezTo>
                    <a:pt x="1046" y="1322"/>
                    <a:pt x="1054" y="1344"/>
                    <a:pt x="1061" y="1366"/>
                  </a:cubicBezTo>
                  <a:cubicBezTo>
                    <a:pt x="1065" y="1377"/>
                    <a:pt x="1072" y="1399"/>
                    <a:pt x="1072" y="1399"/>
                  </a:cubicBezTo>
                  <a:cubicBezTo>
                    <a:pt x="1064" y="1606"/>
                    <a:pt x="1135" y="1656"/>
                    <a:pt x="996" y="1704"/>
                  </a:cubicBezTo>
                  <a:cubicBezTo>
                    <a:pt x="956" y="1696"/>
                    <a:pt x="902" y="1691"/>
                    <a:pt x="865" y="1671"/>
                  </a:cubicBezTo>
                  <a:cubicBezTo>
                    <a:pt x="842" y="1658"/>
                    <a:pt x="799" y="1628"/>
                    <a:pt x="799" y="1628"/>
                  </a:cubicBezTo>
                  <a:cubicBezTo>
                    <a:pt x="795" y="1621"/>
                    <a:pt x="727" y="1507"/>
                    <a:pt x="712" y="1497"/>
                  </a:cubicBezTo>
                  <a:cubicBezTo>
                    <a:pt x="690" y="1482"/>
                    <a:pt x="672" y="1461"/>
                    <a:pt x="647" y="1453"/>
                  </a:cubicBezTo>
                  <a:cubicBezTo>
                    <a:pt x="636" y="1449"/>
                    <a:pt x="624" y="1447"/>
                    <a:pt x="614" y="1442"/>
                  </a:cubicBezTo>
                  <a:cubicBezTo>
                    <a:pt x="592" y="1431"/>
                    <a:pt x="570" y="1421"/>
                    <a:pt x="548" y="1409"/>
                  </a:cubicBezTo>
                  <a:cubicBezTo>
                    <a:pt x="525" y="1396"/>
                    <a:pt x="483" y="1366"/>
                    <a:pt x="483" y="1366"/>
                  </a:cubicBezTo>
                  <a:cubicBezTo>
                    <a:pt x="476" y="1355"/>
                    <a:pt x="469" y="1343"/>
                    <a:pt x="461" y="1333"/>
                  </a:cubicBezTo>
                  <a:cubicBezTo>
                    <a:pt x="451" y="1321"/>
                    <a:pt x="437" y="1313"/>
                    <a:pt x="428" y="1300"/>
                  </a:cubicBezTo>
                  <a:cubicBezTo>
                    <a:pt x="422" y="1291"/>
                    <a:pt x="422" y="1278"/>
                    <a:pt x="417" y="1268"/>
                  </a:cubicBezTo>
                  <a:cubicBezTo>
                    <a:pt x="386" y="1211"/>
                    <a:pt x="344" y="1159"/>
                    <a:pt x="308" y="1104"/>
                  </a:cubicBezTo>
                  <a:cubicBezTo>
                    <a:pt x="276" y="1054"/>
                    <a:pt x="289" y="1079"/>
                    <a:pt x="265" y="1006"/>
                  </a:cubicBezTo>
                  <a:cubicBezTo>
                    <a:pt x="261" y="995"/>
                    <a:pt x="254" y="973"/>
                    <a:pt x="254" y="973"/>
                  </a:cubicBezTo>
                  <a:cubicBezTo>
                    <a:pt x="265" y="884"/>
                    <a:pt x="249" y="852"/>
                    <a:pt x="341" y="875"/>
                  </a:cubicBezTo>
                  <a:cubicBezTo>
                    <a:pt x="352" y="882"/>
                    <a:pt x="365" y="888"/>
                    <a:pt x="374" y="897"/>
                  </a:cubicBezTo>
                  <a:cubicBezTo>
                    <a:pt x="383" y="906"/>
                    <a:pt x="396" y="942"/>
                    <a:pt x="396" y="929"/>
                  </a:cubicBezTo>
                  <a:cubicBezTo>
                    <a:pt x="396" y="906"/>
                    <a:pt x="381" y="886"/>
                    <a:pt x="374" y="864"/>
                  </a:cubicBezTo>
                  <a:cubicBezTo>
                    <a:pt x="356" y="810"/>
                    <a:pt x="357" y="775"/>
                    <a:pt x="297" y="755"/>
                  </a:cubicBezTo>
                  <a:cubicBezTo>
                    <a:pt x="275" y="740"/>
                    <a:pt x="254" y="726"/>
                    <a:pt x="232" y="711"/>
                  </a:cubicBezTo>
                  <a:cubicBezTo>
                    <a:pt x="221" y="704"/>
                    <a:pt x="199" y="689"/>
                    <a:pt x="199" y="689"/>
                  </a:cubicBezTo>
                  <a:cubicBezTo>
                    <a:pt x="171" y="607"/>
                    <a:pt x="212" y="707"/>
                    <a:pt x="156" y="635"/>
                  </a:cubicBezTo>
                  <a:cubicBezTo>
                    <a:pt x="149" y="626"/>
                    <a:pt x="150" y="612"/>
                    <a:pt x="145" y="602"/>
                  </a:cubicBezTo>
                  <a:cubicBezTo>
                    <a:pt x="139" y="590"/>
                    <a:pt x="128" y="581"/>
                    <a:pt x="123" y="569"/>
                  </a:cubicBezTo>
                  <a:cubicBezTo>
                    <a:pt x="114" y="548"/>
                    <a:pt x="101" y="504"/>
                    <a:pt x="101" y="504"/>
                  </a:cubicBezTo>
                  <a:cubicBezTo>
                    <a:pt x="97" y="460"/>
                    <a:pt x="100" y="416"/>
                    <a:pt x="90" y="373"/>
                  </a:cubicBezTo>
                  <a:cubicBezTo>
                    <a:pt x="87" y="362"/>
                    <a:pt x="86" y="397"/>
                    <a:pt x="79" y="406"/>
                  </a:cubicBezTo>
                  <a:cubicBezTo>
                    <a:pt x="52" y="440"/>
                    <a:pt x="52" y="433"/>
                    <a:pt x="36" y="41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23760" y="4182480"/>
              <a:ext cx="573480" cy="667080"/>
            </a:xfrm>
            <a:custGeom>
              <a:avLst/>
              <a:gdLst/>
              <a:ahLst/>
              <a:rect l="l" t="t" r="r" b="b"/>
              <a:pathLst>
                <a:path w="513" h="600">
                  <a:moveTo>
                    <a:pt x="0" y="0"/>
                  </a:moveTo>
                  <a:cubicBezTo>
                    <a:pt x="4" y="55"/>
                    <a:pt x="3" y="110"/>
                    <a:pt x="11" y="164"/>
                  </a:cubicBezTo>
                  <a:cubicBezTo>
                    <a:pt x="16" y="198"/>
                    <a:pt x="33" y="229"/>
                    <a:pt x="44" y="262"/>
                  </a:cubicBezTo>
                  <a:cubicBezTo>
                    <a:pt x="72" y="345"/>
                    <a:pt x="87" y="429"/>
                    <a:pt x="164" y="480"/>
                  </a:cubicBezTo>
                  <a:cubicBezTo>
                    <a:pt x="171" y="491"/>
                    <a:pt x="177" y="504"/>
                    <a:pt x="186" y="513"/>
                  </a:cubicBezTo>
                  <a:cubicBezTo>
                    <a:pt x="195" y="522"/>
                    <a:pt x="210" y="525"/>
                    <a:pt x="218" y="535"/>
                  </a:cubicBezTo>
                  <a:cubicBezTo>
                    <a:pt x="225" y="544"/>
                    <a:pt x="224" y="557"/>
                    <a:pt x="229" y="567"/>
                  </a:cubicBezTo>
                  <a:cubicBezTo>
                    <a:pt x="235" y="579"/>
                    <a:pt x="244" y="589"/>
                    <a:pt x="251" y="600"/>
                  </a:cubicBezTo>
                  <a:cubicBezTo>
                    <a:pt x="314" y="506"/>
                    <a:pt x="286" y="374"/>
                    <a:pt x="338" y="295"/>
                  </a:cubicBezTo>
                  <a:cubicBezTo>
                    <a:pt x="371" y="246"/>
                    <a:pt x="386" y="205"/>
                    <a:pt x="448" y="185"/>
                  </a:cubicBezTo>
                  <a:cubicBezTo>
                    <a:pt x="470" y="178"/>
                    <a:pt x="513" y="164"/>
                    <a:pt x="513" y="164"/>
                  </a:cubicBezTo>
                  <a:cubicBezTo>
                    <a:pt x="467" y="149"/>
                    <a:pt x="485" y="148"/>
                    <a:pt x="426" y="164"/>
                  </a:cubicBezTo>
                  <a:cubicBezTo>
                    <a:pt x="404" y="170"/>
                    <a:pt x="360" y="185"/>
                    <a:pt x="360" y="185"/>
                  </a:cubicBezTo>
                  <a:cubicBezTo>
                    <a:pt x="331" y="229"/>
                    <a:pt x="302" y="273"/>
                    <a:pt x="273" y="316"/>
                  </a:cubicBezTo>
                  <a:cubicBezTo>
                    <a:pt x="266" y="327"/>
                    <a:pt x="258" y="338"/>
                    <a:pt x="251" y="349"/>
                  </a:cubicBezTo>
                  <a:cubicBezTo>
                    <a:pt x="244" y="360"/>
                    <a:pt x="229" y="382"/>
                    <a:pt x="229" y="382"/>
                  </a:cubicBezTo>
                  <a:cubicBezTo>
                    <a:pt x="209" y="318"/>
                    <a:pt x="201" y="268"/>
                    <a:pt x="142" y="229"/>
                  </a:cubicBezTo>
                  <a:cubicBezTo>
                    <a:pt x="120" y="163"/>
                    <a:pt x="149" y="226"/>
                    <a:pt x="98" y="175"/>
                  </a:cubicBezTo>
                  <a:cubicBezTo>
                    <a:pt x="22" y="99"/>
                    <a:pt x="137" y="182"/>
                    <a:pt x="44" y="120"/>
                  </a:cubicBezTo>
                  <a:cubicBezTo>
                    <a:pt x="16" y="78"/>
                    <a:pt x="10" y="5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85960" y="3923280"/>
              <a:ext cx="729000" cy="844920"/>
            </a:xfrm>
            <a:custGeom>
              <a:avLst/>
              <a:gdLst/>
              <a:ahLst/>
              <a:rect l="l" t="t" r="r" b="b"/>
              <a:pathLst>
                <a:path w="652" h="760">
                  <a:moveTo>
                    <a:pt x="645" y="6"/>
                  </a:moveTo>
                  <a:cubicBezTo>
                    <a:pt x="609" y="114"/>
                    <a:pt x="584" y="226"/>
                    <a:pt x="547" y="333"/>
                  </a:cubicBezTo>
                  <a:cubicBezTo>
                    <a:pt x="541" y="450"/>
                    <a:pt x="563" y="625"/>
                    <a:pt x="449" y="704"/>
                  </a:cubicBezTo>
                  <a:cubicBezTo>
                    <a:pt x="442" y="715"/>
                    <a:pt x="437" y="729"/>
                    <a:pt x="427" y="737"/>
                  </a:cubicBezTo>
                  <a:cubicBezTo>
                    <a:pt x="418" y="744"/>
                    <a:pt x="394" y="760"/>
                    <a:pt x="394" y="748"/>
                  </a:cubicBezTo>
                  <a:cubicBezTo>
                    <a:pt x="394" y="735"/>
                    <a:pt x="416" y="733"/>
                    <a:pt x="427" y="726"/>
                  </a:cubicBezTo>
                  <a:cubicBezTo>
                    <a:pt x="431" y="715"/>
                    <a:pt x="432" y="703"/>
                    <a:pt x="438" y="693"/>
                  </a:cubicBezTo>
                  <a:cubicBezTo>
                    <a:pt x="451" y="670"/>
                    <a:pt x="481" y="628"/>
                    <a:pt x="481" y="628"/>
                  </a:cubicBezTo>
                  <a:cubicBezTo>
                    <a:pt x="477" y="588"/>
                    <a:pt x="478" y="547"/>
                    <a:pt x="470" y="508"/>
                  </a:cubicBezTo>
                  <a:cubicBezTo>
                    <a:pt x="461" y="464"/>
                    <a:pt x="445" y="480"/>
                    <a:pt x="416" y="464"/>
                  </a:cubicBezTo>
                  <a:cubicBezTo>
                    <a:pt x="345" y="425"/>
                    <a:pt x="318" y="396"/>
                    <a:pt x="241" y="377"/>
                  </a:cubicBezTo>
                  <a:cubicBezTo>
                    <a:pt x="168" y="381"/>
                    <a:pt x="96" y="393"/>
                    <a:pt x="23" y="388"/>
                  </a:cubicBezTo>
                  <a:cubicBezTo>
                    <a:pt x="0" y="386"/>
                    <a:pt x="67" y="373"/>
                    <a:pt x="89" y="366"/>
                  </a:cubicBezTo>
                  <a:cubicBezTo>
                    <a:pt x="111" y="359"/>
                    <a:pt x="154" y="344"/>
                    <a:pt x="154" y="344"/>
                  </a:cubicBezTo>
                  <a:cubicBezTo>
                    <a:pt x="279" y="352"/>
                    <a:pt x="351" y="367"/>
                    <a:pt x="470" y="355"/>
                  </a:cubicBezTo>
                  <a:cubicBezTo>
                    <a:pt x="481" y="348"/>
                    <a:pt x="496" y="344"/>
                    <a:pt x="503" y="333"/>
                  </a:cubicBezTo>
                  <a:cubicBezTo>
                    <a:pt x="504" y="332"/>
                    <a:pt x="530" y="252"/>
                    <a:pt x="536" y="235"/>
                  </a:cubicBezTo>
                  <a:cubicBezTo>
                    <a:pt x="540" y="222"/>
                    <a:pt x="553" y="214"/>
                    <a:pt x="558" y="202"/>
                  </a:cubicBezTo>
                  <a:cubicBezTo>
                    <a:pt x="566" y="184"/>
                    <a:pt x="582" y="130"/>
                    <a:pt x="590" y="104"/>
                  </a:cubicBezTo>
                  <a:cubicBezTo>
                    <a:pt x="622" y="0"/>
                    <a:pt x="599" y="142"/>
                    <a:pt x="645" y="50"/>
                  </a:cubicBezTo>
                  <a:cubicBezTo>
                    <a:pt x="652" y="37"/>
                    <a:pt x="645" y="21"/>
                    <a:pt x="645" y="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69760" y="4502520"/>
              <a:ext cx="21456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3165480" y="4342320"/>
              <a:ext cx="26856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 flipV="1">
            <a:off x="1066680" y="4724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057040" y="41148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71800" y="38862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3886200" y="4495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2814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tria then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ontra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the valves open to allow blood into the ventr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838080"/>
            <a:ext cx="7467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lide contains teacher’s notes wherever this icon is displayed -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ccess these notes go to ‘Notes Page View’ (PowerPoint 97) or ‘Normal View’ (PowerPoint 200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ptoolbar" descr=""/>
          <p:cNvPicPr/>
          <p:nvPr/>
        </p:nvPicPr>
        <p:blipFill>
          <a:blip r:embed="rId1"/>
          <a:stretch/>
        </p:blipFill>
        <p:spPr>
          <a:xfrm>
            <a:off x="5029200" y="2666880"/>
            <a:ext cx="2913120" cy="468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804920" y="35053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Normal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57800" y="320040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23640" y="350532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Notes Page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819520" y="320040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720" y="228600"/>
            <a:ext cx="2398320" cy="459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eacher’s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p97toolbar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2895840" cy="484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846720" y="4267080"/>
            <a:ext cx="1651320" cy="459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lash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9528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lash file has been embedded into the PowerPoint slide wherever this icon is displayed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files are not edi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lash%20icon" descr=""/>
          <p:cNvPicPr/>
          <p:nvPr/>
        </p:nvPicPr>
        <p:blipFill>
          <a:blip r:embed="rId3"/>
          <a:stretch/>
        </p:blipFill>
        <p:spPr>
          <a:xfrm>
            <a:off x="6019920" y="5334120"/>
            <a:ext cx="511200" cy="533160"/>
          </a:xfrm>
          <a:prstGeom prst="rect">
            <a:avLst/>
          </a:prstGeom>
          <a:ln w="0">
            <a:noFill/>
          </a:ln>
        </p:spPr>
      </p:pic>
      <p:pic>
        <p:nvPicPr>
          <p:cNvPr id="66" name="teacher's%20icon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5461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914400" y="914400"/>
            <a:ext cx="2514600" cy="3047760"/>
            <a:chOff x="914400" y="914400"/>
            <a:chExt cx="2514600" cy="3047760"/>
          </a:xfrm>
        </p:grpSpPr>
        <p:sp>
          <p:nvSpPr>
            <p:cNvPr id="400" name=""/>
            <p:cNvSpPr/>
            <p:nvPr/>
          </p:nvSpPr>
          <p:spPr>
            <a:xfrm>
              <a:off x="946440" y="1465200"/>
              <a:ext cx="552240" cy="574920"/>
            </a:xfrm>
            <a:custGeom>
              <a:avLst/>
              <a:gdLst/>
              <a:ahLst/>
              <a:rect l="l" t="t" r="r" b="b"/>
              <a:pathLst>
                <a:path w="464" h="480">
                  <a:moveTo>
                    <a:pt x="34" y="197"/>
                  </a:moveTo>
                  <a:cubicBezTo>
                    <a:pt x="44" y="277"/>
                    <a:pt x="38" y="297"/>
                    <a:pt x="100" y="339"/>
                  </a:cubicBezTo>
                  <a:cubicBezTo>
                    <a:pt x="103" y="372"/>
                    <a:pt x="84" y="417"/>
                    <a:pt x="110" y="437"/>
                  </a:cubicBezTo>
                  <a:cubicBezTo>
                    <a:pt x="145" y="464"/>
                    <a:pt x="198" y="440"/>
                    <a:pt x="241" y="448"/>
                  </a:cubicBezTo>
                  <a:cubicBezTo>
                    <a:pt x="265" y="453"/>
                    <a:pt x="284" y="472"/>
                    <a:pt x="307" y="480"/>
                  </a:cubicBezTo>
                  <a:cubicBezTo>
                    <a:pt x="318" y="476"/>
                    <a:pt x="331" y="476"/>
                    <a:pt x="340" y="469"/>
                  </a:cubicBezTo>
                  <a:cubicBezTo>
                    <a:pt x="396" y="425"/>
                    <a:pt x="323" y="445"/>
                    <a:pt x="372" y="382"/>
                  </a:cubicBezTo>
                  <a:cubicBezTo>
                    <a:pt x="388" y="361"/>
                    <a:pt x="438" y="339"/>
                    <a:pt x="438" y="339"/>
                  </a:cubicBezTo>
                  <a:cubicBezTo>
                    <a:pt x="445" y="317"/>
                    <a:pt x="464" y="296"/>
                    <a:pt x="460" y="273"/>
                  </a:cubicBezTo>
                  <a:cubicBezTo>
                    <a:pt x="451" y="218"/>
                    <a:pt x="453" y="149"/>
                    <a:pt x="427" y="99"/>
                  </a:cubicBezTo>
                  <a:cubicBezTo>
                    <a:pt x="421" y="87"/>
                    <a:pt x="411" y="78"/>
                    <a:pt x="405" y="66"/>
                  </a:cubicBezTo>
                  <a:cubicBezTo>
                    <a:pt x="400" y="56"/>
                    <a:pt x="401" y="42"/>
                    <a:pt x="394" y="33"/>
                  </a:cubicBezTo>
                  <a:cubicBezTo>
                    <a:pt x="379" y="14"/>
                    <a:pt x="350" y="7"/>
                    <a:pt x="329" y="0"/>
                  </a:cubicBezTo>
                  <a:cubicBezTo>
                    <a:pt x="291" y="8"/>
                    <a:pt x="269" y="5"/>
                    <a:pt x="241" y="33"/>
                  </a:cubicBezTo>
                  <a:cubicBezTo>
                    <a:pt x="232" y="42"/>
                    <a:pt x="230" y="58"/>
                    <a:pt x="220" y="66"/>
                  </a:cubicBezTo>
                  <a:cubicBezTo>
                    <a:pt x="211" y="73"/>
                    <a:pt x="197" y="72"/>
                    <a:pt x="187" y="77"/>
                  </a:cubicBezTo>
                  <a:cubicBezTo>
                    <a:pt x="175" y="83"/>
                    <a:pt x="166" y="93"/>
                    <a:pt x="154" y="99"/>
                  </a:cubicBezTo>
                  <a:cubicBezTo>
                    <a:pt x="123" y="114"/>
                    <a:pt x="56" y="131"/>
                    <a:pt x="56" y="131"/>
                  </a:cubicBezTo>
                  <a:cubicBezTo>
                    <a:pt x="51" y="138"/>
                    <a:pt x="0" y="197"/>
                    <a:pt x="34" y="197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03480" y="1156320"/>
              <a:ext cx="597600" cy="1027800"/>
            </a:xfrm>
            <a:custGeom>
              <a:avLst/>
              <a:gdLst/>
              <a:ahLst/>
              <a:rect l="l" t="t" r="r" b="b"/>
              <a:pathLst>
                <a:path w="502" h="858">
                  <a:moveTo>
                    <a:pt x="44" y="171"/>
                  </a:moveTo>
                  <a:cubicBezTo>
                    <a:pt x="34" y="221"/>
                    <a:pt x="28" y="249"/>
                    <a:pt x="0" y="291"/>
                  </a:cubicBezTo>
                  <a:cubicBezTo>
                    <a:pt x="4" y="451"/>
                    <a:pt x="4" y="611"/>
                    <a:pt x="11" y="771"/>
                  </a:cubicBezTo>
                  <a:cubicBezTo>
                    <a:pt x="13" y="810"/>
                    <a:pt x="88" y="858"/>
                    <a:pt x="88" y="858"/>
                  </a:cubicBezTo>
                  <a:cubicBezTo>
                    <a:pt x="129" y="851"/>
                    <a:pt x="156" y="855"/>
                    <a:pt x="186" y="826"/>
                  </a:cubicBezTo>
                  <a:cubicBezTo>
                    <a:pt x="195" y="817"/>
                    <a:pt x="197" y="800"/>
                    <a:pt x="208" y="793"/>
                  </a:cubicBezTo>
                  <a:cubicBezTo>
                    <a:pt x="253" y="764"/>
                    <a:pt x="331" y="756"/>
                    <a:pt x="382" y="749"/>
                  </a:cubicBezTo>
                  <a:cubicBezTo>
                    <a:pt x="440" y="730"/>
                    <a:pt x="452" y="691"/>
                    <a:pt x="469" y="640"/>
                  </a:cubicBezTo>
                  <a:cubicBezTo>
                    <a:pt x="444" y="543"/>
                    <a:pt x="440" y="530"/>
                    <a:pt x="458" y="400"/>
                  </a:cubicBezTo>
                  <a:cubicBezTo>
                    <a:pt x="461" y="377"/>
                    <a:pt x="475" y="357"/>
                    <a:pt x="480" y="335"/>
                  </a:cubicBezTo>
                  <a:cubicBezTo>
                    <a:pt x="487" y="299"/>
                    <a:pt x="502" y="226"/>
                    <a:pt x="502" y="226"/>
                  </a:cubicBezTo>
                  <a:cubicBezTo>
                    <a:pt x="498" y="186"/>
                    <a:pt x="497" y="146"/>
                    <a:pt x="491" y="106"/>
                  </a:cubicBezTo>
                  <a:cubicBezTo>
                    <a:pt x="489" y="95"/>
                    <a:pt x="489" y="80"/>
                    <a:pt x="480" y="73"/>
                  </a:cubicBezTo>
                  <a:cubicBezTo>
                    <a:pt x="469" y="64"/>
                    <a:pt x="451" y="66"/>
                    <a:pt x="437" y="62"/>
                  </a:cubicBezTo>
                  <a:cubicBezTo>
                    <a:pt x="378" y="44"/>
                    <a:pt x="322" y="22"/>
                    <a:pt x="262" y="7"/>
                  </a:cubicBezTo>
                  <a:cubicBezTo>
                    <a:pt x="222" y="12"/>
                    <a:pt x="171" y="0"/>
                    <a:pt x="142" y="29"/>
                  </a:cubicBezTo>
                  <a:cubicBezTo>
                    <a:pt x="9" y="162"/>
                    <a:pt x="160" y="52"/>
                    <a:pt x="66" y="117"/>
                  </a:cubicBezTo>
                  <a:cubicBezTo>
                    <a:pt x="40" y="155"/>
                    <a:pt x="44" y="136"/>
                    <a:pt x="44" y="171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71240" y="1201680"/>
              <a:ext cx="727560" cy="1060200"/>
            </a:xfrm>
            <a:custGeom>
              <a:avLst/>
              <a:gdLst/>
              <a:ahLst/>
              <a:rect l="l" t="t" r="r" b="b"/>
              <a:pathLst>
                <a:path w="611" h="885">
                  <a:moveTo>
                    <a:pt x="153" y="753"/>
                  </a:moveTo>
                  <a:cubicBezTo>
                    <a:pt x="192" y="870"/>
                    <a:pt x="128" y="844"/>
                    <a:pt x="295" y="829"/>
                  </a:cubicBezTo>
                  <a:cubicBezTo>
                    <a:pt x="386" y="837"/>
                    <a:pt x="451" y="835"/>
                    <a:pt x="524" y="884"/>
                  </a:cubicBezTo>
                  <a:cubicBezTo>
                    <a:pt x="550" y="880"/>
                    <a:pt x="578" y="885"/>
                    <a:pt x="601" y="873"/>
                  </a:cubicBezTo>
                  <a:cubicBezTo>
                    <a:pt x="611" y="868"/>
                    <a:pt x="611" y="851"/>
                    <a:pt x="611" y="840"/>
                  </a:cubicBezTo>
                  <a:cubicBezTo>
                    <a:pt x="611" y="749"/>
                    <a:pt x="610" y="658"/>
                    <a:pt x="601" y="568"/>
                  </a:cubicBezTo>
                  <a:cubicBezTo>
                    <a:pt x="599" y="545"/>
                    <a:pt x="586" y="524"/>
                    <a:pt x="579" y="502"/>
                  </a:cubicBezTo>
                  <a:cubicBezTo>
                    <a:pt x="575" y="491"/>
                    <a:pt x="568" y="469"/>
                    <a:pt x="568" y="469"/>
                  </a:cubicBezTo>
                  <a:cubicBezTo>
                    <a:pt x="564" y="433"/>
                    <a:pt x="565" y="396"/>
                    <a:pt x="557" y="360"/>
                  </a:cubicBezTo>
                  <a:cubicBezTo>
                    <a:pt x="554" y="347"/>
                    <a:pt x="537" y="341"/>
                    <a:pt x="535" y="328"/>
                  </a:cubicBezTo>
                  <a:cubicBezTo>
                    <a:pt x="514" y="211"/>
                    <a:pt x="544" y="189"/>
                    <a:pt x="491" y="109"/>
                  </a:cubicBezTo>
                  <a:cubicBezTo>
                    <a:pt x="484" y="87"/>
                    <a:pt x="489" y="57"/>
                    <a:pt x="470" y="44"/>
                  </a:cubicBezTo>
                  <a:cubicBezTo>
                    <a:pt x="448" y="29"/>
                    <a:pt x="404" y="0"/>
                    <a:pt x="404" y="0"/>
                  </a:cubicBezTo>
                  <a:cubicBezTo>
                    <a:pt x="307" y="14"/>
                    <a:pt x="351" y="3"/>
                    <a:pt x="262" y="33"/>
                  </a:cubicBezTo>
                  <a:cubicBezTo>
                    <a:pt x="251" y="37"/>
                    <a:pt x="230" y="44"/>
                    <a:pt x="230" y="44"/>
                  </a:cubicBezTo>
                  <a:cubicBezTo>
                    <a:pt x="147" y="23"/>
                    <a:pt x="125" y="17"/>
                    <a:pt x="44" y="44"/>
                  </a:cubicBezTo>
                  <a:cubicBezTo>
                    <a:pt x="0" y="175"/>
                    <a:pt x="29" y="362"/>
                    <a:pt x="110" y="480"/>
                  </a:cubicBezTo>
                  <a:cubicBezTo>
                    <a:pt x="121" y="559"/>
                    <a:pt x="132" y="628"/>
                    <a:pt x="142" y="709"/>
                  </a:cubicBezTo>
                  <a:cubicBezTo>
                    <a:pt x="154" y="802"/>
                    <a:pt x="153" y="776"/>
                    <a:pt x="153" y="753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00440" y="1316880"/>
              <a:ext cx="570240" cy="455040"/>
            </a:xfrm>
            <a:custGeom>
              <a:avLst/>
              <a:gdLst/>
              <a:ahLst/>
              <a:rect l="l" t="t" r="r" b="b"/>
              <a:pathLst>
                <a:path w="479" h="380">
                  <a:moveTo>
                    <a:pt x="151" y="44"/>
                  </a:moveTo>
                  <a:cubicBezTo>
                    <a:pt x="129" y="51"/>
                    <a:pt x="108" y="59"/>
                    <a:pt x="86" y="66"/>
                  </a:cubicBezTo>
                  <a:cubicBezTo>
                    <a:pt x="75" y="70"/>
                    <a:pt x="53" y="76"/>
                    <a:pt x="53" y="76"/>
                  </a:cubicBezTo>
                  <a:cubicBezTo>
                    <a:pt x="16" y="132"/>
                    <a:pt x="0" y="155"/>
                    <a:pt x="64" y="196"/>
                  </a:cubicBezTo>
                  <a:cubicBezTo>
                    <a:pt x="68" y="207"/>
                    <a:pt x="75" y="217"/>
                    <a:pt x="75" y="229"/>
                  </a:cubicBezTo>
                  <a:cubicBezTo>
                    <a:pt x="75" y="266"/>
                    <a:pt x="42" y="321"/>
                    <a:pt x="108" y="338"/>
                  </a:cubicBezTo>
                  <a:cubicBezTo>
                    <a:pt x="140" y="346"/>
                    <a:pt x="173" y="345"/>
                    <a:pt x="206" y="349"/>
                  </a:cubicBezTo>
                  <a:cubicBezTo>
                    <a:pt x="299" y="380"/>
                    <a:pt x="248" y="374"/>
                    <a:pt x="359" y="360"/>
                  </a:cubicBezTo>
                  <a:cubicBezTo>
                    <a:pt x="416" y="341"/>
                    <a:pt x="385" y="358"/>
                    <a:pt x="435" y="284"/>
                  </a:cubicBezTo>
                  <a:cubicBezTo>
                    <a:pt x="442" y="273"/>
                    <a:pt x="453" y="264"/>
                    <a:pt x="457" y="251"/>
                  </a:cubicBezTo>
                  <a:cubicBezTo>
                    <a:pt x="464" y="229"/>
                    <a:pt x="479" y="186"/>
                    <a:pt x="479" y="186"/>
                  </a:cubicBezTo>
                  <a:cubicBezTo>
                    <a:pt x="475" y="139"/>
                    <a:pt x="474" y="91"/>
                    <a:pt x="468" y="44"/>
                  </a:cubicBezTo>
                  <a:cubicBezTo>
                    <a:pt x="467" y="32"/>
                    <a:pt x="467" y="17"/>
                    <a:pt x="457" y="11"/>
                  </a:cubicBezTo>
                  <a:cubicBezTo>
                    <a:pt x="438" y="0"/>
                    <a:pt x="413" y="4"/>
                    <a:pt x="391" y="0"/>
                  </a:cubicBezTo>
                  <a:cubicBezTo>
                    <a:pt x="322" y="6"/>
                    <a:pt x="262" y="10"/>
                    <a:pt x="195" y="22"/>
                  </a:cubicBezTo>
                  <a:cubicBezTo>
                    <a:pt x="147" y="31"/>
                    <a:pt x="151" y="19"/>
                    <a:pt x="151" y="44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14400" y="1087920"/>
              <a:ext cx="2514600" cy="2874240"/>
            </a:xfrm>
            <a:custGeom>
              <a:avLst/>
              <a:gdLst/>
              <a:ahLst/>
              <a:rect l="l" t="t" r="r" b="b"/>
              <a:pathLst>
                <a:path w="2381" h="2184">
                  <a:moveTo>
                    <a:pt x="36" y="417"/>
                  </a:moveTo>
                  <a:cubicBezTo>
                    <a:pt x="17" y="472"/>
                    <a:pt x="10" y="521"/>
                    <a:pt x="3" y="580"/>
                  </a:cubicBezTo>
                  <a:cubicBezTo>
                    <a:pt x="10" y="656"/>
                    <a:pt x="0" y="752"/>
                    <a:pt x="68" y="799"/>
                  </a:cubicBezTo>
                  <a:cubicBezTo>
                    <a:pt x="83" y="821"/>
                    <a:pt x="97" y="842"/>
                    <a:pt x="112" y="864"/>
                  </a:cubicBezTo>
                  <a:cubicBezTo>
                    <a:pt x="119" y="875"/>
                    <a:pt x="134" y="897"/>
                    <a:pt x="134" y="897"/>
                  </a:cubicBezTo>
                  <a:cubicBezTo>
                    <a:pt x="158" y="1089"/>
                    <a:pt x="213" y="1290"/>
                    <a:pt x="297" y="1464"/>
                  </a:cubicBezTo>
                  <a:cubicBezTo>
                    <a:pt x="336" y="1545"/>
                    <a:pt x="373" y="1631"/>
                    <a:pt x="450" y="1682"/>
                  </a:cubicBezTo>
                  <a:cubicBezTo>
                    <a:pt x="501" y="1759"/>
                    <a:pt x="472" y="1734"/>
                    <a:pt x="527" y="1769"/>
                  </a:cubicBezTo>
                  <a:cubicBezTo>
                    <a:pt x="551" y="1849"/>
                    <a:pt x="515" y="1756"/>
                    <a:pt x="570" y="1824"/>
                  </a:cubicBezTo>
                  <a:cubicBezTo>
                    <a:pt x="631" y="1900"/>
                    <a:pt x="519" y="1816"/>
                    <a:pt x="614" y="1879"/>
                  </a:cubicBezTo>
                  <a:cubicBezTo>
                    <a:pt x="636" y="1942"/>
                    <a:pt x="608" y="1884"/>
                    <a:pt x="657" y="1933"/>
                  </a:cubicBezTo>
                  <a:cubicBezTo>
                    <a:pt x="666" y="1942"/>
                    <a:pt x="669" y="1957"/>
                    <a:pt x="679" y="1966"/>
                  </a:cubicBezTo>
                  <a:cubicBezTo>
                    <a:pt x="797" y="2068"/>
                    <a:pt x="702" y="1978"/>
                    <a:pt x="777" y="2020"/>
                  </a:cubicBezTo>
                  <a:cubicBezTo>
                    <a:pt x="800" y="2033"/>
                    <a:pt x="824" y="2045"/>
                    <a:pt x="843" y="2064"/>
                  </a:cubicBezTo>
                  <a:cubicBezTo>
                    <a:pt x="854" y="2075"/>
                    <a:pt x="862" y="2089"/>
                    <a:pt x="876" y="2097"/>
                  </a:cubicBezTo>
                  <a:cubicBezTo>
                    <a:pt x="896" y="2108"/>
                    <a:pt x="919" y="2112"/>
                    <a:pt x="941" y="2119"/>
                  </a:cubicBezTo>
                  <a:cubicBezTo>
                    <a:pt x="974" y="2130"/>
                    <a:pt x="1006" y="2140"/>
                    <a:pt x="1039" y="2151"/>
                  </a:cubicBezTo>
                  <a:cubicBezTo>
                    <a:pt x="1050" y="2155"/>
                    <a:pt x="1061" y="2158"/>
                    <a:pt x="1072" y="2162"/>
                  </a:cubicBezTo>
                  <a:cubicBezTo>
                    <a:pt x="1083" y="2166"/>
                    <a:pt x="1105" y="2173"/>
                    <a:pt x="1105" y="2173"/>
                  </a:cubicBezTo>
                  <a:cubicBezTo>
                    <a:pt x="1174" y="2169"/>
                    <a:pt x="1251" y="2184"/>
                    <a:pt x="1312" y="2151"/>
                  </a:cubicBezTo>
                  <a:cubicBezTo>
                    <a:pt x="1315" y="2149"/>
                    <a:pt x="1392" y="2098"/>
                    <a:pt x="1410" y="2086"/>
                  </a:cubicBezTo>
                  <a:cubicBezTo>
                    <a:pt x="1421" y="2079"/>
                    <a:pt x="1443" y="2064"/>
                    <a:pt x="1443" y="2064"/>
                  </a:cubicBezTo>
                  <a:cubicBezTo>
                    <a:pt x="1450" y="2053"/>
                    <a:pt x="1456" y="2040"/>
                    <a:pt x="1465" y="2031"/>
                  </a:cubicBezTo>
                  <a:cubicBezTo>
                    <a:pt x="1474" y="2022"/>
                    <a:pt x="1490" y="2020"/>
                    <a:pt x="1497" y="2009"/>
                  </a:cubicBezTo>
                  <a:cubicBezTo>
                    <a:pt x="1519" y="1973"/>
                    <a:pt x="1509" y="1939"/>
                    <a:pt x="1541" y="1911"/>
                  </a:cubicBezTo>
                  <a:cubicBezTo>
                    <a:pt x="1561" y="1894"/>
                    <a:pt x="1607" y="1868"/>
                    <a:pt x="1607" y="1868"/>
                  </a:cubicBezTo>
                  <a:cubicBezTo>
                    <a:pt x="1655" y="1794"/>
                    <a:pt x="1702" y="1719"/>
                    <a:pt x="1737" y="1639"/>
                  </a:cubicBezTo>
                  <a:cubicBezTo>
                    <a:pt x="1774" y="1554"/>
                    <a:pt x="1774" y="1442"/>
                    <a:pt x="1857" y="1388"/>
                  </a:cubicBezTo>
                  <a:cubicBezTo>
                    <a:pt x="1881" y="1315"/>
                    <a:pt x="1848" y="1393"/>
                    <a:pt x="1901" y="1333"/>
                  </a:cubicBezTo>
                  <a:cubicBezTo>
                    <a:pt x="1928" y="1302"/>
                    <a:pt x="1952" y="1268"/>
                    <a:pt x="1977" y="1235"/>
                  </a:cubicBezTo>
                  <a:cubicBezTo>
                    <a:pt x="1993" y="1214"/>
                    <a:pt x="2006" y="1191"/>
                    <a:pt x="2021" y="1169"/>
                  </a:cubicBezTo>
                  <a:cubicBezTo>
                    <a:pt x="2028" y="1158"/>
                    <a:pt x="2043" y="1137"/>
                    <a:pt x="2043" y="1137"/>
                  </a:cubicBezTo>
                  <a:cubicBezTo>
                    <a:pt x="2069" y="1059"/>
                    <a:pt x="2052" y="1090"/>
                    <a:pt x="2087" y="1039"/>
                  </a:cubicBezTo>
                  <a:cubicBezTo>
                    <a:pt x="2118" y="938"/>
                    <a:pt x="2071" y="1079"/>
                    <a:pt x="2119" y="973"/>
                  </a:cubicBezTo>
                  <a:cubicBezTo>
                    <a:pt x="2128" y="952"/>
                    <a:pt x="2141" y="908"/>
                    <a:pt x="2141" y="908"/>
                  </a:cubicBezTo>
                  <a:cubicBezTo>
                    <a:pt x="2145" y="875"/>
                    <a:pt x="2136" y="838"/>
                    <a:pt x="2152" y="809"/>
                  </a:cubicBezTo>
                  <a:cubicBezTo>
                    <a:pt x="2164" y="786"/>
                    <a:pt x="2217" y="766"/>
                    <a:pt x="2217" y="766"/>
                  </a:cubicBezTo>
                  <a:cubicBezTo>
                    <a:pt x="2232" y="744"/>
                    <a:pt x="2246" y="722"/>
                    <a:pt x="2261" y="700"/>
                  </a:cubicBezTo>
                  <a:cubicBezTo>
                    <a:pt x="2268" y="689"/>
                    <a:pt x="2283" y="668"/>
                    <a:pt x="2283" y="668"/>
                  </a:cubicBezTo>
                  <a:cubicBezTo>
                    <a:pt x="2309" y="589"/>
                    <a:pt x="2292" y="621"/>
                    <a:pt x="2327" y="569"/>
                  </a:cubicBezTo>
                  <a:cubicBezTo>
                    <a:pt x="2340" y="529"/>
                    <a:pt x="2347" y="507"/>
                    <a:pt x="2359" y="471"/>
                  </a:cubicBezTo>
                  <a:cubicBezTo>
                    <a:pt x="2363" y="460"/>
                    <a:pt x="2366" y="450"/>
                    <a:pt x="2370" y="439"/>
                  </a:cubicBezTo>
                  <a:cubicBezTo>
                    <a:pt x="2374" y="428"/>
                    <a:pt x="2381" y="406"/>
                    <a:pt x="2381" y="406"/>
                  </a:cubicBezTo>
                  <a:cubicBezTo>
                    <a:pt x="2368" y="306"/>
                    <a:pt x="2337" y="197"/>
                    <a:pt x="2305" y="100"/>
                  </a:cubicBezTo>
                  <a:cubicBezTo>
                    <a:pt x="2219" y="228"/>
                    <a:pt x="2334" y="351"/>
                    <a:pt x="2185" y="449"/>
                  </a:cubicBezTo>
                  <a:cubicBezTo>
                    <a:pt x="2126" y="537"/>
                    <a:pt x="2203" y="431"/>
                    <a:pt x="2130" y="504"/>
                  </a:cubicBezTo>
                  <a:cubicBezTo>
                    <a:pt x="2080" y="554"/>
                    <a:pt x="2139" y="526"/>
                    <a:pt x="2076" y="548"/>
                  </a:cubicBezTo>
                  <a:cubicBezTo>
                    <a:pt x="2025" y="624"/>
                    <a:pt x="2054" y="598"/>
                    <a:pt x="1999" y="635"/>
                  </a:cubicBezTo>
                  <a:cubicBezTo>
                    <a:pt x="1975" y="706"/>
                    <a:pt x="1921" y="769"/>
                    <a:pt x="1879" y="831"/>
                  </a:cubicBezTo>
                  <a:cubicBezTo>
                    <a:pt x="1872" y="841"/>
                    <a:pt x="1902" y="825"/>
                    <a:pt x="1912" y="820"/>
                  </a:cubicBezTo>
                  <a:cubicBezTo>
                    <a:pt x="1924" y="814"/>
                    <a:pt x="1934" y="806"/>
                    <a:pt x="1945" y="799"/>
                  </a:cubicBezTo>
                  <a:cubicBezTo>
                    <a:pt x="1974" y="802"/>
                    <a:pt x="2005" y="797"/>
                    <a:pt x="2032" y="809"/>
                  </a:cubicBezTo>
                  <a:cubicBezTo>
                    <a:pt x="2052" y="818"/>
                    <a:pt x="2041" y="866"/>
                    <a:pt x="2032" y="875"/>
                  </a:cubicBezTo>
                  <a:cubicBezTo>
                    <a:pt x="2024" y="883"/>
                    <a:pt x="2010" y="882"/>
                    <a:pt x="1999" y="886"/>
                  </a:cubicBezTo>
                  <a:cubicBezTo>
                    <a:pt x="1962" y="941"/>
                    <a:pt x="1902" y="958"/>
                    <a:pt x="1847" y="995"/>
                  </a:cubicBezTo>
                  <a:cubicBezTo>
                    <a:pt x="1836" y="1002"/>
                    <a:pt x="1825" y="1010"/>
                    <a:pt x="1814" y="1017"/>
                  </a:cubicBezTo>
                  <a:cubicBezTo>
                    <a:pt x="1803" y="1024"/>
                    <a:pt x="1781" y="1039"/>
                    <a:pt x="1781" y="1039"/>
                  </a:cubicBezTo>
                  <a:cubicBezTo>
                    <a:pt x="1774" y="1050"/>
                    <a:pt x="1768" y="1062"/>
                    <a:pt x="1759" y="1071"/>
                  </a:cubicBezTo>
                  <a:cubicBezTo>
                    <a:pt x="1750" y="1080"/>
                    <a:pt x="1735" y="1083"/>
                    <a:pt x="1727" y="1093"/>
                  </a:cubicBezTo>
                  <a:cubicBezTo>
                    <a:pt x="1720" y="1102"/>
                    <a:pt x="1721" y="1116"/>
                    <a:pt x="1716" y="1126"/>
                  </a:cubicBezTo>
                  <a:cubicBezTo>
                    <a:pt x="1687" y="1183"/>
                    <a:pt x="1661" y="1242"/>
                    <a:pt x="1607" y="1279"/>
                  </a:cubicBezTo>
                  <a:cubicBezTo>
                    <a:pt x="1589" y="1306"/>
                    <a:pt x="1561" y="1347"/>
                    <a:pt x="1541" y="1377"/>
                  </a:cubicBezTo>
                  <a:cubicBezTo>
                    <a:pt x="1534" y="1388"/>
                    <a:pt x="1519" y="1409"/>
                    <a:pt x="1519" y="1409"/>
                  </a:cubicBezTo>
                  <a:cubicBezTo>
                    <a:pt x="1480" y="1526"/>
                    <a:pt x="1541" y="1352"/>
                    <a:pt x="1487" y="1475"/>
                  </a:cubicBezTo>
                  <a:cubicBezTo>
                    <a:pt x="1454" y="1549"/>
                    <a:pt x="1451" y="1613"/>
                    <a:pt x="1377" y="1660"/>
                  </a:cubicBezTo>
                  <a:cubicBezTo>
                    <a:pt x="1358" y="1723"/>
                    <a:pt x="1383" y="1666"/>
                    <a:pt x="1334" y="1715"/>
                  </a:cubicBezTo>
                  <a:cubicBezTo>
                    <a:pt x="1325" y="1724"/>
                    <a:pt x="1323" y="1741"/>
                    <a:pt x="1312" y="1748"/>
                  </a:cubicBezTo>
                  <a:cubicBezTo>
                    <a:pt x="1293" y="1760"/>
                    <a:pt x="1247" y="1769"/>
                    <a:pt x="1247" y="1769"/>
                  </a:cubicBezTo>
                  <a:cubicBezTo>
                    <a:pt x="1236" y="1766"/>
                    <a:pt x="1222" y="1767"/>
                    <a:pt x="1214" y="1759"/>
                  </a:cubicBezTo>
                  <a:cubicBezTo>
                    <a:pt x="1206" y="1751"/>
                    <a:pt x="1204" y="1738"/>
                    <a:pt x="1203" y="1726"/>
                  </a:cubicBezTo>
                  <a:cubicBezTo>
                    <a:pt x="1196" y="1624"/>
                    <a:pt x="1201" y="1522"/>
                    <a:pt x="1192" y="1420"/>
                  </a:cubicBezTo>
                  <a:cubicBezTo>
                    <a:pt x="1186" y="1353"/>
                    <a:pt x="1142" y="1280"/>
                    <a:pt x="1127" y="1213"/>
                  </a:cubicBezTo>
                  <a:cubicBezTo>
                    <a:pt x="1142" y="1064"/>
                    <a:pt x="1165" y="915"/>
                    <a:pt x="1181" y="766"/>
                  </a:cubicBezTo>
                  <a:cubicBezTo>
                    <a:pt x="1203" y="553"/>
                    <a:pt x="1183" y="629"/>
                    <a:pt x="1225" y="504"/>
                  </a:cubicBezTo>
                  <a:cubicBezTo>
                    <a:pt x="1233" y="479"/>
                    <a:pt x="1290" y="460"/>
                    <a:pt x="1290" y="460"/>
                  </a:cubicBezTo>
                  <a:cubicBezTo>
                    <a:pt x="1243" y="444"/>
                    <a:pt x="1239" y="465"/>
                    <a:pt x="1192" y="449"/>
                  </a:cubicBezTo>
                  <a:cubicBezTo>
                    <a:pt x="1156" y="308"/>
                    <a:pt x="1234" y="147"/>
                    <a:pt x="1279" y="13"/>
                  </a:cubicBezTo>
                  <a:cubicBezTo>
                    <a:pt x="1283" y="0"/>
                    <a:pt x="1264" y="35"/>
                    <a:pt x="1257" y="46"/>
                  </a:cubicBezTo>
                  <a:cubicBezTo>
                    <a:pt x="1242" y="96"/>
                    <a:pt x="1210" y="134"/>
                    <a:pt x="1181" y="177"/>
                  </a:cubicBezTo>
                  <a:cubicBezTo>
                    <a:pt x="1174" y="188"/>
                    <a:pt x="1166" y="198"/>
                    <a:pt x="1159" y="209"/>
                  </a:cubicBezTo>
                  <a:cubicBezTo>
                    <a:pt x="1152" y="220"/>
                    <a:pt x="1137" y="242"/>
                    <a:pt x="1137" y="242"/>
                  </a:cubicBezTo>
                  <a:cubicBezTo>
                    <a:pt x="1123" y="289"/>
                    <a:pt x="1099" y="326"/>
                    <a:pt x="1083" y="373"/>
                  </a:cubicBezTo>
                  <a:cubicBezTo>
                    <a:pt x="1079" y="384"/>
                    <a:pt x="1076" y="395"/>
                    <a:pt x="1072" y="406"/>
                  </a:cubicBezTo>
                  <a:cubicBezTo>
                    <a:pt x="1068" y="417"/>
                    <a:pt x="1061" y="439"/>
                    <a:pt x="1061" y="439"/>
                  </a:cubicBezTo>
                  <a:cubicBezTo>
                    <a:pt x="1052" y="323"/>
                    <a:pt x="1042" y="150"/>
                    <a:pt x="930" y="79"/>
                  </a:cubicBezTo>
                  <a:cubicBezTo>
                    <a:pt x="926" y="66"/>
                    <a:pt x="917" y="16"/>
                    <a:pt x="887" y="24"/>
                  </a:cubicBezTo>
                  <a:cubicBezTo>
                    <a:pt x="876" y="27"/>
                    <a:pt x="880" y="46"/>
                    <a:pt x="876" y="57"/>
                  </a:cubicBezTo>
                  <a:cubicBezTo>
                    <a:pt x="880" y="68"/>
                    <a:pt x="882" y="79"/>
                    <a:pt x="887" y="89"/>
                  </a:cubicBezTo>
                  <a:cubicBezTo>
                    <a:pt x="893" y="101"/>
                    <a:pt x="903" y="110"/>
                    <a:pt x="908" y="122"/>
                  </a:cubicBezTo>
                  <a:cubicBezTo>
                    <a:pt x="932" y="177"/>
                    <a:pt x="926" y="181"/>
                    <a:pt x="941" y="231"/>
                  </a:cubicBezTo>
                  <a:cubicBezTo>
                    <a:pt x="964" y="308"/>
                    <a:pt x="993" y="383"/>
                    <a:pt x="1017" y="460"/>
                  </a:cubicBezTo>
                  <a:cubicBezTo>
                    <a:pt x="1018" y="463"/>
                    <a:pt x="945" y="440"/>
                    <a:pt x="941" y="439"/>
                  </a:cubicBezTo>
                  <a:cubicBezTo>
                    <a:pt x="930" y="442"/>
                    <a:pt x="908" y="438"/>
                    <a:pt x="908" y="449"/>
                  </a:cubicBezTo>
                  <a:cubicBezTo>
                    <a:pt x="908" y="462"/>
                    <a:pt x="932" y="461"/>
                    <a:pt x="941" y="471"/>
                  </a:cubicBezTo>
                  <a:cubicBezTo>
                    <a:pt x="980" y="515"/>
                    <a:pt x="1020" y="578"/>
                    <a:pt x="1039" y="635"/>
                  </a:cubicBezTo>
                  <a:cubicBezTo>
                    <a:pt x="1029" y="701"/>
                    <a:pt x="1016" y="765"/>
                    <a:pt x="1007" y="831"/>
                  </a:cubicBezTo>
                  <a:cubicBezTo>
                    <a:pt x="1010" y="955"/>
                    <a:pt x="1011" y="1078"/>
                    <a:pt x="1017" y="1202"/>
                  </a:cubicBezTo>
                  <a:cubicBezTo>
                    <a:pt x="1018" y="1216"/>
                    <a:pt x="1034" y="1283"/>
                    <a:pt x="1039" y="1300"/>
                  </a:cubicBezTo>
                  <a:cubicBezTo>
                    <a:pt x="1046" y="1322"/>
                    <a:pt x="1054" y="1344"/>
                    <a:pt x="1061" y="1366"/>
                  </a:cubicBezTo>
                  <a:cubicBezTo>
                    <a:pt x="1065" y="1377"/>
                    <a:pt x="1072" y="1399"/>
                    <a:pt x="1072" y="1399"/>
                  </a:cubicBezTo>
                  <a:cubicBezTo>
                    <a:pt x="1064" y="1606"/>
                    <a:pt x="1135" y="1656"/>
                    <a:pt x="996" y="1704"/>
                  </a:cubicBezTo>
                  <a:cubicBezTo>
                    <a:pt x="956" y="1696"/>
                    <a:pt x="902" y="1691"/>
                    <a:pt x="865" y="1671"/>
                  </a:cubicBezTo>
                  <a:cubicBezTo>
                    <a:pt x="842" y="1658"/>
                    <a:pt x="799" y="1628"/>
                    <a:pt x="799" y="1628"/>
                  </a:cubicBezTo>
                  <a:cubicBezTo>
                    <a:pt x="795" y="1621"/>
                    <a:pt x="727" y="1507"/>
                    <a:pt x="712" y="1497"/>
                  </a:cubicBezTo>
                  <a:cubicBezTo>
                    <a:pt x="690" y="1482"/>
                    <a:pt x="672" y="1461"/>
                    <a:pt x="647" y="1453"/>
                  </a:cubicBezTo>
                  <a:cubicBezTo>
                    <a:pt x="636" y="1449"/>
                    <a:pt x="624" y="1447"/>
                    <a:pt x="614" y="1442"/>
                  </a:cubicBezTo>
                  <a:cubicBezTo>
                    <a:pt x="592" y="1431"/>
                    <a:pt x="570" y="1421"/>
                    <a:pt x="548" y="1409"/>
                  </a:cubicBezTo>
                  <a:cubicBezTo>
                    <a:pt x="525" y="1396"/>
                    <a:pt x="483" y="1366"/>
                    <a:pt x="483" y="1366"/>
                  </a:cubicBezTo>
                  <a:cubicBezTo>
                    <a:pt x="476" y="1355"/>
                    <a:pt x="469" y="1343"/>
                    <a:pt x="461" y="1333"/>
                  </a:cubicBezTo>
                  <a:cubicBezTo>
                    <a:pt x="451" y="1321"/>
                    <a:pt x="437" y="1313"/>
                    <a:pt x="428" y="1300"/>
                  </a:cubicBezTo>
                  <a:cubicBezTo>
                    <a:pt x="422" y="1291"/>
                    <a:pt x="422" y="1278"/>
                    <a:pt x="417" y="1268"/>
                  </a:cubicBezTo>
                  <a:cubicBezTo>
                    <a:pt x="386" y="1211"/>
                    <a:pt x="344" y="1159"/>
                    <a:pt x="308" y="1104"/>
                  </a:cubicBezTo>
                  <a:cubicBezTo>
                    <a:pt x="276" y="1054"/>
                    <a:pt x="289" y="1079"/>
                    <a:pt x="265" y="1006"/>
                  </a:cubicBezTo>
                  <a:cubicBezTo>
                    <a:pt x="261" y="995"/>
                    <a:pt x="254" y="973"/>
                    <a:pt x="254" y="973"/>
                  </a:cubicBezTo>
                  <a:cubicBezTo>
                    <a:pt x="265" y="884"/>
                    <a:pt x="249" y="852"/>
                    <a:pt x="341" y="875"/>
                  </a:cubicBezTo>
                  <a:cubicBezTo>
                    <a:pt x="352" y="882"/>
                    <a:pt x="365" y="888"/>
                    <a:pt x="374" y="897"/>
                  </a:cubicBezTo>
                  <a:cubicBezTo>
                    <a:pt x="383" y="906"/>
                    <a:pt x="396" y="942"/>
                    <a:pt x="396" y="929"/>
                  </a:cubicBezTo>
                  <a:cubicBezTo>
                    <a:pt x="396" y="906"/>
                    <a:pt x="381" y="886"/>
                    <a:pt x="374" y="864"/>
                  </a:cubicBezTo>
                  <a:cubicBezTo>
                    <a:pt x="356" y="810"/>
                    <a:pt x="357" y="775"/>
                    <a:pt x="297" y="755"/>
                  </a:cubicBezTo>
                  <a:cubicBezTo>
                    <a:pt x="275" y="740"/>
                    <a:pt x="254" y="726"/>
                    <a:pt x="232" y="711"/>
                  </a:cubicBezTo>
                  <a:cubicBezTo>
                    <a:pt x="221" y="704"/>
                    <a:pt x="199" y="689"/>
                    <a:pt x="199" y="689"/>
                  </a:cubicBezTo>
                  <a:cubicBezTo>
                    <a:pt x="171" y="607"/>
                    <a:pt x="212" y="707"/>
                    <a:pt x="156" y="635"/>
                  </a:cubicBezTo>
                  <a:cubicBezTo>
                    <a:pt x="149" y="626"/>
                    <a:pt x="150" y="612"/>
                    <a:pt x="145" y="602"/>
                  </a:cubicBezTo>
                  <a:cubicBezTo>
                    <a:pt x="139" y="590"/>
                    <a:pt x="128" y="581"/>
                    <a:pt x="123" y="569"/>
                  </a:cubicBezTo>
                  <a:cubicBezTo>
                    <a:pt x="114" y="548"/>
                    <a:pt x="101" y="504"/>
                    <a:pt x="101" y="504"/>
                  </a:cubicBezTo>
                  <a:cubicBezTo>
                    <a:pt x="97" y="460"/>
                    <a:pt x="100" y="416"/>
                    <a:pt x="90" y="373"/>
                  </a:cubicBezTo>
                  <a:cubicBezTo>
                    <a:pt x="87" y="362"/>
                    <a:pt x="86" y="397"/>
                    <a:pt x="79" y="406"/>
                  </a:cubicBezTo>
                  <a:cubicBezTo>
                    <a:pt x="52" y="440"/>
                    <a:pt x="52" y="433"/>
                    <a:pt x="36" y="41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24800" y="1414080"/>
              <a:ext cx="362880" cy="881640"/>
            </a:xfrm>
            <a:custGeom>
              <a:avLst/>
              <a:gdLst/>
              <a:ahLst/>
              <a:rect l="l" t="t" r="r" b="b"/>
              <a:pathLst>
                <a:path w="305" h="736">
                  <a:moveTo>
                    <a:pt x="11" y="0"/>
                  </a:moveTo>
                  <a:cubicBezTo>
                    <a:pt x="31" y="30"/>
                    <a:pt x="34" y="68"/>
                    <a:pt x="54" y="98"/>
                  </a:cubicBezTo>
                  <a:cubicBezTo>
                    <a:pt x="101" y="169"/>
                    <a:pt x="115" y="258"/>
                    <a:pt x="142" y="338"/>
                  </a:cubicBezTo>
                  <a:cubicBezTo>
                    <a:pt x="132" y="457"/>
                    <a:pt x="125" y="504"/>
                    <a:pt x="76" y="600"/>
                  </a:cubicBezTo>
                  <a:cubicBezTo>
                    <a:pt x="71" y="610"/>
                    <a:pt x="70" y="622"/>
                    <a:pt x="65" y="632"/>
                  </a:cubicBezTo>
                  <a:cubicBezTo>
                    <a:pt x="52" y="655"/>
                    <a:pt x="36" y="676"/>
                    <a:pt x="22" y="698"/>
                  </a:cubicBezTo>
                  <a:cubicBezTo>
                    <a:pt x="16" y="708"/>
                    <a:pt x="0" y="729"/>
                    <a:pt x="11" y="731"/>
                  </a:cubicBezTo>
                  <a:cubicBezTo>
                    <a:pt x="33" y="736"/>
                    <a:pt x="54" y="716"/>
                    <a:pt x="76" y="709"/>
                  </a:cubicBezTo>
                  <a:cubicBezTo>
                    <a:pt x="87" y="705"/>
                    <a:pt x="99" y="704"/>
                    <a:pt x="109" y="698"/>
                  </a:cubicBezTo>
                  <a:cubicBezTo>
                    <a:pt x="131" y="683"/>
                    <a:pt x="174" y="654"/>
                    <a:pt x="174" y="654"/>
                  </a:cubicBezTo>
                  <a:cubicBezTo>
                    <a:pt x="225" y="578"/>
                    <a:pt x="203" y="611"/>
                    <a:pt x="240" y="556"/>
                  </a:cubicBezTo>
                  <a:cubicBezTo>
                    <a:pt x="247" y="545"/>
                    <a:pt x="262" y="523"/>
                    <a:pt x="262" y="523"/>
                  </a:cubicBezTo>
                  <a:cubicBezTo>
                    <a:pt x="282" y="461"/>
                    <a:pt x="289" y="401"/>
                    <a:pt x="305" y="338"/>
                  </a:cubicBezTo>
                  <a:cubicBezTo>
                    <a:pt x="284" y="234"/>
                    <a:pt x="305" y="288"/>
                    <a:pt x="283" y="316"/>
                  </a:cubicBezTo>
                  <a:cubicBezTo>
                    <a:pt x="275" y="326"/>
                    <a:pt x="262" y="331"/>
                    <a:pt x="251" y="338"/>
                  </a:cubicBezTo>
                  <a:cubicBezTo>
                    <a:pt x="240" y="334"/>
                    <a:pt x="224" y="337"/>
                    <a:pt x="218" y="327"/>
                  </a:cubicBezTo>
                  <a:cubicBezTo>
                    <a:pt x="203" y="301"/>
                    <a:pt x="205" y="268"/>
                    <a:pt x="196" y="240"/>
                  </a:cubicBezTo>
                  <a:cubicBezTo>
                    <a:pt x="170" y="162"/>
                    <a:pt x="187" y="193"/>
                    <a:pt x="152" y="142"/>
                  </a:cubicBezTo>
                  <a:cubicBezTo>
                    <a:pt x="122" y="42"/>
                    <a:pt x="91" y="42"/>
                    <a:pt x="11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54840" y="1139400"/>
              <a:ext cx="610560" cy="1020600"/>
            </a:xfrm>
            <a:custGeom>
              <a:avLst/>
              <a:gdLst/>
              <a:ahLst/>
              <a:rect l="l" t="t" r="r" b="b"/>
              <a:pathLst>
                <a:path w="513" h="852">
                  <a:moveTo>
                    <a:pt x="185" y="0"/>
                  </a:moveTo>
                  <a:cubicBezTo>
                    <a:pt x="157" y="80"/>
                    <a:pt x="157" y="168"/>
                    <a:pt x="142" y="251"/>
                  </a:cubicBezTo>
                  <a:cubicBezTo>
                    <a:pt x="135" y="287"/>
                    <a:pt x="119" y="324"/>
                    <a:pt x="109" y="360"/>
                  </a:cubicBezTo>
                  <a:cubicBezTo>
                    <a:pt x="101" y="389"/>
                    <a:pt x="94" y="450"/>
                    <a:pt x="65" y="469"/>
                  </a:cubicBezTo>
                  <a:cubicBezTo>
                    <a:pt x="46" y="481"/>
                    <a:pt x="0" y="491"/>
                    <a:pt x="0" y="491"/>
                  </a:cubicBezTo>
                  <a:cubicBezTo>
                    <a:pt x="37" y="514"/>
                    <a:pt x="51" y="543"/>
                    <a:pt x="87" y="567"/>
                  </a:cubicBezTo>
                  <a:cubicBezTo>
                    <a:pt x="105" y="622"/>
                    <a:pt x="137" y="654"/>
                    <a:pt x="185" y="687"/>
                  </a:cubicBezTo>
                  <a:cubicBezTo>
                    <a:pt x="244" y="776"/>
                    <a:pt x="166" y="669"/>
                    <a:pt x="240" y="741"/>
                  </a:cubicBezTo>
                  <a:cubicBezTo>
                    <a:pt x="249" y="750"/>
                    <a:pt x="253" y="765"/>
                    <a:pt x="262" y="774"/>
                  </a:cubicBezTo>
                  <a:cubicBezTo>
                    <a:pt x="293" y="806"/>
                    <a:pt x="291" y="789"/>
                    <a:pt x="327" y="807"/>
                  </a:cubicBezTo>
                  <a:cubicBezTo>
                    <a:pt x="339" y="813"/>
                    <a:pt x="348" y="823"/>
                    <a:pt x="360" y="829"/>
                  </a:cubicBezTo>
                  <a:cubicBezTo>
                    <a:pt x="370" y="834"/>
                    <a:pt x="393" y="852"/>
                    <a:pt x="393" y="840"/>
                  </a:cubicBezTo>
                  <a:cubicBezTo>
                    <a:pt x="393" y="827"/>
                    <a:pt x="371" y="825"/>
                    <a:pt x="360" y="818"/>
                  </a:cubicBezTo>
                  <a:cubicBezTo>
                    <a:pt x="352" y="794"/>
                    <a:pt x="347" y="770"/>
                    <a:pt x="327" y="752"/>
                  </a:cubicBezTo>
                  <a:cubicBezTo>
                    <a:pt x="307" y="735"/>
                    <a:pt x="262" y="709"/>
                    <a:pt x="262" y="709"/>
                  </a:cubicBezTo>
                  <a:cubicBezTo>
                    <a:pt x="243" y="651"/>
                    <a:pt x="204" y="603"/>
                    <a:pt x="185" y="545"/>
                  </a:cubicBezTo>
                  <a:cubicBezTo>
                    <a:pt x="187" y="527"/>
                    <a:pt x="191" y="454"/>
                    <a:pt x="207" y="425"/>
                  </a:cubicBezTo>
                  <a:cubicBezTo>
                    <a:pt x="251" y="347"/>
                    <a:pt x="330" y="290"/>
                    <a:pt x="414" y="261"/>
                  </a:cubicBezTo>
                  <a:cubicBezTo>
                    <a:pt x="421" y="250"/>
                    <a:pt x="427" y="238"/>
                    <a:pt x="436" y="229"/>
                  </a:cubicBezTo>
                  <a:cubicBezTo>
                    <a:pt x="445" y="220"/>
                    <a:pt x="460" y="217"/>
                    <a:pt x="469" y="207"/>
                  </a:cubicBezTo>
                  <a:cubicBezTo>
                    <a:pt x="486" y="187"/>
                    <a:pt x="513" y="141"/>
                    <a:pt x="513" y="141"/>
                  </a:cubicBezTo>
                  <a:cubicBezTo>
                    <a:pt x="502" y="138"/>
                    <a:pt x="491" y="127"/>
                    <a:pt x="480" y="131"/>
                  </a:cubicBezTo>
                  <a:cubicBezTo>
                    <a:pt x="468" y="136"/>
                    <a:pt x="468" y="154"/>
                    <a:pt x="458" y="163"/>
                  </a:cubicBezTo>
                  <a:cubicBezTo>
                    <a:pt x="414" y="202"/>
                    <a:pt x="351" y="244"/>
                    <a:pt x="294" y="261"/>
                  </a:cubicBezTo>
                  <a:cubicBezTo>
                    <a:pt x="276" y="258"/>
                    <a:pt x="253" y="264"/>
                    <a:pt x="240" y="251"/>
                  </a:cubicBezTo>
                  <a:cubicBezTo>
                    <a:pt x="224" y="235"/>
                    <a:pt x="225" y="207"/>
                    <a:pt x="218" y="185"/>
                  </a:cubicBezTo>
                  <a:cubicBezTo>
                    <a:pt x="196" y="118"/>
                    <a:pt x="185" y="74"/>
                    <a:pt x="185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657440" y="2294640"/>
              <a:ext cx="56880" cy="344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2392560" y="2181240"/>
              <a:ext cx="72360" cy="34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14400" y="1086840"/>
              <a:ext cx="171360" cy="344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200040" y="914400"/>
              <a:ext cx="11412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1905120" y="4419720"/>
            <a:ext cx="5333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taged cycle then repeats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1447920"/>
            <a:ext cx="457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entricles contract forcing the blood to leave the heart. At the same time, the atria are relaxing and once again filling with bl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0880" y="304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fore we finish our study, let’s take a last look at the hear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648320" y="13716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you notice anything different about the two sides of the he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3200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ll, the left ventricle wall is clearly thicker than the right ventricle w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0880" y="5334120"/>
            <a:ext cx="800100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nswer this question, think about where the blood is going when it leaves the right and left ventr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304920" y="1143000"/>
          <a:ext cx="3190680" cy="41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319068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 flipH="1">
            <a:off x="2819160" y="1981080"/>
            <a:ext cx="190476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33160" y="1981080"/>
            <a:ext cx="419076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248520" y="2057400"/>
            <a:ext cx="2514600" cy="1922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journey is enormous. The left ventricle has to pump blood all over the bod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1447920"/>
            <a:ext cx="2514600" cy="30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journey is far less demanding. The right ventricle only has to pump blood from the heart to the adjacent lu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2209680" y="114264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5866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257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the left ventricle needs a thicker wall to generate a stronger ‘squeeze’ on the bl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4114800"/>
            <a:ext cx="1590840" cy="584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33920" y="4191120"/>
            <a:ext cx="1523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ody cel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31240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124080" y="1676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1676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2004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200400" y="1752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004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124080" y="457200"/>
            <a:ext cx="0" cy="9144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57200"/>
            <a:ext cx="4572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533520"/>
            <a:ext cx="3808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200400" y="533520"/>
            <a:ext cx="0" cy="7617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00400" y="1295280"/>
            <a:ext cx="1042920" cy="1800"/>
          </a:xfrm>
          <a:custGeom>
            <a:avLst/>
            <a:gdLst/>
            <a:ahLst/>
            <a:rect l="l" t="t" r="r" b="b"/>
            <a:pathLst>
              <a:path w="657" h="1">
                <a:moveTo>
                  <a:pt x="0" y="0"/>
                </a:moveTo>
                <a:lnTo>
                  <a:pt x="657" y="0"/>
                </a:ln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38680" y="1828800"/>
            <a:ext cx="0" cy="2666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181480" y="4495680"/>
            <a:ext cx="457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81480" y="4419720"/>
            <a:ext cx="381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5562720" y="1904760"/>
            <a:ext cx="0" cy="2514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971800" y="29718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971800" y="609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304920"/>
            <a:ext cx="1590840" cy="583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37400" y="457200"/>
            <a:ext cx="726120" cy="320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Lu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62520" y="1676520"/>
            <a:ext cx="0" cy="47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457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457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724280" y="1676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562720" y="5331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5181120" y="533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57640" y="1371600"/>
            <a:ext cx="1440" cy="728640"/>
          </a:xfrm>
          <a:custGeom>
            <a:avLst/>
            <a:gdLst/>
            <a:ahLst/>
            <a:rect l="l" t="t" r="r" b="b"/>
            <a:pathLst>
              <a:path w="1" h="459">
                <a:moveTo>
                  <a:pt x="0" y="459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243320" y="1305000"/>
            <a:ext cx="0" cy="7617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19720" y="1828800"/>
            <a:ext cx="1218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495680" y="1905120"/>
            <a:ext cx="10670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609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9720" y="1828800"/>
            <a:ext cx="0" cy="228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1905120"/>
            <a:ext cx="0" cy="152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1676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242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886200" y="1981080"/>
          <a:ext cx="85248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981080"/>
                    <a:ext cx="8524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4648320" y="190512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86200" y="1752480"/>
            <a:ext cx="1440" cy="495360"/>
          </a:xfrm>
          <a:custGeom>
            <a:avLst/>
            <a:gdLst/>
            <a:ahLst/>
            <a:rect l="l" t="t" r="r" b="b"/>
            <a:pathLst>
              <a:path w="1" h="312">
                <a:moveTo>
                  <a:pt x="0" y="0"/>
                </a:moveTo>
                <a:lnTo>
                  <a:pt x="0" y="3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24080" y="1371600"/>
            <a:ext cx="1033560" cy="1440"/>
          </a:xfrm>
          <a:custGeom>
            <a:avLst/>
            <a:gdLst/>
            <a:ahLst/>
            <a:rect l="l" t="t" r="r" b="b"/>
            <a:pathLst>
              <a:path w="651" h="1">
                <a:moveTo>
                  <a:pt x="0" y="0"/>
                </a:moveTo>
                <a:lnTo>
                  <a:pt x="651" y="0"/>
                </a:ln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-4680" y="0"/>
            <a:ext cx="70149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ag the labels to the correct numbered bo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 the diagram of the bloo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1" name="ShockwaveFlash1"/>
          <p:cNvGraphicFramePr/>
          <p:nvPr/>
        </p:nvGraphicFramePr>
        <p:xfrm>
          <a:off x="914400" y="914400"/>
          <a:ext cx="73929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7392960" cy="5638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73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ShockwaveFlash1"/>
          <p:cNvGraphicFramePr/>
          <p:nvPr/>
        </p:nvGraphicFramePr>
        <p:xfrm>
          <a:off x="1371600" y="685800"/>
          <a:ext cx="662940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685800"/>
                    <a:ext cx="6629400" cy="5943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76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ShockwaveFlash1"/>
          <p:cNvGraphicFramePr/>
          <p:nvPr/>
        </p:nvGraphicFramePr>
        <p:xfrm>
          <a:off x="763560" y="838080"/>
          <a:ext cx="754236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838080"/>
                    <a:ext cx="7542360" cy="5639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79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ShockwaveFlash1"/>
          <p:cNvGraphicFramePr/>
          <p:nvPr/>
        </p:nvGraphicFramePr>
        <p:xfrm>
          <a:off x="762120" y="762120"/>
          <a:ext cx="7542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42000" cy="5715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82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ShockwaveFlash1"/>
          <p:cNvGraphicFramePr/>
          <p:nvPr/>
        </p:nvGraphicFramePr>
        <p:xfrm>
          <a:off x="836640" y="762120"/>
          <a:ext cx="762156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762120"/>
                    <a:ext cx="7621560" cy="579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85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6" name="ShockwaveFlash1"/>
          <p:cNvGraphicFramePr/>
          <p:nvPr/>
        </p:nvGraphicFramePr>
        <p:xfrm>
          <a:off x="760320" y="838080"/>
          <a:ext cx="76215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838080"/>
                    <a:ext cx="7621560" cy="5715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88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ShockwaveFlash1"/>
          <p:cNvGraphicFramePr/>
          <p:nvPr/>
        </p:nvGraphicFramePr>
        <p:xfrm>
          <a:off x="838080" y="762120"/>
          <a:ext cx="75438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7543800" cy="5715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91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828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xt organ system we will be considering can be known by two names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are substances transported around the bod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200400"/>
            <a:ext cx="220968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loo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3124080"/>
            <a:ext cx="29718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6000" y="4341960"/>
            <a:ext cx="70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irculatory system is made of two pa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The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.  The blood ve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371600" y="914400"/>
            <a:ext cx="609588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e choice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circulation%20body" descr=""/>
          <p:cNvPicPr/>
          <p:nvPr/>
        </p:nvPicPr>
        <p:blipFill>
          <a:blip r:embed="rId1"/>
          <a:stretch/>
        </p:blipFill>
        <p:spPr>
          <a:xfrm>
            <a:off x="3505320" y="1917720"/>
            <a:ext cx="18032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alternative name for the blood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2362320"/>
            <a:ext cx="7620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the hear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the circulator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the transpor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the pump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342900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of the following organs are found i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lood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heart, lungs, brain and b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arteries, heart and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arteries, veins and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heart, veins and panc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2120" y="419112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unction of the circulatory system is 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transport substances, such as oxygen and dissolved nutrients, around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support the movement of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digest large molecules of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carry chemical messages between the brain and the ner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2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wall of the heart mainly mad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. fat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. skin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. nerv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. muscl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2120" y="510552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lood system is often known as the “double circulation” system.  Why is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The blood carries two vital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There are actually two parts to the he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The system is divided into two separate circu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The blood flows in two dir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62120" y="426708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chambers are there in the huma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ea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 it varies from human to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259092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diagram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640" y="3500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 the chamber that is labelled W (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reful!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 the right ventr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  the left ventr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 the right at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  the left ventr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2514600" y="1599840"/>
            <a:ext cx="3047760" cy="1618560"/>
            <a:chOff x="2514600" y="1599840"/>
            <a:chExt cx="3047760" cy="1618560"/>
          </a:xfrm>
        </p:grpSpPr>
        <p:sp>
          <p:nvSpPr>
            <p:cNvPr id="515" name=""/>
            <p:cNvSpPr/>
            <p:nvPr/>
          </p:nvSpPr>
          <p:spPr>
            <a:xfrm>
              <a:off x="3200400" y="20574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200400" y="20574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71800" y="23623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71800" y="25146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20574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00400" y="2514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00400" y="26668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57600" y="26668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14800" y="20574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3809880" y="1828440"/>
              <a:ext cx="759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4038480" y="182844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00400" y="28954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00400" y="32004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4343400" y="20574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029200" y="251424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29200" y="25146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29200" y="23623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5029200" y="20570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43400" y="20574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43400" y="26668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800600" y="26668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29000" y="26668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3581640" y="266688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72000" y="26668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724640" y="266688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343400" y="1828440"/>
              <a:ext cx="763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114800" y="182844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14600" y="243828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3809880" y="1599840"/>
              <a:ext cx="1522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267440" y="1599840"/>
              <a:ext cx="1522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5257440" y="24382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00400" y="20574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343400" y="20574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43400" y="2819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00400" y="2819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762120" y="586728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blood entered the chamber X, where would it then g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It would leave the he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It would pass into chamber 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It would pass across into chamber 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It would flow into all the other cha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562720" y="1904760"/>
            <a:ext cx="3047400" cy="1618560"/>
            <a:chOff x="5562720" y="1904760"/>
            <a:chExt cx="3047400" cy="1618560"/>
          </a:xfrm>
        </p:grpSpPr>
        <p:sp>
          <p:nvSpPr>
            <p:cNvPr id="554" name=""/>
            <p:cNvSpPr/>
            <p:nvPr/>
          </p:nvSpPr>
          <p:spPr>
            <a:xfrm>
              <a:off x="6248160" y="2362320"/>
              <a:ext cx="68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248160" y="23623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19560" y="266724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560" y="281952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933960" y="23623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48160" y="28195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48160" y="297180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5360" y="297180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62560" y="23623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flipV="1">
              <a:off x="6858000" y="2133360"/>
              <a:ext cx="75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7086600" y="2133360"/>
              <a:ext cx="75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48160" y="32004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48160" y="350532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391160" y="23623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8076960" y="281916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076960" y="281952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76960" y="266724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8076960" y="2361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391160" y="2362320"/>
              <a:ext cx="68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91160" y="297180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48360" y="297180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76760" y="297180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629400" y="2971800"/>
              <a:ext cx="7560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19760" y="297180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772400" y="2971800"/>
              <a:ext cx="7560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91160" y="2133360"/>
              <a:ext cx="759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162560" y="213336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562720" y="27432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6858000" y="1904760"/>
              <a:ext cx="15192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7315200" y="1904760"/>
              <a:ext cx="15192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8305560" y="2743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48160" y="2362320"/>
              <a:ext cx="68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1160" y="2362320"/>
              <a:ext cx="68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91160" y="3124440"/>
              <a:ext cx="68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48160" y="3124440"/>
              <a:ext cx="68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762120" y="3352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hamber is the left ventri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2971800" y="1980720"/>
            <a:ext cx="3047760" cy="1618560"/>
            <a:chOff x="2971800" y="1980720"/>
            <a:chExt cx="3047760" cy="1618560"/>
          </a:xfrm>
        </p:grpSpPr>
        <p:sp>
          <p:nvSpPr>
            <p:cNvPr id="593" name=""/>
            <p:cNvSpPr/>
            <p:nvPr/>
          </p:nvSpPr>
          <p:spPr>
            <a:xfrm>
              <a:off x="3657600" y="24382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57600" y="24382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429000" y="27432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429000" y="2895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343400" y="2438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57600" y="28954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57600" y="3047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14800" y="3047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572000" y="24382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4267080" y="2209320"/>
              <a:ext cx="759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4495680" y="22093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57600" y="32763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57600" y="35812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800600" y="2438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486400" y="28951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486400" y="2895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86400" y="27432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486400" y="24379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00600" y="24382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00600" y="3047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57800" y="3047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86200" y="304776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4038840" y="304776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29200" y="304776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5181840" y="304776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4800600" y="2209320"/>
              <a:ext cx="763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4572000" y="22093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971800" y="281916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4267080" y="1980720"/>
              <a:ext cx="1522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4724640" y="1980720"/>
              <a:ext cx="1522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5714640" y="281916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657600" y="24382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00600" y="24382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800600" y="32004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57600" y="32004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62120" y="5181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167652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752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6094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of the substances that the circulatory system transports are respiratory gas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at the bod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ee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must be take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cells and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rbon Dioxi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as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as must be take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w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rom the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2767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these gases are carried by the blood, it means that in terms of the presence of gas, we hav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ypes of bl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419720"/>
            <a:ext cx="34290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lood high in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4720" y="4419720"/>
            <a:ext cx="314496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lood low in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4952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4952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5486400"/>
            <a:ext cx="22860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oxyge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9840" y="5486400"/>
            <a:ext cx="19242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xyge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side of the heart has the thickest wa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 the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 both sides are the same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 middle is th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3809880" y="1752120"/>
            <a:ext cx="3047760" cy="1618560"/>
            <a:chOff x="3809880" y="1752120"/>
            <a:chExt cx="3047760" cy="1618560"/>
          </a:xfrm>
        </p:grpSpPr>
        <p:sp>
          <p:nvSpPr>
            <p:cNvPr id="632" name=""/>
            <p:cNvSpPr/>
            <p:nvPr/>
          </p:nvSpPr>
          <p:spPr>
            <a:xfrm>
              <a:off x="4495680" y="22096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95680" y="22096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25146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67080" y="26668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1480" y="22096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95680" y="26668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95680" y="28191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52880" y="28191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10080" y="22096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5105160" y="1980720"/>
              <a:ext cx="759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5333760" y="19807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95680" y="30477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95680" y="33526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5638680" y="22096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6324480" y="26665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324480" y="26668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324480" y="25146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6324480" y="22093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38680" y="22096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38680" y="28191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95880" y="28191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724280" y="281916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4876920" y="281916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67280" y="281916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6019920" y="281916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5638680" y="1980720"/>
              <a:ext cx="763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5410080" y="1980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09880" y="259056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>
              <a:off x="5105160" y="1752120"/>
              <a:ext cx="1522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5562720" y="1752120"/>
              <a:ext cx="1522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6552720" y="259056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95680" y="2209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38680" y="2209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38680" y="29718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495680" y="29718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o which chambers does blood enter the hea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the right and left at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 the right and left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 the right atrium and the left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 the right ventricle and the left at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38080" y="259092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rough which two chambers does bloo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ve the hea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ight and left at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 the right and left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 the right atrium and the left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 the right ventricle and the left at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38080" y="35812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of these combinations lists the two circuits that blood makes through the bo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Heart - Lungs - Body - Lu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Heart - Body - Heart - Body - Lu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Body - Lungs - Heart - Body -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Heart - Lungs - Heart - B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100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523520" y="2590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152388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3124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4771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1599840" y="35053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60020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48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4008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523520" y="44197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1523880" y="419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2578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410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1447920" y="53341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144792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38080" y="563868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diagram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2286000" y="1295280"/>
            <a:ext cx="4344480" cy="4830840"/>
            <a:chOff x="2286000" y="1295280"/>
            <a:chExt cx="4344480" cy="4830840"/>
          </a:xfrm>
        </p:grpSpPr>
        <p:sp>
          <p:nvSpPr>
            <p:cNvPr id="695" name=""/>
            <p:cNvSpPr/>
            <p:nvPr/>
          </p:nvSpPr>
          <p:spPr>
            <a:xfrm>
              <a:off x="2334960" y="1658880"/>
              <a:ext cx="415440" cy="1038240"/>
            </a:xfrm>
            <a:custGeom>
              <a:avLst/>
              <a:gdLst/>
              <a:ahLst/>
              <a:rect l="l" t="t" r="r" b="b"/>
              <a:pathLst>
                <a:path w="262" h="654">
                  <a:moveTo>
                    <a:pt x="44" y="0"/>
                  </a:moveTo>
                  <a:cubicBezTo>
                    <a:pt x="90" y="70"/>
                    <a:pt x="116" y="94"/>
                    <a:pt x="66" y="185"/>
                  </a:cubicBezTo>
                  <a:cubicBezTo>
                    <a:pt x="53" y="208"/>
                    <a:pt x="30" y="226"/>
                    <a:pt x="22" y="251"/>
                  </a:cubicBezTo>
                  <a:cubicBezTo>
                    <a:pt x="15" y="273"/>
                    <a:pt x="0" y="316"/>
                    <a:pt x="0" y="316"/>
                  </a:cubicBezTo>
                  <a:cubicBezTo>
                    <a:pt x="2" y="326"/>
                    <a:pt x="14" y="397"/>
                    <a:pt x="22" y="403"/>
                  </a:cubicBezTo>
                  <a:cubicBezTo>
                    <a:pt x="50" y="423"/>
                    <a:pt x="117" y="435"/>
                    <a:pt x="153" y="447"/>
                  </a:cubicBezTo>
                  <a:cubicBezTo>
                    <a:pt x="167" y="452"/>
                    <a:pt x="182" y="454"/>
                    <a:pt x="196" y="458"/>
                  </a:cubicBezTo>
                  <a:cubicBezTo>
                    <a:pt x="218" y="465"/>
                    <a:pt x="262" y="480"/>
                    <a:pt x="262" y="480"/>
                  </a:cubicBezTo>
                  <a:cubicBezTo>
                    <a:pt x="258" y="516"/>
                    <a:pt x="258" y="553"/>
                    <a:pt x="251" y="589"/>
                  </a:cubicBezTo>
                  <a:cubicBezTo>
                    <a:pt x="247" y="611"/>
                    <a:pt x="229" y="654"/>
                    <a:pt x="229" y="654"/>
                  </a:cubicBezTo>
                </a:path>
              </a:pathLst>
            </a:custGeom>
            <a:noFill/>
            <a:ln w="88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698560" y="1450800"/>
              <a:ext cx="464760" cy="365040"/>
            </a:xfrm>
            <a:custGeom>
              <a:avLst/>
              <a:gdLst/>
              <a:ahLst/>
              <a:rect l="l" t="t" r="r" b="b"/>
              <a:pathLst>
                <a:path w="293" h="230">
                  <a:moveTo>
                    <a:pt x="0" y="76"/>
                  </a:moveTo>
                  <a:cubicBezTo>
                    <a:pt x="22" y="142"/>
                    <a:pt x="7" y="165"/>
                    <a:pt x="66" y="185"/>
                  </a:cubicBezTo>
                  <a:cubicBezTo>
                    <a:pt x="131" y="230"/>
                    <a:pt x="209" y="217"/>
                    <a:pt x="273" y="174"/>
                  </a:cubicBezTo>
                  <a:cubicBezTo>
                    <a:pt x="293" y="115"/>
                    <a:pt x="267" y="54"/>
                    <a:pt x="240" y="0"/>
                  </a:cubicBezTo>
                </a:path>
              </a:pathLst>
            </a:custGeom>
            <a:noFill/>
            <a:ln w="82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04800" y="1471320"/>
              <a:ext cx="609480" cy="609840"/>
            </a:xfrm>
            <a:custGeom>
              <a:avLst/>
              <a:gdLst/>
              <a:ahLst/>
              <a:rect l="l" t="t" r="r" b="b"/>
              <a:pathLst>
                <a:path w="218" h="404">
                  <a:moveTo>
                    <a:pt x="0" y="0"/>
                  </a:moveTo>
                  <a:cubicBezTo>
                    <a:pt x="25" y="78"/>
                    <a:pt x="8" y="47"/>
                    <a:pt x="43" y="98"/>
                  </a:cubicBezTo>
                  <a:cubicBezTo>
                    <a:pt x="62" y="156"/>
                    <a:pt x="79" y="215"/>
                    <a:pt x="98" y="273"/>
                  </a:cubicBezTo>
                  <a:cubicBezTo>
                    <a:pt x="98" y="274"/>
                    <a:pt x="115" y="344"/>
                    <a:pt x="120" y="349"/>
                  </a:cubicBezTo>
                  <a:cubicBezTo>
                    <a:pt x="158" y="387"/>
                    <a:pt x="177" y="390"/>
                    <a:pt x="218" y="404"/>
                  </a:cubicBezTo>
                  <a:cubicBezTo>
                    <a:pt x="214" y="349"/>
                    <a:pt x="213" y="295"/>
                    <a:pt x="207" y="240"/>
                  </a:cubicBezTo>
                  <a:cubicBezTo>
                    <a:pt x="205" y="222"/>
                    <a:pt x="201" y="204"/>
                    <a:pt x="196" y="186"/>
                  </a:cubicBezTo>
                  <a:cubicBezTo>
                    <a:pt x="193" y="175"/>
                    <a:pt x="185" y="153"/>
                    <a:pt x="185" y="153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86000" y="2455560"/>
              <a:ext cx="4084560" cy="3670560"/>
            </a:xfrm>
            <a:custGeom>
              <a:avLst/>
              <a:gdLst/>
              <a:ahLst/>
              <a:rect l="l" t="t" r="r" b="b"/>
              <a:pathLst>
                <a:path w="2573" h="2312">
                  <a:moveTo>
                    <a:pt x="271" y="152"/>
                  </a:moveTo>
                  <a:cubicBezTo>
                    <a:pt x="298" y="233"/>
                    <a:pt x="257" y="304"/>
                    <a:pt x="238" y="381"/>
                  </a:cubicBezTo>
                  <a:cubicBezTo>
                    <a:pt x="221" y="447"/>
                    <a:pt x="192" y="496"/>
                    <a:pt x="162" y="556"/>
                  </a:cubicBezTo>
                  <a:cubicBezTo>
                    <a:pt x="139" y="602"/>
                    <a:pt x="131" y="659"/>
                    <a:pt x="118" y="709"/>
                  </a:cubicBezTo>
                  <a:cubicBezTo>
                    <a:pt x="102" y="771"/>
                    <a:pt x="94" y="833"/>
                    <a:pt x="75" y="894"/>
                  </a:cubicBezTo>
                  <a:cubicBezTo>
                    <a:pt x="67" y="921"/>
                    <a:pt x="52" y="962"/>
                    <a:pt x="42" y="992"/>
                  </a:cubicBezTo>
                  <a:cubicBezTo>
                    <a:pt x="38" y="1003"/>
                    <a:pt x="31" y="1025"/>
                    <a:pt x="31" y="1025"/>
                  </a:cubicBezTo>
                  <a:cubicBezTo>
                    <a:pt x="34" y="1125"/>
                    <a:pt x="0" y="1478"/>
                    <a:pt x="140" y="1571"/>
                  </a:cubicBezTo>
                  <a:cubicBezTo>
                    <a:pt x="159" y="1627"/>
                    <a:pt x="145" y="1595"/>
                    <a:pt x="195" y="1669"/>
                  </a:cubicBezTo>
                  <a:cubicBezTo>
                    <a:pt x="202" y="1680"/>
                    <a:pt x="217" y="1701"/>
                    <a:pt x="217" y="1701"/>
                  </a:cubicBezTo>
                  <a:cubicBezTo>
                    <a:pt x="239" y="1773"/>
                    <a:pt x="208" y="1698"/>
                    <a:pt x="260" y="1756"/>
                  </a:cubicBezTo>
                  <a:cubicBezTo>
                    <a:pt x="309" y="1811"/>
                    <a:pt x="329" y="1907"/>
                    <a:pt x="402" y="1931"/>
                  </a:cubicBezTo>
                  <a:cubicBezTo>
                    <a:pt x="434" y="1962"/>
                    <a:pt x="453" y="1993"/>
                    <a:pt x="489" y="2018"/>
                  </a:cubicBezTo>
                  <a:cubicBezTo>
                    <a:pt x="496" y="2029"/>
                    <a:pt x="505" y="2039"/>
                    <a:pt x="511" y="2051"/>
                  </a:cubicBezTo>
                  <a:cubicBezTo>
                    <a:pt x="516" y="2061"/>
                    <a:pt x="514" y="2075"/>
                    <a:pt x="522" y="2083"/>
                  </a:cubicBezTo>
                  <a:cubicBezTo>
                    <a:pt x="541" y="2102"/>
                    <a:pt x="587" y="2127"/>
                    <a:pt x="587" y="2127"/>
                  </a:cubicBezTo>
                  <a:cubicBezTo>
                    <a:pt x="594" y="2138"/>
                    <a:pt x="607" y="2147"/>
                    <a:pt x="609" y="2160"/>
                  </a:cubicBezTo>
                  <a:cubicBezTo>
                    <a:pt x="611" y="2171"/>
                    <a:pt x="594" y="2182"/>
                    <a:pt x="598" y="2192"/>
                  </a:cubicBezTo>
                  <a:cubicBezTo>
                    <a:pt x="608" y="2217"/>
                    <a:pt x="672" y="2221"/>
                    <a:pt x="686" y="2225"/>
                  </a:cubicBezTo>
                  <a:cubicBezTo>
                    <a:pt x="719" y="2234"/>
                    <a:pt x="751" y="2247"/>
                    <a:pt x="784" y="2258"/>
                  </a:cubicBezTo>
                  <a:cubicBezTo>
                    <a:pt x="818" y="2269"/>
                    <a:pt x="843" y="2298"/>
                    <a:pt x="882" y="2301"/>
                  </a:cubicBezTo>
                  <a:cubicBezTo>
                    <a:pt x="962" y="2307"/>
                    <a:pt x="1042" y="2308"/>
                    <a:pt x="1122" y="2312"/>
                  </a:cubicBezTo>
                  <a:cubicBezTo>
                    <a:pt x="1306" y="2301"/>
                    <a:pt x="1482" y="2277"/>
                    <a:pt x="1667" y="2269"/>
                  </a:cubicBezTo>
                  <a:cubicBezTo>
                    <a:pt x="1706" y="2256"/>
                    <a:pt x="1831" y="2225"/>
                    <a:pt x="1864" y="2203"/>
                  </a:cubicBezTo>
                  <a:cubicBezTo>
                    <a:pt x="1909" y="2173"/>
                    <a:pt x="1945" y="2144"/>
                    <a:pt x="1995" y="2127"/>
                  </a:cubicBezTo>
                  <a:cubicBezTo>
                    <a:pt x="2030" y="2103"/>
                    <a:pt x="2046" y="2074"/>
                    <a:pt x="2082" y="2051"/>
                  </a:cubicBezTo>
                  <a:cubicBezTo>
                    <a:pt x="2089" y="2040"/>
                    <a:pt x="2095" y="2027"/>
                    <a:pt x="2104" y="2018"/>
                  </a:cubicBezTo>
                  <a:cubicBezTo>
                    <a:pt x="2113" y="2009"/>
                    <a:pt x="2129" y="2006"/>
                    <a:pt x="2137" y="1996"/>
                  </a:cubicBezTo>
                  <a:cubicBezTo>
                    <a:pt x="2196" y="1920"/>
                    <a:pt x="2085" y="2004"/>
                    <a:pt x="2180" y="1941"/>
                  </a:cubicBezTo>
                  <a:cubicBezTo>
                    <a:pt x="2195" y="1898"/>
                    <a:pt x="2208" y="1879"/>
                    <a:pt x="2246" y="1854"/>
                  </a:cubicBezTo>
                  <a:cubicBezTo>
                    <a:pt x="2300" y="1769"/>
                    <a:pt x="2230" y="1869"/>
                    <a:pt x="2300" y="1800"/>
                  </a:cubicBezTo>
                  <a:cubicBezTo>
                    <a:pt x="2378" y="1724"/>
                    <a:pt x="2263" y="1806"/>
                    <a:pt x="2355" y="1745"/>
                  </a:cubicBezTo>
                  <a:cubicBezTo>
                    <a:pt x="2371" y="1698"/>
                    <a:pt x="2400" y="1659"/>
                    <a:pt x="2420" y="1614"/>
                  </a:cubicBezTo>
                  <a:cubicBezTo>
                    <a:pt x="2459" y="1528"/>
                    <a:pt x="2479" y="1430"/>
                    <a:pt x="2507" y="1341"/>
                  </a:cubicBezTo>
                  <a:cubicBezTo>
                    <a:pt x="2548" y="1212"/>
                    <a:pt x="2551" y="1071"/>
                    <a:pt x="2573" y="938"/>
                  </a:cubicBezTo>
                  <a:cubicBezTo>
                    <a:pt x="2569" y="687"/>
                    <a:pt x="2572" y="436"/>
                    <a:pt x="2562" y="185"/>
                  </a:cubicBezTo>
                  <a:cubicBezTo>
                    <a:pt x="2561" y="169"/>
                    <a:pt x="2533" y="70"/>
                    <a:pt x="2507" y="54"/>
                  </a:cubicBezTo>
                  <a:cubicBezTo>
                    <a:pt x="2462" y="26"/>
                    <a:pt x="2386" y="13"/>
                    <a:pt x="2333" y="0"/>
                  </a:cubicBezTo>
                  <a:cubicBezTo>
                    <a:pt x="2282" y="4"/>
                    <a:pt x="2230" y="2"/>
                    <a:pt x="2180" y="11"/>
                  </a:cubicBezTo>
                  <a:cubicBezTo>
                    <a:pt x="2146" y="17"/>
                    <a:pt x="2121" y="68"/>
                    <a:pt x="2093" y="87"/>
                  </a:cubicBezTo>
                  <a:cubicBezTo>
                    <a:pt x="2086" y="98"/>
                    <a:pt x="2080" y="111"/>
                    <a:pt x="2071" y="120"/>
                  </a:cubicBezTo>
                  <a:cubicBezTo>
                    <a:pt x="2062" y="129"/>
                    <a:pt x="2046" y="131"/>
                    <a:pt x="2038" y="141"/>
                  </a:cubicBezTo>
                  <a:cubicBezTo>
                    <a:pt x="2031" y="150"/>
                    <a:pt x="2032" y="164"/>
                    <a:pt x="2027" y="174"/>
                  </a:cubicBezTo>
                  <a:cubicBezTo>
                    <a:pt x="2025" y="178"/>
                    <a:pt x="2020" y="181"/>
                    <a:pt x="2017" y="185"/>
                  </a:cubicBezTo>
                </a:path>
              </a:pathLst>
            </a:custGeom>
            <a:noFill/>
            <a:ln w="79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715840" y="2438280"/>
              <a:ext cx="468000" cy="484200"/>
            </a:xfrm>
            <a:custGeom>
              <a:avLst/>
              <a:gdLst/>
              <a:ahLst/>
              <a:rect l="l" t="t" r="r" b="b"/>
              <a:pathLst>
                <a:path w="295" h="305">
                  <a:moveTo>
                    <a:pt x="0" y="0"/>
                  </a:moveTo>
                  <a:cubicBezTo>
                    <a:pt x="62" y="16"/>
                    <a:pt x="125" y="34"/>
                    <a:pt x="186" y="54"/>
                  </a:cubicBezTo>
                  <a:cubicBezTo>
                    <a:pt x="270" y="112"/>
                    <a:pt x="295" y="209"/>
                    <a:pt x="295" y="305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599920" y="2506320"/>
              <a:ext cx="3492360" cy="3364200"/>
            </a:xfrm>
            <a:custGeom>
              <a:avLst/>
              <a:gdLst/>
              <a:ahLst/>
              <a:rect l="l" t="t" r="r" b="b"/>
              <a:pathLst>
                <a:path w="2200" h="2119">
                  <a:moveTo>
                    <a:pt x="193" y="0"/>
                  </a:moveTo>
                  <a:cubicBezTo>
                    <a:pt x="186" y="203"/>
                    <a:pt x="190" y="253"/>
                    <a:pt x="160" y="404"/>
                  </a:cubicBezTo>
                  <a:cubicBezTo>
                    <a:pt x="156" y="451"/>
                    <a:pt x="155" y="499"/>
                    <a:pt x="149" y="546"/>
                  </a:cubicBezTo>
                  <a:cubicBezTo>
                    <a:pt x="142" y="600"/>
                    <a:pt x="113" y="657"/>
                    <a:pt x="95" y="709"/>
                  </a:cubicBezTo>
                  <a:cubicBezTo>
                    <a:pt x="44" y="857"/>
                    <a:pt x="97" y="637"/>
                    <a:pt x="62" y="775"/>
                  </a:cubicBezTo>
                  <a:cubicBezTo>
                    <a:pt x="50" y="822"/>
                    <a:pt x="41" y="870"/>
                    <a:pt x="29" y="917"/>
                  </a:cubicBezTo>
                  <a:cubicBezTo>
                    <a:pt x="26" y="931"/>
                    <a:pt x="22" y="946"/>
                    <a:pt x="19" y="960"/>
                  </a:cubicBezTo>
                  <a:cubicBezTo>
                    <a:pt x="15" y="975"/>
                    <a:pt x="8" y="1004"/>
                    <a:pt x="8" y="1004"/>
                  </a:cubicBezTo>
                  <a:cubicBezTo>
                    <a:pt x="12" y="1048"/>
                    <a:pt x="0" y="1096"/>
                    <a:pt x="19" y="1135"/>
                  </a:cubicBezTo>
                  <a:cubicBezTo>
                    <a:pt x="29" y="1155"/>
                    <a:pt x="84" y="1157"/>
                    <a:pt x="84" y="1157"/>
                  </a:cubicBezTo>
                  <a:cubicBezTo>
                    <a:pt x="145" y="1065"/>
                    <a:pt x="63" y="1180"/>
                    <a:pt x="139" y="1102"/>
                  </a:cubicBezTo>
                  <a:cubicBezTo>
                    <a:pt x="187" y="1053"/>
                    <a:pt x="129" y="1078"/>
                    <a:pt x="193" y="1059"/>
                  </a:cubicBezTo>
                  <a:cubicBezTo>
                    <a:pt x="204" y="1062"/>
                    <a:pt x="218" y="1061"/>
                    <a:pt x="226" y="1069"/>
                  </a:cubicBezTo>
                  <a:cubicBezTo>
                    <a:pt x="251" y="1093"/>
                    <a:pt x="234" y="1166"/>
                    <a:pt x="215" y="1189"/>
                  </a:cubicBezTo>
                  <a:cubicBezTo>
                    <a:pt x="207" y="1199"/>
                    <a:pt x="193" y="1204"/>
                    <a:pt x="182" y="1211"/>
                  </a:cubicBezTo>
                  <a:cubicBezTo>
                    <a:pt x="143" y="1270"/>
                    <a:pt x="133" y="1288"/>
                    <a:pt x="117" y="1353"/>
                  </a:cubicBezTo>
                  <a:cubicBezTo>
                    <a:pt x="124" y="1442"/>
                    <a:pt x="101" y="1503"/>
                    <a:pt x="171" y="1549"/>
                  </a:cubicBezTo>
                  <a:cubicBezTo>
                    <a:pt x="205" y="1600"/>
                    <a:pt x="221" y="1637"/>
                    <a:pt x="269" y="1669"/>
                  </a:cubicBezTo>
                  <a:cubicBezTo>
                    <a:pt x="297" y="1752"/>
                    <a:pt x="256" y="1653"/>
                    <a:pt x="313" y="1724"/>
                  </a:cubicBezTo>
                  <a:cubicBezTo>
                    <a:pt x="320" y="1733"/>
                    <a:pt x="318" y="1747"/>
                    <a:pt x="324" y="1757"/>
                  </a:cubicBezTo>
                  <a:cubicBezTo>
                    <a:pt x="361" y="1823"/>
                    <a:pt x="353" y="1812"/>
                    <a:pt x="400" y="1844"/>
                  </a:cubicBezTo>
                  <a:cubicBezTo>
                    <a:pt x="407" y="1855"/>
                    <a:pt x="413" y="1868"/>
                    <a:pt x="422" y="1877"/>
                  </a:cubicBezTo>
                  <a:cubicBezTo>
                    <a:pt x="431" y="1886"/>
                    <a:pt x="447" y="1889"/>
                    <a:pt x="455" y="1899"/>
                  </a:cubicBezTo>
                  <a:cubicBezTo>
                    <a:pt x="516" y="1974"/>
                    <a:pt x="403" y="1889"/>
                    <a:pt x="499" y="1953"/>
                  </a:cubicBezTo>
                  <a:cubicBezTo>
                    <a:pt x="526" y="1995"/>
                    <a:pt x="571" y="2013"/>
                    <a:pt x="619" y="2029"/>
                  </a:cubicBezTo>
                  <a:cubicBezTo>
                    <a:pt x="758" y="2074"/>
                    <a:pt x="898" y="2086"/>
                    <a:pt x="1044" y="2095"/>
                  </a:cubicBezTo>
                  <a:cubicBezTo>
                    <a:pt x="1185" y="2119"/>
                    <a:pt x="1206" y="2115"/>
                    <a:pt x="1393" y="2106"/>
                  </a:cubicBezTo>
                  <a:cubicBezTo>
                    <a:pt x="1415" y="2099"/>
                    <a:pt x="1440" y="2097"/>
                    <a:pt x="1459" y="2084"/>
                  </a:cubicBezTo>
                  <a:cubicBezTo>
                    <a:pt x="1470" y="2077"/>
                    <a:pt x="1479" y="2067"/>
                    <a:pt x="1491" y="2062"/>
                  </a:cubicBezTo>
                  <a:cubicBezTo>
                    <a:pt x="1613" y="2007"/>
                    <a:pt x="1514" y="2068"/>
                    <a:pt x="1589" y="2019"/>
                  </a:cubicBezTo>
                  <a:cubicBezTo>
                    <a:pt x="1619" y="1928"/>
                    <a:pt x="1621" y="1953"/>
                    <a:pt x="1600" y="1833"/>
                  </a:cubicBezTo>
                  <a:cubicBezTo>
                    <a:pt x="1596" y="1811"/>
                    <a:pt x="1579" y="1768"/>
                    <a:pt x="1579" y="1768"/>
                  </a:cubicBezTo>
                  <a:cubicBezTo>
                    <a:pt x="1571" y="1708"/>
                    <a:pt x="1539" y="1629"/>
                    <a:pt x="1611" y="1604"/>
                  </a:cubicBezTo>
                  <a:cubicBezTo>
                    <a:pt x="1622" y="1611"/>
                    <a:pt x="1637" y="1615"/>
                    <a:pt x="1644" y="1626"/>
                  </a:cubicBezTo>
                  <a:cubicBezTo>
                    <a:pt x="1656" y="1645"/>
                    <a:pt x="1654" y="1672"/>
                    <a:pt x="1666" y="1691"/>
                  </a:cubicBezTo>
                  <a:cubicBezTo>
                    <a:pt x="1680" y="1713"/>
                    <a:pt x="1694" y="1735"/>
                    <a:pt x="1709" y="1757"/>
                  </a:cubicBezTo>
                  <a:cubicBezTo>
                    <a:pt x="1716" y="1768"/>
                    <a:pt x="1719" y="1785"/>
                    <a:pt x="1731" y="1789"/>
                  </a:cubicBezTo>
                  <a:cubicBezTo>
                    <a:pt x="1753" y="1796"/>
                    <a:pt x="1797" y="1811"/>
                    <a:pt x="1797" y="1811"/>
                  </a:cubicBezTo>
                  <a:cubicBezTo>
                    <a:pt x="1818" y="1804"/>
                    <a:pt x="1846" y="1797"/>
                    <a:pt x="1862" y="1779"/>
                  </a:cubicBezTo>
                  <a:cubicBezTo>
                    <a:pt x="1908" y="1728"/>
                    <a:pt x="1898" y="1693"/>
                    <a:pt x="1949" y="1659"/>
                  </a:cubicBezTo>
                  <a:cubicBezTo>
                    <a:pt x="1956" y="1648"/>
                    <a:pt x="1965" y="1638"/>
                    <a:pt x="1971" y="1626"/>
                  </a:cubicBezTo>
                  <a:cubicBezTo>
                    <a:pt x="1976" y="1616"/>
                    <a:pt x="1976" y="1603"/>
                    <a:pt x="1982" y="1593"/>
                  </a:cubicBezTo>
                  <a:cubicBezTo>
                    <a:pt x="1995" y="1570"/>
                    <a:pt x="2026" y="1528"/>
                    <a:pt x="2026" y="1528"/>
                  </a:cubicBezTo>
                  <a:cubicBezTo>
                    <a:pt x="2051" y="1452"/>
                    <a:pt x="2067" y="1365"/>
                    <a:pt x="2113" y="1299"/>
                  </a:cubicBezTo>
                  <a:cubicBezTo>
                    <a:pt x="2141" y="1216"/>
                    <a:pt x="2103" y="1318"/>
                    <a:pt x="2146" y="1233"/>
                  </a:cubicBezTo>
                  <a:cubicBezTo>
                    <a:pt x="2172" y="1180"/>
                    <a:pt x="2181" y="1115"/>
                    <a:pt x="2200" y="1059"/>
                  </a:cubicBezTo>
                  <a:cubicBezTo>
                    <a:pt x="2196" y="815"/>
                    <a:pt x="2196" y="572"/>
                    <a:pt x="2189" y="328"/>
                  </a:cubicBezTo>
                  <a:cubicBezTo>
                    <a:pt x="2187" y="259"/>
                    <a:pt x="2108" y="186"/>
                    <a:pt x="2059" y="153"/>
                  </a:cubicBezTo>
                  <a:cubicBezTo>
                    <a:pt x="2040" y="140"/>
                    <a:pt x="2015" y="138"/>
                    <a:pt x="1993" y="131"/>
                  </a:cubicBezTo>
                  <a:cubicBezTo>
                    <a:pt x="1982" y="127"/>
                    <a:pt x="1960" y="120"/>
                    <a:pt x="1960" y="120"/>
                  </a:cubicBezTo>
                  <a:cubicBezTo>
                    <a:pt x="1928" y="124"/>
                    <a:pt x="1857" y="142"/>
                    <a:pt x="1819" y="142"/>
                  </a:cubicBezTo>
                </a:path>
              </a:pathLst>
            </a:custGeom>
            <a:noFill/>
            <a:ln w="82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457440" y="1395360"/>
              <a:ext cx="685440" cy="1631880"/>
            </a:xfrm>
            <a:custGeom>
              <a:avLst/>
              <a:gdLst/>
              <a:ahLst/>
              <a:rect l="l" t="t" r="r" b="b"/>
              <a:pathLst>
                <a:path w="480" h="982">
                  <a:moveTo>
                    <a:pt x="0" y="982"/>
                  </a:moveTo>
                  <a:cubicBezTo>
                    <a:pt x="24" y="907"/>
                    <a:pt x="48" y="802"/>
                    <a:pt x="130" y="774"/>
                  </a:cubicBezTo>
                  <a:cubicBezTo>
                    <a:pt x="181" y="698"/>
                    <a:pt x="159" y="731"/>
                    <a:pt x="196" y="676"/>
                  </a:cubicBezTo>
                  <a:cubicBezTo>
                    <a:pt x="203" y="665"/>
                    <a:pt x="211" y="654"/>
                    <a:pt x="218" y="643"/>
                  </a:cubicBezTo>
                  <a:cubicBezTo>
                    <a:pt x="225" y="632"/>
                    <a:pt x="240" y="611"/>
                    <a:pt x="240" y="611"/>
                  </a:cubicBezTo>
                  <a:cubicBezTo>
                    <a:pt x="262" y="539"/>
                    <a:pt x="308" y="476"/>
                    <a:pt x="349" y="414"/>
                  </a:cubicBezTo>
                  <a:cubicBezTo>
                    <a:pt x="407" y="327"/>
                    <a:pt x="332" y="439"/>
                    <a:pt x="392" y="349"/>
                  </a:cubicBezTo>
                  <a:cubicBezTo>
                    <a:pt x="399" y="338"/>
                    <a:pt x="414" y="316"/>
                    <a:pt x="414" y="316"/>
                  </a:cubicBezTo>
                  <a:cubicBezTo>
                    <a:pt x="441" y="209"/>
                    <a:pt x="429" y="101"/>
                    <a:pt x="480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8120" y="2628720"/>
              <a:ext cx="813960" cy="3048120"/>
            </a:xfrm>
            <a:custGeom>
              <a:avLst/>
              <a:gdLst/>
              <a:ahLst/>
              <a:rect l="l" t="t" r="r" b="b"/>
              <a:pathLst>
                <a:path w="513" h="1920">
                  <a:moveTo>
                    <a:pt x="0" y="1920"/>
                  </a:moveTo>
                  <a:cubicBezTo>
                    <a:pt x="22" y="1913"/>
                    <a:pt x="44" y="1905"/>
                    <a:pt x="66" y="1898"/>
                  </a:cubicBezTo>
                  <a:cubicBezTo>
                    <a:pt x="69" y="1897"/>
                    <a:pt x="141" y="1785"/>
                    <a:pt x="153" y="1767"/>
                  </a:cubicBezTo>
                  <a:cubicBezTo>
                    <a:pt x="160" y="1756"/>
                    <a:pt x="171" y="1747"/>
                    <a:pt x="175" y="1734"/>
                  </a:cubicBezTo>
                  <a:cubicBezTo>
                    <a:pt x="182" y="1712"/>
                    <a:pt x="197" y="1669"/>
                    <a:pt x="197" y="1669"/>
                  </a:cubicBezTo>
                  <a:cubicBezTo>
                    <a:pt x="201" y="1614"/>
                    <a:pt x="202" y="1559"/>
                    <a:pt x="208" y="1505"/>
                  </a:cubicBezTo>
                  <a:cubicBezTo>
                    <a:pt x="209" y="1493"/>
                    <a:pt x="219" y="1484"/>
                    <a:pt x="219" y="1472"/>
                  </a:cubicBezTo>
                  <a:cubicBezTo>
                    <a:pt x="219" y="1418"/>
                    <a:pt x="216" y="1363"/>
                    <a:pt x="208" y="1309"/>
                  </a:cubicBezTo>
                  <a:cubicBezTo>
                    <a:pt x="205" y="1286"/>
                    <a:pt x="186" y="1243"/>
                    <a:pt x="186" y="1243"/>
                  </a:cubicBezTo>
                  <a:cubicBezTo>
                    <a:pt x="197" y="1189"/>
                    <a:pt x="198" y="1163"/>
                    <a:pt x="251" y="1145"/>
                  </a:cubicBezTo>
                  <a:cubicBezTo>
                    <a:pt x="287" y="1169"/>
                    <a:pt x="303" y="1198"/>
                    <a:pt x="339" y="1222"/>
                  </a:cubicBezTo>
                  <a:cubicBezTo>
                    <a:pt x="404" y="1200"/>
                    <a:pt x="403" y="1152"/>
                    <a:pt x="415" y="1091"/>
                  </a:cubicBezTo>
                  <a:cubicBezTo>
                    <a:pt x="440" y="842"/>
                    <a:pt x="471" y="596"/>
                    <a:pt x="513" y="349"/>
                  </a:cubicBezTo>
                  <a:cubicBezTo>
                    <a:pt x="509" y="258"/>
                    <a:pt x="509" y="167"/>
                    <a:pt x="502" y="76"/>
                  </a:cubicBezTo>
                  <a:cubicBezTo>
                    <a:pt x="499" y="40"/>
                    <a:pt x="426" y="0"/>
                    <a:pt x="426" y="0"/>
                  </a:cubicBezTo>
                  <a:cubicBezTo>
                    <a:pt x="404" y="7"/>
                    <a:pt x="360" y="14"/>
                    <a:pt x="360" y="43"/>
                  </a:cubicBezTo>
                </a:path>
              </a:pathLst>
            </a:custGeom>
            <a:noFill/>
            <a:ln w="82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70240" y="1450800"/>
              <a:ext cx="364680" cy="1228680"/>
            </a:xfrm>
            <a:custGeom>
              <a:avLst/>
              <a:gdLst/>
              <a:ahLst/>
              <a:rect l="l" t="t" r="r" b="b"/>
              <a:pathLst>
                <a:path w="230" h="774">
                  <a:moveTo>
                    <a:pt x="0" y="774"/>
                  </a:moveTo>
                  <a:cubicBezTo>
                    <a:pt x="7" y="752"/>
                    <a:pt x="9" y="728"/>
                    <a:pt x="22" y="709"/>
                  </a:cubicBezTo>
                  <a:cubicBezTo>
                    <a:pt x="29" y="698"/>
                    <a:pt x="39" y="688"/>
                    <a:pt x="44" y="676"/>
                  </a:cubicBezTo>
                  <a:cubicBezTo>
                    <a:pt x="62" y="635"/>
                    <a:pt x="74" y="588"/>
                    <a:pt x="88" y="545"/>
                  </a:cubicBezTo>
                  <a:cubicBezTo>
                    <a:pt x="99" y="512"/>
                    <a:pt x="110" y="480"/>
                    <a:pt x="120" y="447"/>
                  </a:cubicBezTo>
                  <a:cubicBezTo>
                    <a:pt x="124" y="436"/>
                    <a:pt x="131" y="414"/>
                    <a:pt x="131" y="414"/>
                  </a:cubicBezTo>
                  <a:cubicBezTo>
                    <a:pt x="135" y="360"/>
                    <a:pt x="136" y="305"/>
                    <a:pt x="142" y="251"/>
                  </a:cubicBezTo>
                  <a:cubicBezTo>
                    <a:pt x="146" y="214"/>
                    <a:pt x="197" y="153"/>
                    <a:pt x="197" y="153"/>
                  </a:cubicBezTo>
                  <a:cubicBezTo>
                    <a:pt x="218" y="89"/>
                    <a:pt x="230" y="64"/>
                    <a:pt x="230" y="0"/>
                  </a:cubicBezTo>
                </a:path>
              </a:pathLst>
            </a:custGeom>
            <a:noFill/>
            <a:ln w="79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703320" y="2628720"/>
              <a:ext cx="120240" cy="8568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0" y="0"/>
                  </a:moveTo>
                  <a:cubicBezTo>
                    <a:pt x="18" y="4"/>
                    <a:pt x="39" y="1"/>
                    <a:pt x="54" y="11"/>
                  </a:cubicBezTo>
                  <a:cubicBezTo>
                    <a:pt x="67" y="20"/>
                    <a:pt x="65" y="43"/>
                    <a:pt x="76" y="54"/>
                  </a:cubicBezTo>
                </a:path>
              </a:pathLst>
            </a:custGeom>
            <a:noFill/>
            <a:ln w="66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86040" y="2385720"/>
              <a:ext cx="815400" cy="3394080"/>
            </a:xfrm>
            <a:custGeom>
              <a:avLst/>
              <a:gdLst/>
              <a:ahLst/>
              <a:rect l="l" t="t" r="r" b="b"/>
              <a:pathLst>
                <a:path w="514" h="2138">
                  <a:moveTo>
                    <a:pt x="0" y="2138"/>
                  </a:moveTo>
                  <a:cubicBezTo>
                    <a:pt x="15" y="2116"/>
                    <a:pt x="29" y="2095"/>
                    <a:pt x="44" y="2073"/>
                  </a:cubicBezTo>
                  <a:cubicBezTo>
                    <a:pt x="57" y="2054"/>
                    <a:pt x="58" y="2029"/>
                    <a:pt x="65" y="2007"/>
                  </a:cubicBezTo>
                  <a:cubicBezTo>
                    <a:pt x="84" y="1950"/>
                    <a:pt x="97" y="1894"/>
                    <a:pt x="131" y="1844"/>
                  </a:cubicBezTo>
                  <a:cubicBezTo>
                    <a:pt x="142" y="1811"/>
                    <a:pt x="153" y="1778"/>
                    <a:pt x="164" y="1745"/>
                  </a:cubicBezTo>
                  <a:cubicBezTo>
                    <a:pt x="182" y="1690"/>
                    <a:pt x="229" y="1658"/>
                    <a:pt x="262" y="1615"/>
                  </a:cubicBezTo>
                  <a:cubicBezTo>
                    <a:pt x="302" y="1564"/>
                    <a:pt x="308" y="1528"/>
                    <a:pt x="360" y="1495"/>
                  </a:cubicBezTo>
                  <a:cubicBezTo>
                    <a:pt x="367" y="1484"/>
                    <a:pt x="373" y="1471"/>
                    <a:pt x="382" y="1462"/>
                  </a:cubicBezTo>
                  <a:cubicBezTo>
                    <a:pt x="391" y="1453"/>
                    <a:pt x="406" y="1450"/>
                    <a:pt x="415" y="1440"/>
                  </a:cubicBezTo>
                  <a:cubicBezTo>
                    <a:pt x="432" y="1420"/>
                    <a:pt x="458" y="1375"/>
                    <a:pt x="458" y="1375"/>
                  </a:cubicBezTo>
                  <a:cubicBezTo>
                    <a:pt x="462" y="1364"/>
                    <a:pt x="473" y="1353"/>
                    <a:pt x="469" y="1342"/>
                  </a:cubicBezTo>
                  <a:cubicBezTo>
                    <a:pt x="457" y="1312"/>
                    <a:pt x="370" y="1302"/>
                    <a:pt x="349" y="1298"/>
                  </a:cubicBezTo>
                  <a:cubicBezTo>
                    <a:pt x="375" y="1219"/>
                    <a:pt x="349" y="1305"/>
                    <a:pt x="371" y="1145"/>
                  </a:cubicBezTo>
                  <a:cubicBezTo>
                    <a:pt x="377" y="1098"/>
                    <a:pt x="392" y="1050"/>
                    <a:pt x="404" y="1004"/>
                  </a:cubicBezTo>
                  <a:cubicBezTo>
                    <a:pt x="406" y="966"/>
                    <a:pt x="419" y="730"/>
                    <a:pt x="425" y="676"/>
                  </a:cubicBezTo>
                  <a:cubicBezTo>
                    <a:pt x="441" y="523"/>
                    <a:pt x="483" y="369"/>
                    <a:pt x="513" y="218"/>
                  </a:cubicBezTo>
                  <a:cubicBezTo>
                    <a:pt x="509" y="193"/>
                    <a:pt x="514" y="165"/>
                    <a:pt x="502" y="142"/>
                  </a:cubicBezTo>
                  <a:cubicBezTo>
                    <a:pt x="497" y="132"/>
                    <a:pt x="477" y="139"/>
                    <a:pt x="469" y="131"/>
                  </a:cubicBezTo>
                  <a:cubicBezTo>
                    <a:pt x="452" y="114"/>
                    <a:pt x="440" y="30"/>
                    <a:pt x="425" y="0"/>
                  </a:cubicBezTo>
                </a:path>
              </a:pathLst>
            </a:custGeom>
            <a:noFill/>
            <a:ln w="79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47800" y="1852560"/>
              <a:ext cx="625320" cy="949320"/>
            </a:xfrm>
            <a:custGeom>
              <a:avLst/>
              <a:gdLst/>
              <a:ahLst/>
              <a:rect l="l" t="t" r="r" b="b"/>
              <a:pathLst>
                <a:path w="361" h="698">
                  <a:moveTo>
                    <a:pt x="305" y="698"/>
                  </a:moveTo>
                  <a:cubicBezTo>
                    <a:pt x="361" y="614"/>
                    <a:pt x="325" y="493"/>
                    <a:pt x="272" y="414"/>
                  </a:cubicBezTo>
                  <a:cubicBezTo>
                    <a:pt x="254" y="356"/>
                    <a:pt x="268" y="391"/>
                    <a:pt x="218" y="316"/>
                  </a:cubicBezTo>
                  <a:cubicBezTo>
                    <a:pt x="212" y="306"/>
                    <a:pt x="214" y="292"/>
                    <a:pt x="207" y="283"/>
                  </a:cubicBezTo>
                  <a:cubicBezTo>
                    <a:pt x="199" y="273"/>
                    <a:pt x="185" y="268"/>
                    <a:pt x="174" y="261"/>
                  </a:cubicBezTo>
                  <a:cubicBezTo>
                    <a:pt x="159" y="218"/>
                    <a:pt x="147" y="199"/>
                    <a:pt x="109" y="174"/>
                  </a:cubicBezTo>
                  <a:cubicBezTo>
                    <a:pt x="81" y="90"/>
                    <a:pt x="119" y="193"/>
                    <a:pt x="76" y="109"/>
                  </a:cubicBezTo>
                  <a:cubicBezTo>
                    <a:pt x="71" y="99"/>
                    <a:pt x="72" y="85"/>
                    <a:pt x="65" y="76"/>
                  </a:cubicBezTo>
                  <a:cubicBezTo>
                    <a:pt x="57" y="66"/>
                    <a:pt x="43" y="61"/>
                    <a:pt x="32" y="54"/>
                  </a:cubicBezTo>
                  <a:cubicBezTo>
                    <a:pt x="19" y="11"/>
                    <a:pt x="30" y="29"/>
                    <a:pt x="0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76480" y="1380960"/>
              <a:ext cx="225000" cy="208080"/>
            </a:xfrm>
            <a:custGeom>
              <a:avLst/>
              <a:gdLst/>
              <a:ahLst/>
              <a:rect l="l" t="t" r="r" b="b"/>
              <a:pathLst>
                <a:path w="142" h="131">
                  <a:moveTo>
                    <a:pt x="142" y="131"/>
                  </a:moveTo>
                  <a:cubicBezTo>
                    <a:pt x="68" y="106"/>
                    <a:pt x="82" y="131"/>
                    <a:pt x="65" y="77"/>
                  </a:cubicBezTo>
                  <a:cubicBezTo>
                    <a:pt x="61" y="66"/>
                    <a:pt x="60" y="54"/>
                    <a:pt x="55" y="44"/>
                  </a:cubicBezTo>
                  <a:cubicBezTo>
                    <a:pt x="49" y="32"/>
                    <a:pt x="43" y="19"/>
                    <a:pt x="33" y="11"/>
                  </a:cubicBezTo>
                  <a:cubicBezTo>
                    <a:pt x="24" y="4"/>
                    <a:pt x="0" y="0"/>
                    <a:pt x="0" y="0"/>
                  </a:cubicBezTo>
                </a:path>
              </a:pathLst>
            </a:custGeom>
            <a:noFill/>
            <a:ln w="79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98560" y="1536480"/>
              <a:ext cx="242640" cy="243000"/>
            </a:xfrm>
            <a:custGeom>
              <a:avLst/>
              <a:gdLst/>
              <a:ahLst/>
              <a:rect l="l" t="t" r="r" b="b"/>
              <a:pathLst>
                <a:path w="153" h="153">
                  <a:moveTo>
                    <a:pt x="153" y="153"/>
                  </a:moveTo>
                  <a:cubicBezTo>
                    <a:pt x="142" y="146"/>
                    <a:pt x="128" y="141"/>
                    <a:pt x="120" y="131"/>
                  </a:cubicBezTo>
                  <a:cubicBezTo>
                    <a:pt x="78" y="78"/>
                    <a:pt x="150" y="112"/>
                    <a:pt x="77" y="88"/>
                  </a:cubicBezTo>
                  <a:cubicBezTo>
                    <a:pt x="70" y="77"/>
                    <a:pt x="65" y="63"/>
                    <a:pt x="55" y="55"/>
                  </a:cubicBezTo>
                  <a:cubicBezTo>
                    <a:pt x="31" y="36"/>
                    <a:pt x="0" y="45"/>
                    <a:pt x="0" y="0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075000" y="1606320"/>
              <a:ext cx="555480" cy="882720"/>
            </a:xfrm>
            <a:custGeom>
              <a:avLst/>
              <a:gdLst/>
              <a:ahLst/>
              <a:rect l="l" t="t" r="r" b="b"/>
              <a:pathLst>
                <a:path w="350" h="556">
                  <a:moveTo>
                    <a:pt x="0" y="556"/>
                  </a:moveTo>
                  <a:cubicBezTo>
                    <a:pt x="5" y="555"/>
                    <a:pt x="68" y="542"/>
                    <a:pt x="77" y="535"/>
                  </a:cubicBezTo>
                  <a:cubicBezTo>
                    <a:pt x="87" y="527"/>
                    <a:pt x="90" y="511"/>
                    <a:pt x="99" y="502"/>
                  </a:cubicBezTo>
                  <a:cubicBezTo>
                    <a:pt x="108" y="493"/>
                    <a:pt x="120" y="487"/>
                    <a:pt x="131" y="480"/>
                  </a:cubicBezTo>
                  <a:cubicBezTo>
                    <a:pt x="138" y="332"/>
                    <a:pt x="120" y="148"/>
                    <a:pt x="262" y="55"/>
                  </a:cubicBezTo>
                  <a:cubicBezTo>
                    <a:pt x="269" y="44"/>
                    <a:pt x="273" y="29"/>
                    <a:pt x="284" y="22"/>
                  </a:cubicBezTo>
                  <a:cubicBezTo>
                    <a:pt x="304" y="10"/>
                    <a:pt x="350" y="0"/>
                    <a:pt x="350" y="0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41560" y="1295280"/>
              <a:ext cx="641160" cy="519120"/>
            </a:xfrm>
            <a:custGeom>
              <a:avLst/>
              <a:gdLst/>
              <a:ahLst/>
              <a:rect l="l" t="t" r="r" b="b"/>
              <a:pathLst>
                <a:path w="404" h="327">
                  <a:moveTo>
                    <a:pt x="404" y="109"/>
                  </a:moveTo>
                  <a:cubicBezTo>
                    <a:pt x="382" y="116"/>
                    <a:pt x="361" y="124"/>
                    <a:pt x="339" y="131"/>
                  </a:cubicBezTo>
                  <a:cubicBezTo>
                    <a:pt x="314" y="139"/>
                    <a:pt x="317" y="181"/>
                    <a:pt x="295" y="196"/>
                  </a:cubicBezTo>
                  <a:cubicBezTo>
                    <a:pt x="284" y="203"/>
                    <a:pt x="274" y="211"/>
                    <a:pt x="263" y="218"/>
                  </a:cubicBezTo>
                  <a:cubicBezTo>
                    <a:pt x="202" y="309"/>
                    <a:pt x="282" y="204"/>
                    <a:pt x="208" y="262"/>
                  </a:cubicBezTo>
                  <a:cubicBezTo>
                    <a:pt x="198" y="270"/>
                    <a:pt x="197" y="287"/>
                    <a:pt x="186" y="294"/>
                  </a:cubicBezTo>
                  <a:cubicBezTo>
                    <a:pt x="167" y="306"/>
                    <a:pt x="143" y="309"/>
                    <a:pt x="121" y="316"/>
                  </a:cubicBezTo>
                  <a:cubicBezTo>
                    <a:pt x="110" y="320"/>
                    <a:pt x="88" y="327"/>
                    <a:pt x="88" y="327"/>
                  </a:cubicBezTo>
                  <a:cubicBezTo>
                    <a:pt x="73" y="323"/>
                    <a:pt x="59" y="320"/>
                    <a:pt x="44" y="316"/>
                  </a:cubicBezTo>
                  <a:cubicBezTo>
                    <a:pt x="33" y="313"/>
                    <a:pt x="14" y="316"/>
                    <a:pt x="12" y="305"/>
                  </a:cubicBezTo>
                  <a:cubicBezTo>
                    <a:pt x="0" y="239"/>
                    <a:pt x="34" y="160"/>
                    <a:pt x="55" y="98"/>
                  </a:cubicBezTo>
                  <a:cubicBezTo>
                    <a:pt x="62" y="76"/>
                    <a:pt x="64" y="51"/>
                    <a:pt x="77" y="32"/>
                  </a:cubicBezTo>
                  <a:cubicBezTo>
                    <a:pt x="84" y="21"/>
                    <a:pt x="99" y="0"/>
                    <a:pt x="99" y="0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29040" y="1295280"/>
              <a:ext cx="553680" cy="987480"/>
            </a:xfrm>
            <a:custGeom>
              <a:avLst/>
              <a:gdLst/>
              <a:ahLst/>
              <a:rect l="l" t="t" r="r" b="b"/>
              <a:pathLst>
                <a:path w="349" h="622">
                  <a:moveTo>
                    <a:pt x="349" y="0"/>
                  </a:moveTo>
                  <a:cubicBezTo>
                    <a:pt x="324" y="73"/>
                    <a:pt x="317" y="141"/>
                    <a:pt x="251" y="185"/>
                  </a:cubicBezTo>
                  <a:cubicBezTo>
                    <a:pt x="212" y="243"/>
                    <a:pt x="170" y="291"/>
                    <a:pt x="131" y="349"/>
                  </a:cubicBezTo>
                  <a:cubicBezTo>
                    <a:pt x="72" y="438"/>
                    <a:pt x="146" y="327"/>
                    <a:pt x="87" y="414"/>
                  </a:cubicBezTo>
                  <a:cubicBezTo>
                    <a:pt x="80" y="425"/>
                    <a:pt x="65" y="447"/>
                    <a:pt x="65" y="447"/>
                  </a:cubicBezTo>
                  <a:cubicBezTo>
                    <a:pt x="48" y="502"/>
                    <a:pt x="59" y="469"/>
                    <a:pt x="33" y="545"/>
                  </a:cubicBezTo>
                  <a:cubicBezTo>
                    <a:pt x="23" y="575"/>
                    <a:pt x="0" y="587"/>
                    <a:pt x="0" y="622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13240" y="2714400"/>
              <a:ext cx="242280" cy="122400"/>
            </a:xfrm>
            <a:custGeom>
              <a:avLst/>
              <a:gdLst/>
              <a:ahLst/>
              <a:rect l="l" t="t" r="r" b="b"/>
              <a:pathLst>
                <a:path w="153" h="77">
                  <a:moveTo>
                    <a:pt x="153" y="0"/>
                  </a:moveTo>
                  <a:cubicBezTo>
                    <a:pt x="89" y="22"/>
                    <a:pt x="47" y="30"/>
                    <a:pt x="0" y="77"/>
                  </a:cubicBezTo>
                </a:path>
              </a:pathLst>
            </a:custGeom>
            <a:noFill/>
            <a:ln w="79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82720" y="2700000"/>
              <a:ext cx="207720" cy="66960"/>
            </a:xfrm>
            <a:custGeom>
              <a:avLst/>
              <a:gdLst/>
              <a:ahLst/>
              <a:rect l="l" t="t" r="r" b="b"/>
              <a:pathLst>
                <a:path w="131" h="42">
                  <a:moveTo>
                    <a:pt x="0" y="42"/>
                  </a:moveTo>
                  <a:cubicBezTo>
                    <a:pt x="45" y="27"/>
                    <a:pt x="89" y="0"/>
                    <a:pt x="131" y="42"/>
                  </a:cubicBezTo>
                </a:path>
              </a:pathLst>
            </a:custGeom>
            <a:noFill/>
            <a:ln w="66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29040" y="2639880"/>
              <a:ext cx="172440" cy="57240"/>
            </a:xfrm>
            <a:custGeom>
              <a:avLst/>
              <a:gdLst/>
              <a:ahLst/>
              <a:rect l="l" t="t" r="r" b="b"/>
              <a:pathLst>
                <a:path w="109" h="36">
                  <a:moveTo>
                    <a:pt x="109" y="15"/>
                  </a:moveTo>
                  <a:cubicBezTo>
                    <a:pt x="65" y="0"/>
                    <a:pt x="35" y="3"/>
                    <a:pt x="0" y="3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57200" y="1523880"/>
            <a:ext cx="53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10280" y="2666880"/>
            <a:ext cx="53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3505320"/>
            <a:ext cx="53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276720" y="3429000"/>
            <a:ext cx="533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86600" y="5715000"/>
            <a:ext cx="53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238880" y="3962520"/>
            <a:ext cx="53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990720" y="1752480"/>
            <a:ext cx="18288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990720" y="2895120"/>
            <a:ext cx="236196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657600" y="1294920"/>
            <a:ext cx="68580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5409720" y="2285640"/>
            <a:ext cx="16002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5181120" y="4191120"/>
            <a:ext cx="20574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409720" y="5638320"/>
            <a:ext cx="1676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part 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1460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an at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a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a capil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a cha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267080" y="1980720"/>
            <a:ext cx="4056120" cy="3203280"/>
            <a:chOff x="4267080" y="1980720"/>
            <a:chExt cx="4056120" cy="3203280"/>
          </a:xfrm>
        </p:grpSpPr>
        <p:grpSp>
          <p:nvGrpSpPr>
            <p:cNvPr id="730" name=""/>
            <p:cNvGrpSpPr/>
            <p:nvPr/>
          </p:nvGrpSpPr>
          <p:grpSpPr>
            <a:xfrm>
              <a:off x="5143680" y="1981080"/>
              <a:ext cx="2625120" cy="3022200"/>
              <a:chOff x="5143680" y="1981080"/>
              <a:chExt cx="2625120" cy="3022200"/>
            </a:xfrm>
          </p:grpSpPr>
          <p:sp>
            <p:nvSpPr>
              <p:cNvPr id="731" name=""/>
              <p:cNvSpPr/>
              <p:nvPr/>
            </p:nvSpPr>
            <p:spPr>
              <a:xfrm>
                <a:off x="5173200" y="2208240"/>
                <a:ext cx="250920" cy="649440"/>
              </a:xfrm>
              <a:custGeom>
                <a:avLst/>
                <a:gdLst/>
                <a:ahLst/>
                <a:rect l="l" t="t" r="r" b="b"/>
                <a:pathLst>
                  <a:path w="262" h="654">
                    <a:moveTo>
                      <a:pt x="44" y="0"/>
                    </a:moveTo>
                    <a:cubicBezTo>
                      <a:pt x="90" y="70"/>
                      <a:pt x="116" y="94"/>
                      <a:pt x="66" y="185"/>
                    </a:cubicBezTo>
                    <a:cubicBezTo>
                      <a:pt x="53" y="208"/>
                      <a:pt x="30" y="226"/>
                      <a:pt x="22" y="251"/>
                    </a:cubicBezTo>
                    <a:cubicBezTo>
                      <a:pt x="15" y="273"/>
                      <a:pt x="0" y="316"/>
                      <a:pt x="0" y="316"/>
                    </a:cubicBezTo>
                    <a:cubicBezTo>
                      <a:pt x="2" y="326"/>
                      <a:pt x="14" y="397"/>
                      <a:pt x="22" y="403"/>
                    </a:cubicBezTo>
                    <a:cubicBezTo>
                      <a:pt x="50" y="423"/>
                      <a:pt x="117" y="435"/>
                      <a:pt x="153" y="447"/>
                    </a:cubicBezTo>
                    <a:cubicBezTo>
                      <a:pt x="167" y="452"/>
                      <a:pt x="182" y="454"/>
                      <a:pt x="196" y="458"/>
                    </a:cubicBezTo>
                    <a:cubicBezTo>
                      <a:pt x="218" y="465"/>
                      <a:pt x="262" y="480"/>
                      <a:pt x="262" y="480"/>
                    </a:cubicBezTo>
                    <a:cubicBezTo>
                      <a:pt x="258" y="516"/>
                      <a:pt x="258" y="553"/>
                      <a:pt x="251" y="589"/>
                    </a:cubicBezTo>
                    <a:cubicBezTo>
                      <a:pt x="247" y="611"/>
                      <a:pt x="229" y="654"/>
                      <a:pt x="229" y="654"/>
                    </a:cubicBezTo>
                  </a:path>
                </a:pathLst>
              </a:custGeom>
              <a:noFill/>
              <a:ln w="88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393160" y="2078280"/>
                <a:ext cx="280800" cy="228240"/>
              </a:xfrm>
              <a:custGeom>
                <a:avLst/>
                <a:gdLst/>
                <a:ahLst/>
                <a:rect l="l" t="t" r="r" b="b"/>
                <a:pathLst>
                  <a:path w="293" h="230">
                    <a:moveTo>
                      <a:pt x="0" y="76"/>
                    </a:moveTo>
                    <a:cubicBezTo>
                      <a:pt x="22" y="142"/>
                      <a:pt x="7" y="165"/>
                      <a:pt x="66" y="185"/>
                    </a:cubicBezTo>
                    <a:cubicBezTo>
                      <a:pt x="131" y="230"/>
                      <a:pt x="209" y="217"/>
                      <a:pt x="273" y="174"/>
                    </a:cubicBezTo>
                    <a:cubicBezTo>
                      <a:pt x="293" y="115"/>
                      <a:pt x="267" y="54"/>
                      <a:pt x="240" y="0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759280" y="2090880"/>
                <a:ext cx="368280" cy="381240"/>
              </a:xfrm>
              <a:custGeom>
                <a:avLst/>
                <a:gdLst/>
                <a:ahLst/>
                <a:rect l="l" t="t" r="r" b="b"/>
                <a:pathLst>
                  <a:path w="218" h="404">
                    <a:moveTo>
                      <a:pt x="0" y="0"/>
                    </a:moveTo>
                    <a:cubicBezTo>
                      <a:pt x="25" y="78"/>
                      <a:pt x="8" y="47"/>
                      <a:pt x="43" y="98"/>
                    </a:cubicBezTo>
                    <a:cubicBezTo>
                      <a:pt x="62" y="156"/>
                      <a:pt x="79" y="215"/>
                      <a:pt x="98" y="273"/>
                    </a:cubicBezTo>
                    <a:cubicBezTo>
                      <a:pt x="98" y="274"/>
                      <a:pt x="115" y="344"/>
                      <a:pt x="120" y="349"/>
                    </a:cubicBezTo>
                    <a:cubicBezTo>
                      <a:pt x="158" y="387"/>
                      <a:pt x="177" y="390"/>
                      <a:pt x="218" y="404"/>
                    </a:cubicBezTo>
                    <a:cubicBezTo>
                      <a:pt x="214" y="349"/>
                      <a:pt x="213" y="295"/>
                      <a:pt x="207" y="240"/>
                    </a:cubicBezTo>
                    <a:cubicBezTo>
                      <a:pt x="205" y="222"/>
                      <a:pt x="201" y="204"/>
                      <a:pt x="196" y="186"/>
                    </a:cubicBezTo>
                    <a:cubicBezTo>
                      <a:pt x="193" y="175"/>
                      <a:pt x="185" y="153"/>
                      <a:pt x="185" y="153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143680" y="2706840"/>
                <a:ext cx="2468160" cy="2296440"/>
              </a:xfrm>
              <a:custGeom>
                <a:avLst/>
                <a:gdLst/>
                <a:ahLst/>
                <a:rect l="l" t="t" r="r" b="b"/>
                <a:pathLst>
                  <a:path w="2573" h="2312">
                    <a:moveTo>
                      <a:pt x="271" y="152"/>
                    </a:moveTo>
                    <a:cubicBezTo>
                      <a:pt x="298" y="233"/>
                      <a:pt x="257" y="304"/>
                      <a:pt x="238" y="381"/>
                    </a:cubicBezTo>
                    <a:cubicBezTo>
                      <a:pt x="221" y="447"/>
                      <a:pt x="192" y="496"/>
                      <a:pt x="162" y="556"/>
                    </a:cubicBezTo>
                    <a:cubicBezTo>
                      <a:pt x="139" y="602"/>
                      <a:pt x="131" y="659"/>
                      <a:pt x="118" y="709"/>
                    </a:cubicBezTo>
                    <a:cubicBezTo>
                      <a:pt x="102" y="771"/>
                      <a:pt x="94" y="833"/>
                      <a:pt x="75" y="894"/>
                    </a:cubicBezTo>
                    <a:cubicBezTo>
                      <a:pt x="67" y="921"/>
                      <a:pt x="52" y="962"/>
                      <a:pt x="42" y="992"/>
                    </a:cubicBezTo>
                    <a:cubicBezTo>
                      <a:pt x="38" y="1003"/>
                      <a:pt x="31" y="1025"/>
                      <a:pt x="31" y="1025"/>
                    </a:cubicBezTo>
                    <a:cubicBezTo>
                      <a:pt x="34" y="1125"/>
                      <a:pt x="0" y="1478"/>
                      <a:pt x="140" y="1571"/>
                    </a:cubicBezTo>
                    <a:cubicBezTo>
                      <a:pt x="159" y="1627"/>
                      <a:pt x="145" y="1595"/>
                      <a:pt x="195" y="1669"/>
                    </a:cubicBezTo>
                    <a:cubicBezTo>
                      <a:pt x="202" y="1680"/>
                      <a:pt x="217" y="1701"/>
                      <a:pt x="217" y="1701"/>
                    </a:cubicBezTo>
                    <a:cubicBezTo>
                      <a:pt x="239" y="1773"/>
                      <a:pt x="208" y="1698"/>
                      <a:pt x="260" y="1756"/>
                    </a:cubicBezTo>
                    <a:cubicBezTo>
                      <a:pt x="309" y="1811"/>
                      <a:pt x="329" y="1907"/>
                      <a:pt x="402" y="1931"/>
                    </a:cubicBezTo>
                    <a:cubicBezTo>
                      <a:pt x="434" y="1962"/>
                      <a:pt x="453" y="1993"/>
                      <a:pt x="489" y="2018"/>
                    </a:cubicBezTo>
                    <a:cubicBezTo>
                      <a:pt x="496" y="2029"/>
                      <a:pt x="505" y="2039"/>
                      <a:pt x="511" y="2051"/>
                    </a:cubicBezTo>
                    <a:cubicBezTo>
                      <a:pt x="516" y="2061"/>
                      <a:pt x="514" y="2075"/>
                      <a:pt x="522" y="2083"/>
                    </a:cubicBezTo>
                    <a:cubicBezTo>
                      <a:pt x="541" y="2102"/>
                      <a:pt x="587" y="2127"/>
                      <a:pt x="587" y="2127"/>
                    </a:cubicBezTo>
                    <a:cubicBezTo>
                      <a:pt x="594" y="2138"/>
                      <a:pt x="607" y="2147"/>
                      <a:pt x="609" y="2160"/>
                    </a:cubicBezTo>
                    <a:cubicBezTo>
                      <a:pt x="611" y="2171"/>
                      <a:pt x="594" y="2182"/>
                      <a:pt x="598" y="2192"/>
                    </a:cubicBezTo>
                    <a:cubicBezTo>
                      <a:pt x="608" y="2217"/>
                      <a:pt x="672" y="2221"/>
                      <a:pt x="686" y="2225"/>
                    </a:cubicBezTo>
                    <a:cubicBezTo>
                      <a:pt x="719" y="2234"/>
                      <a:pt x="751" y="2247"/>
                      <a:pt x="784" y="2258"/>
                    </a:cubicBezTo>
                    <a:cubicBezTo>
                      <a:pt x="818" y="2269"/>
                      <a:pt x="843" y="2298"/>
                      <a:pt x="882" y="2301"/>
                    </a:cubicBezTo>
                    <a:cubicBezTo>
                      <a:pt x="962" y="2307"/>
                      <a:pt x="1042" y="2308"/>
                      <a:pt x="1122" y="2312"/>
                    </a:cubicBezTo>
                    <a:cubicBezTo>
                      <a:pt x="1306" y="2301"/>
                      <a:pt x="1482" y="2277"/>
                      <a:pt x="1667" y="2269"/>
                    </a:cubicBezTo>
                    <a:cubicBezTo>
                      <a:pt x="1706" y="2256"/>
                      <a:pt x="1831" y="2225"/>
                      <a:pt x="1864" y="2203"/>
                    </a:cubicBezTo>
                    <a:cubicBezTo>
                      <a:pt x="1909" y="2173"/>
                      <a:pt x="1945" y="2144"/>
                      <a:pt x="1995" y="2127"/>
                    </a:cubicBezTo>
                    <a:cubicBezTo>
                      <a:pt x="2030" y="2103"/>
                      <a:pt x="2046" y="2074"/>
                      <a:pt x="2082" y="2051"/>
                    </a:cubicBezTo>
                    <a:cubicBezTo>
                      <a:pt x="2089" y="2040"/>
                      <a:pt x="2095" y="2027"/>
                      <a:pt x="2104" y="2018"/>
                    </a:cubicBezTo>
                    <a:cubicBezTo>
                      <a:pt x="2113" y="2009"/>
                      <a:pt x="2129" y="2006"/>
                      <a:pt x="2137" y="1996"/>
                    </a:cubicBezTo>
                    <a:cubicBezTo>
                      <a:pt x="2196" y="1920"/>
                      <a:pt x="2085" y="2004"/>
                      <a:pt x="2180" y="1941"/>
                    </a:cubicBezTo>
                    <a:cubicBezTo>
                      <a:pt x="2195" y="1898"/>
                      <a:pt x="2208" y="1879"/>
                      <a:pt x="2246" y="1854"/>
                    </a:cubicBezTo>
                    <a:cubicBezTo>
                      <a:pt x="2300" y="1769"/>
                      <a:pt x="2230" y="1869"/>
                      <a:pt x="2300" y="1800"/>
                    </a:cubicBezTo>
                    <a:cubicBezTo>
                      <a:pt x="2378" y="1724"/>
                      <a:pt x="2263" y="1806"/>
                      <a:pt x="2355" y="1745"/>
                    </a:cubicBezTo>
                    <a:cubicBezTo>
                      <a:pt x="2371" y="1698"/>
                      <a:pt x="2400" y="1659"/>
                      <a:pt x="2420" y="1614"/>
                    </a:cubicBezTo>
                    <a:cubicBezTo>
                      <a:pt x="2459" y="1528"/>
                      <a:pt x="2479" y="1430"/>
                      <a:pt x="2507" y="1341"/>
                    </a:cubicBezTo>
                    <a:cubicBezTo>
                      <a:pt x="2548" y="1212"/>
                      <a:pt x="2551" y="1071"/>
                      <a:pt x="2573" y="938"/>
                    </a:cubicBezTo>
                    <a:cubicBezTo>
                      <a:pt x="2569" y="687"/>
                      <a:pt x="2572" y="436"/>
                      <a:pt x="2562" y="185"/>
                    </a:cubicBezTo>
                    <a:cubicBezTo>
                      <a:pt x="2561" y="169"/>
                      <a:pt x="2533" y="70"/>
                      <a:pt x="2507" y="54"/>
                    </a:cubicBezTo>
                    <a:cubicBezTo>
                      <a:pt x="2462" y="26"/>
                      <a:pt x="2386" y="13"/>
                      <a:pt x="2333" y="0"/>
                    </a:cubicBezTo>
                    <a:cubicBezTo>
                      <a:pt x="2282" y="4"/>
                      <a:pt x="2230" y="2"/>
                      <a:pt x="2180" y="11"/>
                    </a:cubicBezTo>
                    <a:cubicBezTo>
                      <a:pt x="2146" y="17"/>
                      <a:pt x="2121" y="68"/>
                      <a:pt x="2093" y="87"/>
                    </a:cubicBezTo>
                    <a:cubicBezTo>
                      <a:pt x="2086" y="98"/>
                      <a:pt x="2080" y="111"/>
                      <a:pt x="2071" y="120"/>
                    </a:cubicBezTo>
                    <a:cubicBezTo>
                      <a:pt x="2062" y="129"/>
                      <a:pt x="2046" y="131"/>
                      <a:pt x="2038" y="141"/>
                    </a:cubicBezTo>
                    <a:cubicBezTo>
                      <a:pt x="2031" y="150"/>
                      <a:pt x="2032" y="164"/>
                      <a:pt x="2027" y="174"/>
                    </a:cubicBezTo>
                    <a:cubicBezTo>
                      <a:pt x="2025" y="178"/>
                      <a:pt x="2020" y="181"/>
                      <a:pt x="2017" y="185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403600" y="2696040"/>
                <a:ext cx="282960" cy="302760"/>
              </a:xfrm>
              <a:custGeom>
                <a:avLst/>
                <a:gdLst/>
                <a:ahLst/>
                <a:rect l="l" t="t" r="r" b="b"/>
                <a:pathLst>
                  <a:path w="295" h="305">
                    <a:moveTo>
                      <a:pt x="0" y="0"/>
                    </a:moveTo>
                    <a:cubicBezTo>
                      <a:pt x="62" y="16"/>
                      <a:pt x="125" y="34"/>
                      <a:pt x="186" y="54"/>
                    </a:cubicBezTo>
                    <a:cubicBezTo>
                      <a:pt x="270" y="112"/>
                      <a:pt x="295" y="209"/>
                      <a:pt x="295" y="305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333400" y="2738520"/>
                <a:ext cx="2110320" cy="2104920"/>
              </a:xfrm>
              <a:custGeom>
                <a:avLst/>
                <a:gdLst/>
                <a:ahLst/>
                <a:rect l="l" t="t" r="r" b="b"/>
                <a:pathLst>
                  <a:path w="2200" h="2119">
                    <a:moveTo>
                      <a:pt x="193" y="0"/>
                    </a:moveTo>
                    <a:cubicBezTo>
                      <a:pt x="186" y="203"/>
                      <a:pt x="190" y="253"/>
                      <a:pt x="160" y="404"/>
                    </a:cubicBezTo>
                    <a:cubicBezTo>
                      <a:pt x="156" y="451"/>
                      <a:pt x="155" y="499"/>
                      <a:pt x="149" y="546"/>
                    </a:cubicBezTo>
                    <a:cubicBezTo>
                      <a:pt x="142" y="600"/>
                      <a:pt x="113" y="657"/>
                      <a:pt x="95" y="709"/>
                    </a:cubicBezTo>
                    <a:cubicBezTo>
                      <a:pt x="44" y="857"/>
                      <a:pt x="97" y="637"/>
                      <a:pt x="62" y="775"/>
                    </a:cubicBezTo>
                    <a:cubicBezTo>
                      <a:pt x="50" y="822"/>
                      <a:pt x="41" y="870"/>
                      <a:pt x="29" y="917"/>
                    </a:cubicBezTo>
                    <a:cubicBezTo>
                      <a:pt x="26" y="931"/>
                      <a:pt x="22" y="946"/>
                      <a:pt x="19" y="960"/>
                    </a:cubicBezTo>
                    <a:cubicBezTo>
                      <a:pt x="15" y="975"/>
                      <a:pt x="8" y="1004"/>
                      <a:pt x="8" y="1004"/>
                    </a:cubicBezTo>
                    <a:cubicBezTo>
                      <a:pt x="12" y="1048"/>
                      <a:pt x="0" y="1096"/>
                      <a:pt x="19" y="1135"/>
                    </a:cubicBezTo>
                    <a:cubicBezTo>
                      <a:pt x="29" y="1155"/>
                      <a:pt x="84" y="1157"/>
                      <a:pt x="84" y="1157"/>
                    </a:cubicBezTo>
                    <a:cubicBezTo>
                      <a:pt x="145" y="1065"/>
                      <a:pt x="63" y="1180"/>
                      <a:pt x="139" y="1102"/>
                    </a:cubicBezTo>
                    <a:cubicBezTo>
                      <a:pt x="187" y="1053"/>
                      <a:pt x="129" y="1078"/>
                      <a:pt x="193" y="1059"/>
                    </a:cubicBezTo>
                    <a:cubicBezTo>
                      <a:pt x="204" y="1062"/>
                      <a:pt x="218" y="1061"/>
                      <a:pt x="226" y="1069"/>
                    </a:cubicBezTo>
                    <a:cubicBezTo>
                      <a:pt x="251" y="1093"/>
                      <a:pt x="234" y="1166"/>
                      <a:pt x="215" y="1189"/>
                    </a:cubicBezTo>
                    <a:cubicBezTo>
                      <a:pt x="207" y="1199"/>
                      <a:pt x="193" y="1204"/>
                      <a:pt x="182" y="1211"/>
                    </a:cubicBezTo>
                    <a:cubicBezTo>
                      <a:pt x="143" y="1270"/>
                      <a:pt x="133" y="1288"/>
                      <a:pt x="117" y="1353"/>
                    </a:cubicBezTo>
                    <a:cubicBezTo>
                      <a:pt x="124" y="1442"/>
                      <a:pt x="101" y="1503"/>
                      <a:pt x="171" y="1549"/>
                    </a:cubicBezTo>
                    <a:cubicBezTo>
                      <a:pt x="205" y="1600"/>
                      <a:pt x="221" y="1637"/>
                      <a:pt x="269" y="1669"/>
                    </a:cubicBezTo>
                    <a:cubicBezTo>
                      <a:pt x="297" y="1752"/>
                      <a:pt x="256" y="1653"/>
                      <a:pt x="313" y="1724"/>
                    </a:cubicBezTo>
                    <a:cubicBezTo>
                      <a:pt x="320" y="1733"/>
                      <a:pt x="318" y="1747"/>
                      <a:pt x="324" y="1757"/>
                    </a:cubicBezTo>
                    <a:cubicBezTo>
                      <a:pt x="361" y="1823"/>
                      <a:pt x="353" y="1812"/>
                      <a:pt x="400" y="1844"/>
                    </a:cubicBezTo>
                    <a:cubicBezTo>
                      <a:pt x="407" y="1855"/>
                      <a:pt x="413" y="1868"/>
                      <a:pt x="422" y="1877"/>
                    </a:cubicBezTo>
                    <a:cubicBezTo>
                      <a:pt x="431" y="1886"/>
                      <a:pt x="447" y="1889"/>
                      <a:pt x="455" y="1899"/>
                    </a:cubicBezTo>
                    <a:cubicBezTo>
                      <a:pt x="516" y="1974"/>
                      <a:pt x="403" y="1889"/>
                      <a:pt x="499" y="1953"/>
                    </a:cubicBezTo>
                    <a:cubicBezTo>
                      <a:pt x="526" y="1995"/>
                      <a:pt x="571" y="2013"/>
                      <a:pt x="619" y="2029"/>
                    </a:cubicBezTo>
                    <a:cubicBezTo>
                      <a:pt x="758" y="2074"/>
                      <a:pt x="898" y="2086"/>
                      <a:pt x="1044" y="2095"/>
                    </a:cubicBezTo>
                    <a:cubicBezTo>
                      <a:pt x="1185" y="2119"/>
                      <a:pt x="1206" y="2115"/>
                      <a:pt x="1393" y="2106"/>
                    </a:cubicBezTo>
                    <a:cubicBezTo>
                      <a:pt x="1415" y="2099"/>
                      <a:pt x="1440" y="2097"/>
                      <a:pt x="1459" y="2084"/>
                    </a:cubicBezTo>
                    <a:cubicBezTo>
                      <a:pt x="1470" y="2077"/>
                      <a:pt x="1479" y="2067"/>
                      <a:pt x="1491" y="2062"/>
                    </a:cubicBezTo>
                    <a:cubicBezTo>
                      <a:pt x="1613" y="2007"/>
                      <a:pt x="1514" y="2068"/>
                      <a:pt x="1589" y="2019"/>
                    </a:cubicBezTo>
                    <a:cubicBezTo>
                      <a:pt x="1619" y="1928"/>
                      <a:pt x="1621" y="1953"/>
                      <a:pt x="1600" y="1833"/>
                    </a:cubicBezTo>
                    <a:cubicBezTo>
                      <a:pt x="1596" y="1811"/>
                      <a:pt x="1579" y="1768"/>
                      <a:pt x="1579" y="1768"/>
                    </a:cubicBezTo>
                    <a:cubicBezTo>
                      <a:pt x="1571" y="1708"/>
                      <a:pt x="1539" y="1629"/>
                      <a:pt x="1611" y="1604"/>
                    </a:cubicBezTo>
                    <a:cubicBezTo>
                      <a:pt x="1622" y="1611"/>
                      <a:pt x="1637" y="1615"/>
                      <a:pt x="1644" y="1626"/>
                    </a:cubicBezTo>
                    <a:cubicBezTo>
                      <a:pt x="1656" y="1645"/>
                      <a:pt x="1654" y="1672"/>
                      <a:pt x="1666" y="1691"/>
                    </a:cubicBezTo>
                    <a:cubicBezTo>
                      <a:pt x="1680" y="1713"/>
                      <a:pt x="1694" y="1735"/>
                      <a:pt x="1709" y="1757"/>
                    </a:cubicBezTo>
                    <a:cubicBezTo>
                      <a:pt x="1716" y="1768"/>
                      <a:pt x="1719" y="1785"/>
                      <a:pt x="1731" y="1789"/>
                    </a:cubicBezTo>
                    <a:cubicBezTo>
                      <a:pt x="1753" y="1796"/>
                      <a:pt x="1797" y="1811"/>
                      <a:pt x="1797" y="1811"/>
                    </a:cubicBezTo>
                    <a:cubicBezTo>
                      <a:pt x="1818" y="1804"/>
                      <a:pt x="1846" y="1797"/>
                      <a:pt x="1862" y="1779"/>
                    </a:cubicBezTo>
                    <a:cubicBezTo>
                      <a:pt x="1908" y="1728"/>
                      <a:pt x="1898" y="1693"/>
                      <a:pt x="1949" y="1659"/>
                    </a:cubicBezTo>
                    <a:cubicBezTo>
                      <a:pt x="1956" y="1648"/>
                      <a:pt x="1965" y="1638"/>
                      <a:pt x="1971" y="1626"/>
                    </a:cubicBezTo>
                    <a:cubicBezTo>
                      <a:pt x="1976" y="1616"/>
                      <a:pt x="1976" y="1603"/>
                      <a:pt x="1982" y="1593"/>
                    </a:cubicBezTo>
                    <a:cubicBezTo>
                      <a:pt x="1995" y="1570"/>
                      <a:pt x="2026" y="1528"/>
                      <a:pt x="2026" y="1528"/>
                    </a:cubicBezTo>
                    <a:cubicBezTo>
                      <a:pt x="2051" y="1452"/>
                      <a:pt x="2067" y="1365"/>
                      <a:pt x="2113" y="1299"/>
                    </a:cubicBezTo>
                    <a:cubicBezTo>
                      <a:pt x="2141" y="1216"/>
                      <a:pt x="2103" y="1318"/>
                      <a:pt x="2146" y="1233"/>
                    </a:cubicBezTo>
                    <a:cubicBezTo>
                      <a:pt x="2172" y="1180"/>
                      <a:pt x="2181" y="1115"/>
                      <a:pt x="2200" y="1059"/>
                    </a:cubicBezTo>
                    <a:cubicBezTo>
                      <a:pt x="2196" y="815"/>
                      <a:pt x="2196" y="572"/>
                      <a:pt x="2189" y="328"/>
                    </a:cubicBezTo>
                    <a:cubicBezTo>
                      <a:pt x="2187" y="259"/>
                      <a:pt x="2108" y="186"/>
                      <a:pt x="2059" y="153"/>
                    </a:cubicBezTo>
                    <a:cubicBezTo>
                      <a:pt x="2040" y="140"/>
                      <a:pt x="2015" y="138"/>
                      <a:pt x="1993" y="131"/>
                    </a:cubicBezTo>
                    <a:cubicBezTo>
                      <a:pt x="1982" y="127"/>
                      <a:pt x="1960" y="120"/>
                      <a:pt x="1960" y="120"/>
                    </a:cubicBezTo>
                    <a:cubicBezTo>
                      <a:pt x="1928" y="124"/>
                      <a:pt x="1857" y="142"/>
                      <a:pt x="1819" y="142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851440" y="2043360"/>
                <a:ext cx="414360" cy="1020960"/>
              </a:xfrm>
              <a:custGeom>
                <a:avLst/>
                <a:gdLst/>
                <a:ahLst/>
                <a:rect l="l" t="t" r="r" b="b"/>
                <a:pathLst>
                  <a:path w="480" h="982">
                    <a:moveTo>
                      <a:pt x="0" y="982"/>
                    </a:moveTo>
                    <a:cubicBezTo>
                      <a:pt x="24" y="907"/>
                      <a:pt x="48" y="802"/>
                      <a:pt x="130" y="774"/>
                    </a:cubicBezTo>
                    <a:cubicBezTo>
                      <a:pt x="181" y="698"/>
                      <a:pt x="159" y="731"/>
                      <a:pt x="196" y="676"/>
                    </a:cubicBezTo>
                    <a:cubicBezTo>
                      <a:pt x="203" y="665"/>
                      <a:pt x="211" y="654"/>
                      <a:pt x="218" y="643"/>
                    </a:cubicBezTo>
                    <a:cubicBezTo>
                      <a:pt x="225" y="632"/>
                      <a:pt x="240" y="611"/>
                      <a:pt x="240" y="611"/>
                    </a:cubicBezTo>
                    <a:cubicBezTo>
                      <a:pt x="262" y="539"/>
                      <a:pt x="308" y="476"/>
                      <a:pt x="349" y="414"/>
                    </a:cubicBezTo>
                    <a:cubicBezTo>
                      <a:pt x="407" y="327"/>
                      <a:pt x="332" y="439"/>
                      <a:pt x="392" y="349"/>
                    </a:cubicBezTo>
                    <a:cubicBezTo>
                      <a:pt x="399" y="338"/>
                      <a:pt x="414" y="316"/>
                      <a:pt x="414" y="316"/>
                    </a:cubicBezTo>
                    <a:cubicBezTo>
                      <a:pt x="441" y="209"/>
                      <a:pt x="429" y="101"/>
                      <a:pt x="480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821920" y="2815200"/>
                <a:ext cx="491760" cy="1906920"/>
              </a:xfrm>
              <a:custGeom>
                <a:avLst/>
                <a:gdLst/>
                <a:ahLst/>
                <a:rect l="l" t="t" r="r" b="b"/>
                <a:pathLst>
                  <a:path w="513" h="1920">
                    <a:moveTo>
                      <a:pt x="0" y="1920"/>
                    </a:moveTo>
                    <a:cubicBezTo>
                      <a:pt x="22" y="1913"/>
                      <a:pt x="44" y="1905"/>
                      <a:pt x="66" y="1898"/>
                    </a:cubicBezTo>
                    <a:cubicBezTo>
                      <a:pt x="69" y="1897"/>
                      <a:pt x="141" y="1785"/>
                      <a:pt x="153" y="1767"/>
                    </a:cubicBezTo>
                    <a:cubicBezTo>
                      <a:pt x="160" y="1756"/>
                      <a:pt x="171" y="1747"/>
                      <a:pt x="175" y="1734"/>
                    </a:cubicBezTo>
                    <a:cubicBezTo>
                      <a:pt x="182" y="1712"/>
                      <a:pt x="197" y="1669"/>
                      <a:pt x="197" y="1669"/>
                    </a:cubicBezTo>
                    <a:cubicBezTo>
                      <a:pt x="201" y="1614"/>
                      <a:pt x="202" y="1559"/>
                      <a:pt x="208" y="1505"/>
                    </a:cubicBezTo>
                    <a:cubicBezTo>
                      <a:pt x="209" y="1493"/>
                      <a:pt x="219" y="1484"/>
                      <a:pt x="219" y="1472"/>
                    </a:cubicBezTo>
                    <a:cubicBezTo>
                      <a:pt x="219" y="1418"/>
                      <a:pt x="216" y="1363"/>
                      <a:pt x="208" y="1309"/>
                    </a:cubicBezTo>
                    <a:cubicBezTo>
                      <a:pt x="205" y="1286"/>
                      <a:pt x="186" y="1243"/>
                      <a:pt x="186" y="1243"/>
                    </a:cubicBezTo>
                    <a:cubicBezTo>
                      <a:pt x="197" y="1189"/>
                      <a:pt x="198" y="1163"/>
                      <a:pt x="251" y="1145"/>
                    </a:cubicBezTo>
                    <a:cubicBezTo>
                      <a:pt x="287" y="1169"/>
                      <a:pt x="303" y="1198"/>
                      <a:pt x="339" y="1222"/>
                    </a:cubicBezTo>
                    <a:cubicBezTo>
                      <a:pt x="404" y="1200"/>
                      <a:pt x="403" y="1152"/>
                      <a:pt x="415" y="1091"/>
                    </a:cubicBezTo>
                    <a:cubicBezTo>
                      <a:pt x="440" y="842"/>
                      <a:pt x="471" y="596"/>
                      <a:pt x="513" y="349"/>
                    </a:cubicBezTo>
                    <a:cubicBezTo>
                      <a:pt x="509" y="258"/>
                      <a:pt x="509" y="167"/>
                      <a:pt x="502" y="76"/>
                    </a:cubicBezTo>
                    <a:cubicBezTo>
                      <a:pt x="499" y="40"/>
                      <a:pt x="426" y="0"/>
                      <a:pt x="426" y="0"/>
                    </a:cubicBezTo>
                    <a:cubicBezTo>
                      <a:pt x="404" y="7"/>
                      <a:pt x="360" y="14"/>
                      <a:pt x="360" y="43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282360" y="2078280"/>
                <a:ext cx="220320" cy="768600"/>
              </a:xfrm>
              <a:custGeom>
                <a:avLst/>
                <a:gdLst/>
                <a:ahLst/>
                <a:rect l="l" t="t" r="r" b="b"/>
                <a:pathLst>
                  <a:path w="230" h="774">
                    <a:moveTo>
                      <a:pt x="0" y="774"/>
                    </a:moveTo>
                    <a:cubicBezTo>
                      <a:pt x="7" y="752"/>
                      <a:pt x="9" y="728"/>
                      <a:pt x="22" y="709"/>
                    </a:cubicBezTo>
                    <a:cubicBezTo>
                      <a:pt x="29" y="698"/>
                      <a:pt x="39" y="688"/>
                      <a:pt x="44" y="676"/>
                    </a:cubicBezTo>
                    <a:cubicBezTo>
                      <a:pt x="62" y="635"/>
                      <a:pt x="74" y="588"/>
                      <a:pt x="88" y="545"/>
                    </a:cubicBezTo>
                    <a:cubicBezTo>
                      <a:pt x="99" y="512"/>
                      <a:pt x="110" y="480"/>
                      <a:pt x="120" y="447"/>
                    </a:cubicBezTo>
                    <a:cubicBezTo>
                      <a:pt x="124" y="436"/>
                      <a:pt x="131" y="414"/>
                      <a:pt x="131" y="414"/>
                    </a:cubicBezTo>
                    <a:cubicBezTo>
                      <a:pt x="135" y="360"/>
                      <a:pt x="136" y="305"/>
                      <a:pt x="142" y="251"/>
                    </a:cubicBezTo>
                    <a:cubicBezTo>
                      <a:pt x="146" y="214"/>
                      <a:pt x="197" y="153"/>
                      <a:pt x="197" y="153"/>
                    </a:cubicBezTo>
                    <a:cubicBezTo>
                      <a:pt x="218" y="89"/>
                      <a:pt x="230" y="64"/>
                      <a:pt x="230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000120" y="2815200"/>
                <a:ext cx="72720" cy="5328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0" y="0"/>
                    </a:moveTo>
                    <a:cubicBezTo>
                      <a:pt x="18" y="4"/>
                      <a:pt x="39" y="1"/>
                      <a:pt x="54" y="11"/>
                    </a:cubicBezTo>
                    <a:cubicBezTo>
                      <a:pt x="67" y="20"/>
                      <a:pt x="65" y="43"/>
                      <a:pt x="76" y="54"/>
                    </a:cubicBezTo>
                  </a:path>
                </a:pathLst>
              </a:custGeom>
              <a:noFill/>
              <a:ln w="66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989680" y="2663280"/>
                <a:ext cx="492840" cy="2123640"/>
              </a:xfrm>
              <a:custGeom>
                <a:avLst/>
                <a:gdLst/>
                <a:ahLst/>
                <a:rect l="l" t="t" r="r" b="b"/>
                <a:pathLst>
                  <a:path w="514" h="2138">
                    <a:moveTo>
                      <a:pt x="0" y="2138"/>
                    </a:moveTo>
                    <a:cubicBezTo>
                      <a:pt x="15" y="2116"/>
                      <a:pt x="29" y="2095"/>
                      <a:pt x="44" y="2073"/>
                    </a:cubicBezTo>
                    <a:cubicBezTo>
                      <a:pt x="57" y="2054"/>
                      <a:pt x="58" y="2029"/>
                      <a:pt x="65" y="2007"/>
                    </a:cubicBezTo>
                    <a:cubicBezTo>
                      <a:pt x="84" y="1950"/>
                      <a:pt x="97" y="1894"/>
                      <a:pt x="131" y="1844"/>
                    </a:cubicBezTo>
                    <a:cubicBezTo>
                      <a:pt x="142" y="1811"/>
                      <a:pt x="153" y="1778"/>
                      <a:pt x="164" y="1745"/>
                    </a:cubicBezTo>
                    <a:cubicBezTo>
                      <a:pt x="182" y="1690"/>
                      <a:pt x="229" y="1658"/>
                      <a:pt x="262" y="1615"/>
                    </a:cubicBezTo>
                    <a:cubicBezTo>
                      <a:pt x="302" y="1564"/>
                      <a:pt x="308" y="1528"/>
                      <a:pt x="360" y="1495"/>
                    </a:cubicBezTo>
                    <a:cubicBezTo>
                      <a:pt x="367" y="1484"/>
                      <a:pt x="373" y="1471"/>
                      <a:pt x="382" y="1462"/>
                    </a:cubicBezTo>
                    <a:cubicBezTo>
                      <a:pt x="391" y="1453"/>
                      <a:pt x="406" y="1450"/>
                      <a:pt x="415" y="1440"/>
                    </a:cubicBezTo>
                    <a:cubicBezTo>
                      <a:pt x="432" y="1420"/>
                      <a:pt x="458" y="1375"/>
                      <a:pt x="458" y="1375"/>
                    </a:cubicBezTo>
                    <a:cubicBezTo>
                      <a:pt x="462" y="1364"/>
                      <a:pt x="473" y="1353"/>
                      <a:pt x="469" y="1342"/>
                    </a:cubicBezTo>
                    <a:cubicBezTo>
                      <a:pt x="457" y="1312"/>
                      <a:pt x="370" y="1302"/>
                      <a:pt x="349" y="1298"/>
                    </a:cubicBezTo>
                    <a:cubicBezTo>
                      <a:pt x="375" y="1219"/>
                      <a:pt x="349" y="1305"/>
                      <a:pt x="371" y="1145"/>
                    </a:cubicBezTo>
                    <a:cubicBezTo>
                      <a:pt x="377" y="1098"/>
                      <a:pt x="392" y="1050"/>
                      <a:pt x="404" y="1004"/>
                    </a:cubicBezTo>
                    <a:cubicBezTo>
                      <a:pt x="406" y="966"/>
                      <a:pt x="419" y="730"/>
                      <a:pt x="425" y="676"/>
                    </a:cubicBezTo>
                    <a:cubicBezTo>
                      <a:pt x="441" y="523"/>
                      <a:pt x="483" y="369"/>
                      <a:pt x="513" y="218"/>
                    </a:cubicBezTo>
                    <a:cubicBezTo>
                      <a:pt x="509" y="193"/>
                      <a:pt x="514" y="165"/>
                      <a:pt x="502" y="142"/>
                    </a:cubicBezTo>
                    <a:cubicBezTo>
                      <a:pt x="497" y="132"/>
                      <a:pt x="477" y="139"/>
                      <a:pt x="469" y="131"/>
                    </a:cubicBezTo>
                    <a:cubicBezTo>
                      <a:pt x="452" y="114"/>
                      <a:pt x="440" y="30"/>
                      <a:pt x="425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450120" y="2329560"/>
                <a:ext cx="378000" cy="593640"/>
              </a:xfrm>
              <a:custGeom>
                <a:avLst/>
                <a:gdLst/>
                <a:ahLst/>
                <a:rect l="l" t="t" r="r" b="b"/>
                <a:pathLst>
                  <a:path w="361" h="698">
                    <a:moveTo>
                      <a:pt x="305" y="698"/>
                    </a:moveTo>
                    <a:cubicBezTo>
                      <a:pt x="361" y="614"/>
                      <a:pt x="325" y="493"/>
                      <a:pt x="272" y="414"/>
                    </a:cubicBezTo>
                    <a:cubicBezTo>
                      <a:pt x="254" y="356"/>
                      <a:pt x="268" y="391"/>
                      <a:pt x="218" y="316"/>
                    </a:cubicBezTo>
                    <a:cubicBezTo>
                      <a:pt x="212" y="306"/>
                      <a:pt x="214" y="292"/>
                      <a:pt x="207" y="283"/>
                    </a:cubicBezTo>
                    <a:cubicBezTo>
                      <a:pt x="199" y="273"/>
                      <a:pt x="185" y="268"/>
                      <a:pt x="174" y="261"/>
                    </a:cubicBezTo>
                    <a:cubicBezTo>
                      <a:pt x="159" y="218"/>
                      <a:pt x="147" y="199"/>
                      <a:pt x="109" y="174"/>
                    </a:cubicBezTo>
                    <a:cubicBezTo>
                      <a:pt x="81" y="90"/>
                      <a:pt x="119" y="193"/>
                      <a:pt x="76" y="109"/>
                    </a:cubicBezTo>
                    <a:cubicBezTo>
                      <a:pt x="71" y="99"/>
                      <a:pt x="72" y="85"/>
                      <a:pt x="65" y="76"/>
                    </a:cubicBezTo>
                    <a:cubicBezTo>
                      <a:pt x="57" y="66"/>
                      <a:pt x="43" y="61"/>
                      <a:pt x="32" y="54"/>
                    </a:cubicBezTo>
                    <a:cubicBezTo>
                      <a:pt x="19" y="11"/>
                      <a:pt x="30" y="29"/>
                      <a:pt x="0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04880" y="2034360"/>
                <a:ext cx="136080" cy="129960"/>
              </a:xfrm>
              <a:custGeom>
                <a:avLst/>
                <a:gdLst/>
                <a:ahLst/>
                <a:rect l="l" t="t" r="r" b="b"/>
                <a:pathLst>
                  <a:path w="142" h="131">
                    <a:moveTo>
                      <a:pt x="142" y="131"/>
                    </a:moveTo>
                    <a:cubicBezTo>
                      <a:pt x="68" y="106"/>
                      <a:pt x="82" y="131"/>
                      <a:pt x="65" y="77"/>
                    </a:cubicBezTo>
                    <a:cubicBezTo>
                      <a:pt x="61" y="66"/>
                      <a:pt x="60" y="54"/>
                      <a:pt x="55" y="44"/>
                    </a:cubicBezTo>
                    <a:cubicBezTo>
                      <a:pt x="49" y="32"/>
                      <a:pt x="43" y="19"/>
                      <a:pt x="33" y="11"/>
                    </a:cubicBezTo>
                    <a:cubicBezTo>
                      <a:pt x="24" y="4"/>
                      <a:pt x="0" y="0"/>
                      <a:pt x="0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936760" y="2131920"/>
                <a:ext cx="146520" cy="151920"/>
              </a:xfrm>
              <a:custGeom>
                <a:avLst/>
                <a:gdLst/>
                <a:ahLst/>
                <a:rect l="l" t="t" r="r" b="b"/>
                <a:pathLst>
                  <a:path w="153" h="153">
                    <a:moveTo>
                      <a:pt x="153" y="153"/>
                    </a:moveTo>
                    <a:cubicBezTo>
                      <a:pt x="142" y="146"/>
                      <a:pt x="128" y="141"/>
                      <a:pt x="120" y="131"/>
                    </a:cubicBezTo>
                    <a:cubicBezTo>
                      <a:pt x="78" y="78"/>
                      <a:pt x="150" y="112"/>
                      <a:pt x="77" y="88"/>
                    </a:cubicBezTo>
                    <a:cubicBezTo>
                      <a:pt x="70" y="77"/>
                      <a:pt x="65" y="63"/>
                      <a:pt x="55" y="55"/>
                    </a:cubicBezTo>
                    <a:cubicBezTo>
                      <a:pt x="31" y="36"/>
                      <a:pt x="0" y="45"/>
                      <a:pt x="0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433280" y="2175480"/>
                <a:ext cx="335520" cy="552240"/>
              </a:xfrm>
              <a:custGeom>
                <a:avLst/>
                <a:gdLst/>
                <a:ahLst/>
                <a:rect l="l" t="t" r="r" b="b"/>
                <a:pathLst>
                  <a:path w="350" h="556">
                    <a:moveTo>
                      <a:pt x="0" y="556"/>
                    </a:moveTo>
                    <a:cubicBezTo>
                      <a:pt x="5" y="555"/>
                      <a:pt x="68" y="542"/>
                      <a:pt x="77" y="535"/>
                    </a:cubicBezTo>
                    <a:cubicBezTo>
                      <a:pt x="87" y="527"/>
                      <a:pt x="90" y="511"/>
                      <a:pt x="99" y="502"/>
                    </a:cubicBezTo>
                    <a:cubicBezTo>
                      <a:pt x="108" y="493"/>
                      <a:pt x="120" y="487"/>
                      <a:pt x="131" y="480"/>
                    </a:cubicBezTo>
                    <a:cubicBezTo>
                      <a:pt x="138" y="332"/>
                      <a:pt x="120" y="148"/>
                      <a:pt x="262" y="55"/>
                    </a:cubicBezTo>
                    <a:cubicBezTo>
                      <a:pt x="269" y="44"/>
                      <a:pt x="273" y="29"/>
                      <a:pt x="284" y="22"/>
                    </a:cubicBezTo>
                    <a:cubicBezTo>
                      <a:pt x="304" y="10"/>
                      <a:pt x="350" y="0"/>
                      <a:pt x="350" y="0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171200" y="1981080"/>
                <a:ext cx="387360" cy="324720"/>
              </a:xfrm>
              <a:custGeom>
                <a:avLst/>
                <a:gdLst/>
                <a:ahLst/>
                <a:rect l="l" t="t" r="r" b="b"/>
                <a:pathLst>
                  <a:path w="404" h="327">
                    <a:moveTo>
                      <a:pt x="404" y="109"/>
                    </a:moveTo>
                    <a:cubicBezTo>
                      <a:pt x="382" y="116"/>
                      <a:pt x="361" y="124"/>
                      <a:pt x="339" y="131"/>
                    </a:cubicBezTo>
                    <a:cubicBezTo>
                      <a:pt x="314" y="139"/>
                      <a:pt x="317" y="181"/>
                      <a:pt x="295" y="196"/>
                    </a:cubicBezTo>
                    <a:cubicBezTo>
                      <a:pt x="284" y="203"/>
                      <a:pt x="274" y="211"/>
                      <a:pt x="263" y="218"/>
                    </a:cubicBezTo>
                    <a:cubicBezTo>
                      <a:pt x="202" y="309"/>
                      <a:pt x="282" y="204"/>
                      <a:pt x="208" y="262"/>
                    </a:cubicBezTo>
                    <a:cubicBezTo>
                      <a:pt x="198" y="270"/>
                      <a:pt x="197" y="287"/>
                      <a:pt x="186" y="294"/>
                    </a:cubicBezTo>
                    <a:cubicBezTo>
                      <a:pt x="167" y="306"/>
                      <a:pt x="143" y="309"/>
                      <a:pt x="121" y="316"/>
                    </a:cubicBezTo>
                    <a:cubicBezTo>
                      <a:pt x="110" y="320"/>
                      <a:pt x="88" y="327"/>
                      <a:pt x="88" y="327"/>
                    </a:cubicBezTo>
                    <a:cubicBezTo>
                      <a:pt x="73" y="323"/>
                      <a:pt x="59" y="320"/>
                      <a:pt x="44" y="316"/>
                    </a:cubicBezTo>
                    <a:cubicBezTo>
                      <a:pt x="33" y="313"/>
                      <a:pt x="14" y="316"/>
                      <a:pt x="12" y="305"/>
                    </a:cubicBezTo>
                    <a:cubicBezTo>
                      <a:pt x="0" y="239"/>
                      <a:pt x="34" y="160"/>
                      <a:pt x="55" y="98"/>
                    </a:cubicBezTo>
                    <a:cubicBezTo>
                      <a:pt x="62" y="76"/>
                      <a:pt x="64" y="51"/>
                      <a:pt x="77" y="32"/>
                    </a:cubicBezTo>
                    <a:cubicBezTo>
                      <a:pt x="84" y="21"/>
                      <a:pt x="99" y="0"/>
                      <a:pt x="99" y="0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680520" y="1981080"/>
                <a:ext cx="334440" cy="617760"/>
              </a:xfrm>
              <a:custGeom>
                <a:avLst/>
                <a:gdLst/>
                <a:ahLst/>
                <a:rect l="l" t="t" r="r" b="b"/>
                <a:pathLst>
                  <a:path w="349" h="622">
                    <a:moveTo>
                      <a:pt x="349" y="0"/>
                    </a:moveTo>
                    <a:cubicBezTo>
                      <a:pt x="324" y="73"/>
                      <a:pt x="317" y="141"/>
                      <a:pt x="251" y="185"/>
                    </a:cubicBezTo>
                    <a:cubicBezTo>
                      <a:pt x="212" y="243"/>
                      <a:pt x="170" y="291"/>
                      <a:pt x="131" y="349"/>
                    </a:cubicBezTo>
                    <a:cubicBezTo>
                      <a:pt x="72" y="438"/>
                      <a:pt x="146" y="327"/>
                      <a:pt x="87" y="414"/>
                    </a:cubicBezTo>
                    <a:cubicBezTo>
                      <a:pt x="80" y="425"/>
                      <a:pt x="65" y="447"/>
                      <a:pt x="65" y="447"/>
                    </a:cubicBezTo>
                    <a:cubicBezTo>
                      <a:pt x="48" y="502"/>
                      <a:pt x="59" y="469"/>
                      <a:pt x="33" y="545"/>
                    </a:cubicBezTo>
                    <a:cubicBezTo>
                      <a:pt x="23" y="575"/>
                      <a:pt x="0" y="587"/>
                      <a:pt x="0" y="622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972840" y="2868840"/>
                <a:ext cx="146520" cy="76320"/>
              </a:xfrm>
              <a:custGeom>
                <a:avLst/>
                <a:gdLst/>
                <a:ahLst/>
                <a:rect l="l" t="t" r="r" b="b"/>
                <a:pathLst>
                  <a:path w="153" h="77">
                    <a:moveTo>
                      <a:pt x="153" y="0"/>
                    </a:moveTo>
                    <a:cubicBezTo>
                      <a:pt x="89" y="22"/>
                      <a:pt x="47" y="30"/>
                      <a:pt x="0" y="77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471000" y="2859840"/>
                <a:ext cx="125640" cy="41760"/>
              </a:xfrm>
              <a:custGeom>
                <a:avLst/>
                <a:gdLst/>
                <a:ahLst/>
                <a:rect l="l" t="t" r="r" b="b"/>
                <a:pathLst>
                  <a:path w="131" h="42">
                    <a:moveTo>
                      <a:pt x="0" y="42"/>
                    </a:moveTo>
                    <a:cubicBezTo>
                      <a:pt x="45" y="27"/>
                      <a:pt x="89" y="0"/>
                      <a:pt x="131" y="42"/>
                    </a:cubicBezTo>
                  </a:path>
                </a:pathLst>
              </a:custGeom>
              <a:noFill/>
              <a:ln w="66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680520" y="2822400"/>
                <a:ext cx="104400" cy="3564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109" y="15"/>
                    </a:moveTo>
                    <a:cubicBezTo>
                      <a:pt x="65" y="0"/>
                      <a:pt x="35" y="3"/>
                      <a:pt x="0" y="36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4267080" y="213372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997760" y="2840040"/>
              <a:ext cx="322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67080" y="33526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67280" y="31240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924680" y="47242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001000" y="3657600"/>
              <a:ext cx="322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45000" y="2266920"/>
              <a:ext cx="920880" cy="1904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498920" y="2982600"/>
              <a:ext cx="1289160" cy="4762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6064200" y="1980720"/>
              <a:ext cx="322200" cy="1096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7031160" y="2600280"/>
              <a:ext cx="969840" cy="3715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6892560" y="3887640"/>
              <a:ext cx="1104840" cy="142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7030800" y="4699080"/>
              <a:ext cx="874440" cy="2858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762120" y="3352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971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 Q shows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 a heart va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 the at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 a cha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 a heart d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4267080" y="1980720"/>
            <a:ext cx="4056120" cy="3203280"/>
            <a:chOff x="4267080" y="1980720"/>
            <a:chExt cx="4056120" cy="3203280"/>
          </a:xfrm>
        </p:grpSpPr>
        <p:grpSp>
          <p:nvGrpSpPr>
            <p:cNvPr id="767" name=""/>
            <p:cNvGrpSpPr/>
            <p:nvPr/>
          </p:nvGrpSpPr>
          <p:grpSpPr>
            <a:xfrm>
              <a:off x="5143680" y="1981080"/>
              <a:ext cx="2625120" cy="3022200"/>
              <a:chOff x="5143680" y="1981080"/>
              <a:chExt cx="2625120" cy="3022200"/>
            </a:xfrm>
          </p:grpSpPr>
          <p:sp>
            <p:nvSpPr>
              <p:cNvPr id="768" name=""/>
              <p:cNvSpPr/>
              <p:nvPr/>
            </p:nvSpPr>
            <p:spPr>
              <a:xfrm>
                <a:off x="5173200" y="2208240"/>
                <a:ext cx="250920" cy="649440"/>
              </a:xfrm>
              <a:custGeom>
                <a:avLst/>
                <a:gdLst/>
                <a:ahLst/>
                <a:rect l="l" t="t" r="r" b="b"/>
                <a:pathLst>
                  <a:path w="262" h="654">
                    <a:moveTo>
                      <a:pt x="44" y="0"/>
                    </a:moveTo>
                    <a:cubicBezTo>
                      <a:pt x="90" y="70"/>
                      <a:pt x="116" y="94"/>
                      <a:pt x="66" y="185"/>
                    </a:cubicBezTo>
                    <a:cubicBezTo>
                      <a:pt x="53" y="208"/>
                      <a:pt x="30" y="226"/>
                      <a:pt x="22" y="251"/>
                    </a:cubicBezTo>
                    <a:cubicBezTo>
                      <a:pt x="15" y="273"/>
                      <a:pt x="0" y="316"/>
                      <a:pt x="0" y="316"/>
                    </a:cubicBezTo>
                    <a:cubicBezTo>
                      <a:pt x="2" y="326"/>
                      <a:pt x="14" y="397"/>
                      <a:pt x="22" y="403"/>
                    </a:cubicBezTo>
                    <a:cubicBezTo>
                      <a:pt x="50" y="423"/>
                      <a:pt x="117" y="435"/>
                      <a:pt x="153" y="447"/>
                    </a:cubicBezTo>
                    <a:cubicBezTo>
                      <a:pt x="167" y="452"/>
                      <a:pt x="182" y="454"/>
                      <a:pt x="196" y="458"/>
                    </a:cubicBezTo>
                    <a:cubicBezTo>
                      <a:pt x="218" y="465"/>
                      <a:pt x="262" y="480"/>
                      <a:pt x="262" y="480"/>
                    </a:cubicBezTo>
                    <a:cubicBezTo>
                      <a:pt x="258" y="516"/>
                      <a:pt x="258" y="553"/>
                      <a:pt x="251" y="589"/>
                    </a:cubicBezTo>
                    <a:cubicBezTo>
                      <a:pt x="247" y="611"/>
                      <a:pt x="229" y="654"/>
                      <a:pt x="229" y="654"/>
                    </a:cubicBezTo>
                  </a:path>
                </a:pathLst>
              </a:custGeom>
              <a:noFill/>
              <a:ln w="88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393160" y="2078280"/>
                <a:ext cx="280800" cy="228240"/>
              </a:xfrm>
              <a:custGeom>
                <a:avLst/>
                <a:gdLst/>
                <a:ahLst/>
                <a:rect l="l" t="t" r="r" b="b"/>
                <a:pathLst>
                  <a:path w="293" h="230">
                    <a:moveTo>
                      <a:pt x="0" y="76"/>
                    </a:moveTo>
                    <a:cubicBezTo>
                      <a:pt x="22" y="142"/>
                      <a:pt x="7" y="165"/>
                      <a:pt x="66" y="185"/>
                    </a:cubicBezTo>
                    <a:cubicBezTo>
                      <a:pt x="131" y="230"/>
                      <a:pt x="209" y="217"/>
                      <a:pt x="273" y="174"/>
                    </a:cubicBezTo>
                    <a:cubicBezTo>
                      <a:pt x="293" y="115"/>
                      <a:pt x="267" y="54"/>
                      <a:pt x="240" y="0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759280" y="2090880"/>
                <a:ext cx="368280" cy="381240"/>
              </a:xfrm>
              <a:custGeom>
                <a:avLst/>
                <a:gdLst/>
                <a:ahLst/>
                <a:rect l="l" t="t" r="r" b="b"/>
                <a:pathLst>
                  <a:path w="218" h="404">
                    <a:moveTo>
                      <a:pt x="0" y="0"/>
                    </a:moveTo>
                    <a:cubicBezTo>
                      <a:pt x="25" y="78"/>
                      <a:pt x="8" y="47"/>
                      <a:pt x="43" y="98"/>
                    </a:cubicBezTo>
                    <a:cubicBezTo>
                      <a:pt x="62" y="156"/>
                      <a:pt x="79" y="215"/>
                      <a:pt x="98" y="273"/>
                    </a:cubicBezTo>
                    <a:cubicBezTo>
                      <a:pt x="98" y="274"/>
                      <a:pt x="115" y="344"/>
                      <a:pt x="120" y="349"/>
                    </a:cubicBezTo>
                    <a:cubicBezTo>
                      <a:pt x="158" y="387"/>
                      <a:pt x="177" y="390"/>
                      <a:pt x="218" y="404"/>
                    </a:cubicBezTo>
                    <a:cubicBezTo>
                      <a:pt x="214" y="349"/>
                      <a:pt x="213" y="295"/>
                      <a:pt x="207" y="240"/>
                    </a:cubicBezTo>
                    <a:cubicBezTo>
                      <a:pt x="205" y="222"/>
                      <a:pt x="201" y="204"/>
                      <a:pt x="196" y="186"/>
                    </a:cubicBezTo>
                    <a:cubicBezTo>
                      <a:pt x="193" y="175"/>
                      <a:pt x="185" y="153"/>
                      <a:pt x="185" y="153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143680" y="2706840"/>
                <a:ext cx="2468160" cy="2296440"/>
              </a:xfrm>
              <a:custGeom>
                <a:avLst/>
                <a:gdLst/>
                <a:ahLst/>
                <a:rect l="l" t="t" r="r" b="b"/>
                <a:pathLst>
                  <a:path w="2573" h="2312">
                    <a:moveTo>
                      <a:pt x="271" y="152"/>
                    </a:moveTo>
                    <a:cubicBezTo>
                      <a:pt x="298" y="233"/>
                      <a:pt x="257" y="304"/>
                      <a:pt x="238" y="381"/>
                    </a:cubicBezTo>
                    <a:cubicBezTo>
                      <a:pt x="221" y="447"/>
                      <a:pt x="192" y="496"/>
                      <a:pt x="162" y="556"/>
                    </a:cubicBezTo>
                    <a:cubicBezTo>
                      <a:pt x="139" y="602"/>
                      <a:pt x="131" y="659"/>
                      <a:pt x="118" y="709"/>
                    </a:cubicBezTo>
                    <a:cubicBezTo>
                      <a:pt x="102" y="771"/>
                      <a:pt x="94" y="833"/>
                      <a:pt x="75" y="894"/>
                    </a:cubicBezTo>
                    <a:cubicBezTo>
                      <a:pt x="67" y="921"/>
                      <a:pt x="52" y="962"/>
                      <a:pt x="42" y="992"/>
                    </a:cubicBezTo>
                    <a:cubicBezTo>
                      <a:pt x="38" y="1003"/>
                      <a:pt x="31" y="1025"/>
                      <a:pt x="31" y="1025"/>
                    </a:cubicBezTo>
                    <a:cubicBezTo>
                      <a:pt x="34" y="1125"/>
                      <a:pt x="0" y="1478"/>
                      <a:pt x="140" y="1571"/>
                    </a:cubicBezTo>
                    <a:cubicBezTo>
                      <a:pt x="159" y="1627"/>
                      <a:pt x="145" y="1595"/>
                      <a:pt x="195" y="1669"/>
                    </a:cubicBezTo>
                    <a:cubicBezTo>
                      <a:pt x="202" y="1680"/>
                      <a:pt x="217" y="1701"/>
                      <a:pt x="217" y="1701"/>
                    </a:cubicBezTo>
                    <a:cubicBezTo>
                      <a:pt x="239" y="1773"/>
                      <a:pt x="208" y="1698"/>
                      <a:pt x="260" y="1756"/>
                    </a:cubicBezTo>
                    <a:cubicBezTo>
                      <a:pt x="309" y="1811"/>
                      <a:pt x="329" y="1907"/>
                      <a:pt x="402" y="1931"/>
                    </a:cubicBezTo>
                    <a:cubicBezTo>
                      <a:pt x="434" y="1962"/>
                      <a:pt x="453" y="1993"/>
                      <a:pt x="489" y="2018"/>
                    </a:cubicBezTo>
                    <a:cubicBezTo>
                      <a:pt x="496" y="2029"/>
                      <a:pt x="505" y="2039"/>
                      <a:pt x="511" y="2051"/>
                    </a:cubicBezTo>
                    <a:cubicBezTo>
                      <a:pt x="516" y="2061"/>
                      <a:pt x="514" y="2075"/>
                      <a:pt x="522" y="2083"/>
                    </a:cubicBezTo>
                    <a:cubicBezTo>
                      <a:pt x="541" y="2102"/>
                      <a:pt x="587" y="2127"/>
                      <a:pt x="587" y="2127"/>
                    </a:cubicBezTo>
                    <a:cubicBezTo>
                      <a:pt x="594" y="2138"/>
                      <a:pt x="607" y="2147"/>
                      <a:pt x="609" y="2160"/>
                    </a:cubicBezTo>
                    <a:cubicBezTo>
                      <a:pt x="611" y="2171"/>
                      <a:pt x="594" y="2182"/>
                      <a:pt x="598" y="2192"/>
                    </a:cubicBezTo>
                    <a:cubicBezTo>
                      <a:pt x="608" y="2217"/>
                      <a:pt x="672" y="2221"/>
                      <a:pt x="686" y="2225"/>
                    </a:cubicBezTo>
                    <a:cubicBezTo>
                      <a:pt x="719" y="2234"/>
                      <a:pt x="751" y="2247"/>
                      <a:pt x="784" y="2258"/>
                    </a:cubicBezTo>
                    <a:cubicBezTo>
                      <a:pt x="818" y="2269"/>
                      <a:pt x="843" y="2298"/>
                      <a:pt x="882" y="2301"/>
                    </a:cubicBezTo>
                    <a:cubicBezTo>
                      <a:pt x="962" y="2307"/>
                      <a:pt x="1042" y="2308"/>
                      <a:pt x="1122" y="2312"/>
                    </a:cubicBezTo>
                    <a:cubicBezTo>
                      <a:pt x="1306" y="2301"/>
                      <a:pt x="1482" y="2277"/>
                      <a:pt x="1667" y="2269"/>
                    </a:cubicBezTo>
                    <a:cubicBezTo>
                      <a:pt x="1706" y="2256"/>
                      <a:pt x="1831" y="2225"/>
                      <a:pt x="1864" y="2203"/>
                    </a:cubicBezTo>
                    <a:cubicBezTo>
                      <a:pt x="1909" y="2173"/>
                      <a:pt x="1945" y="2144"/>
                      <a:pt x="1995" y="2127"/>
                    </a:cubicBezTo>
                    <a:cubicBezTo>
                      <a:pt x="2030" y="2103"/>
                      <a:pt x="2046" y="2074"/>
                      <a:pt x="2082" y="2051"/>
                    </a:cubicBezTo>
                    <a:cubicBezTo>
                      <a:pt x="2089" y="2040"/>
                      <a:pt x="2095" y="2027"/>
                      <a:pt x="2104" y="2018"/>
                    </a:cubicBezTo>
                    <a:cubicBezTo>
                      <a:pt x="2113" y="2009"/>
                      <a:pt x="2129" y="2006"/>
                      <a:pt x="2137" y="1996"/>
                    </a:cubicBezTo>
                    <a:cubicBezTo>
                      <a:pt x="2196" y="1920"/>
                      <a:pt x="2085" y="2004"/>
                      <a:pt x="2180" y="1941"/>
                    </a:cubicBezTo>
                    <a:cubicBezTo>
                      <a:pt x="2195" y="1898"/>
                      <a:pt x="2208" y="1879"/>
                      <a:pt x="2246" y="1854"/>
                    </a:cubicBezTo>
                    <a:cubicBezTo>
                      <a:pt x="2300" y="1769"/>
                      <a:pt x="2230" y="1869"/>
                      <a:pt x="2300" y="1800"/>
                    </a:cubicBezTo>
                    <a:cubicBezTo>
                      <a:pt x="2378" y="1724"/>
                      <a:pt x="2263" y="1806"/>
                      <a:pt x="2355" y="1745"/>
                    </a:cubicBezTo>
                    <a:cubicBezTo>
                      <a:pt x="2371" y="1698"/>
                      <a:pt x="2400" y="1659"/>
                      <a:pt x="2420" y="1614"/>
                    </a:cubicBezTo>
                    <a:cubicBezTo>
                      <a:pt x="2459" y="1528"/>
                      <a:pt x="2479" y="1430"/>
                      <a:pt x="2507" y="1341"/>
                    </a:cubicBezTo>
                    <a:cubicBezTo>
                      <a:pt x="2548" y="1212"/>
                      <a:pt x="2551" y="1071"/>
                      <a:pt x="2573" y="938"/>
                    </a:cubicBezTo>
                    <a:cubicBezTo>
                      <a:pt x="2569" y="687"/>
                      <a:pt x="2572" y="436"/>
                      <a:pt x="2562" y="185"/>
                    </a:cubicBezTo>
                    <a:cubicBezTo>
                      <a:pt x="2561" y="169"/>
                      <a:pt x="2533" y="70"/>
                      <a:pt x="2507" y="54"/>
                    </a:cubicBezTo>
                    <a:cubicBezTo>
                      <a:pt x="2462" y="26"/>
                      <a:pt x="2386" y="13"/>
                      <a:pt x="2333" y="0"/>
                    </a:cubicBezTo>
                    <a:cubicBezTo>
                      <a:pt x="2282" y="4"/>
                      <a:pt x="2230" y="2"/>
                      <a:pt x="2180" y="11"/>
                    </a:cubicBezTo>
                    <a:cubicBezTo>
                      <a:pt x="2146" y="17"/>
                      <a:pt x="2121" y="68"/>
                      <a:pt x="2093" y="87"/>
                    </a:cubicBezTo>
                    <a:cubicBezTo>
                      <a:pt x="2086" y="98"/>
                      <a:pt x="2080" y="111"/>
                      <a:pt x="2071" y="120"/>
                    </a:cubicBezTo>
                    <a:cubicBezTo>
                      <a:pt x="2062" y="129"/>
                      <a:pt x="2046" y="131"/>
                      <a:pt x="2038" y="141"/>
                    </a:cubicBezTo>
                    <a:cubicBezTo>
                      <a:pt x="2031" y="150"/>
                      <a:pt x="2032" y="164"/>
                      <a:pt x="2027" y="174"/>
                    </a:cubicBezTo>
                    <a:cubicBezTo>
                      <a:pt x="2025" y="178"/>
                      <a:pt x="2020" y="181"/>
                      <a:pt x="2017" y="185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403600" y="2696040"/>
                <a:ext cx="282960" cy="302760"/>
              </a:xfrm>
              <a:custGeom>
                <a:avLst/>
                <a:gdLst/>
                <a:ahLst/>
                <a:rect l="l" t="t" r="r" b="b"/>
                <a:pathLst>
                  <a:path w="295" h="305">
                    <a:moveTo>
                      <a:pt x="0" y="0"/>
                    </a:moveTo>
                    <a:cubicBezTo>
                      <a:pt x="62" y="16"/>
                      <a:pt x="125" y="34"/>
                      <a:pt x="186" y="54"/>
                    </a:cubicBezTo>
                    <a:cubicBezTo>
                      <a:pt x="270" y="112"/>
                      <a:pt x="295" y="209"/>
                      <a:pt x="295" y="305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333400" y="2738520"/>
                <a:ext cx="2110320" cy="2104920"/>
              </a:xfrm>
              <a:custGeom>
                <a:avLst/>
                <a:gdLst/>
                <a:ahLst/>
                <a:rect l="l" t="t" r="r" b="b"/>
                <a:pathLst>
                  <a:path w="2200" h="2119">
                    <a:moveTo>
                      <a:pt x="193" y="0"/>
                    </a:moveTo>
                    <a:cubicBezTo>
                      <a:pt x="186" y="203"/>
                      <a:pt x="190" y="253"/>
                      <a:pt x="160" y="404"/>
                    </a:cubicBezTo>
                    <a:cubicBezTo>
                      <a:pt x="156" y="451"/>
                      <a:pt x="155" y="499"/>
                      <a:pt x="149" y="546"/>
                    </a:cubicBezTo>
                    <a:cubicBezTo>
                      <a:pt x="142" y="600"/>
                      <a:pt x="113" y="657"/>
                      <a:pt x="95" y="709"/>
                    </a:cubicBezTo>
                    <a:cubicBezTo>
                      <a:pt x="44" y="857"/>
                      <a:pt x="97" y="637"/>
                      <a:pt x="62" y="775"/>
                    </a:cubicBezTo>
                    <a:cubicBezTo>
                      <a:pt x="50" y="822"/>
                      <a:pt x="41" y="870"/>
                      <a:pt x="29" y="917"/>
                    </a:cubicBezTo>
                    <a:cubicBezTo>
                      <a:pt x="26" y="931"/>
                      <a:pt x="22" y="946"/>
                      <a:pt x="19" y="960"/>
                    </a:cubicBezTo>
                    <a:cubicBezTo>
                      <a:pt x="15" y="975"/>
                      <a:pt x="8" y="1004"/>
                      <a:pt x="8" y="1004"/>
                    </a:cubicBezTo>
                    <a:cubicBezTo>
                      <a:pt x="12" y="1048"/>
                      <a:pt x="0" y="1096"/>
                      <a:pt x="19" y="1135"/>
                    </a:cubicBezTo>
                    <a:cubicBezTo>
                      <a:pt x="29" y="1155"/>
                      <a:pt x="84" y="1157"/>
                      <a:pt x="84" y="1157"/>
                    </a:cubicBezTo>
                    <a:cubicBezTo>
                      <a:pt x="145" y="1065"/>
                      <a:pt x="63" y="1180"/>
                      <a:pt x="139" y="1102"/>
                    </a:cubicBezTo>
                    <a:cubicBezTo>
                      <a:pt x="187" y="1053"/>
                      <a:pt x="129" y="1078"/>
                      <a:pt x="193" y="1059"/>
                    </a:cubicBezTo>
                    <a:cubicBezTo>
                      <a:pt x="204" y="1062"/>
                      <a:pt x="218" y="1061"/>
                      <a:pt x="226" y="1069"/>
                    </a:cubicBezTo>
                    <a:cubicBezTo>
                      <a:pt x="251" y="1093"/>
                      <a:pt x="234" y="1166"/>
                      <a:pt x="215" y="1189"/>
                    </a:cubicBezTo>
                    <a:cubicBezTo>
                      <a:pt x="207" y="1199"/>
                      <a:pt x="193" y="1204"/>
                      <a:pt x="182" y="1211"/>
                    </a:cubicBezTo>
                    <a:cubicBezTo>
                      <a:pt x="143" y="1270"/>
                      <a:pt x="133" y="1288"/>
                      <a:pt x="117" y="1353"/>
                    </a:cubicBezTo>
                    <a:cubicBezTo>
                      <a:pt x="124" y="1442"/>
                      <a:pt x="101" y="1503"/>
                      <a:pt x="171" y="1549"/>
                    </a:cubicBezTo>
                    <a:cubicBezTo>
                      <a:pt x="205" y="1600"/>
                      <a:pt x="221" y="1637"/>
                      <a:pt x="269" y="1669"/>
                    </a:cubicBezTo>
                    <a:cubicBezTo>
                      <a:pt x="297" y="1752"/>
                      <a:pt x="256" y="1653"/>
                      <a:pt x="313" y="1724"/>
                    </a:cubicBezTo>
                    <a:cubicBezTo>
                      <a:pt x="320" y="1733"/>
                      <a:pt x="318" y="1747"/>
                      <a:pt x="324" y="1757"/>
                    </a:cubicBezTo>
                    <a:cubicBezTo>
                      <a:pt x="361" y="1823"/>
                      <a:pt x="353" y="1812"/>
                      <a:pt x="400" y="1844"/>
                    </a:cubicBezTo>
                    <a:cubicBezTo>
                      <a:pt x="407" y="1855"/>
                      <a:pt x="413" y="1868"/>
                      <a:pt x="422" y="1877"/>
                    </a:cubicBezTo>
                    <a:cubicBezTo>
                      <a:pt x="431" y="1886"/>
                      <a:pt x="447" y="1889"/>
                      <a:pt x="455" y="1899"/>
                    </a:cubicBezTo>
                    <a:cubicBezTo>
                      <a:pt x="516" y="1974"/>
                      <a:pt x="403" y="1889"/>
                      <a:pt x="499" y="1953"/>
                    </a:cubicBezTo>
                    <a:cubicBezTo>
                      <a:pt x="526" y="1995"/>
                      <a:pt x="571" y="2013"/>
                      <a:pt x="619" y="2029"/>
                    </a:cubicBezTo>
                    <a:cubicBezTo>
                      <a:pt x="758" y="2074"/>
                      <a:pt x="898" y="2086"/>
                      <a:pt x="1044" y="2095"/>
                    </a:cubicBezTo>
                    <a:cubicBezTo>
                      <a:pt x="1185" y="2119"/>
                      <a:pt x="1206" y="2115"/>
                      <a:pt x="1393" y="2106"/>
                    </a:cubicBezTo>
                    <a:cubicBezTo>
                      <a:pt x="1415" y="2099"/>
                      <a:pt x="1440" y="2097"/>
                      <a:pt x="1459" y="2084"/>
                    </a:cubicBezTo>
                    <a:cubicBezTo>
                      <a:pt x="1470" y="2077"/>
                      <a:pt x="1479" y="2067"/>
                      <a:pt x="1491" y="2062"/>
                    </a:cubicBezTo>
                    <a:cubicBezTo>
                      <a:pt x="1613" y="2007"/>
                      <a:pt x="1514" y="2068"/>
                      <a:pt x="1589" y="2019"/>
                    </a:cubicBezTo>
                    <a:cubicBezTo>
                      <a:pt x="1619" y="1928"/>
                      <a:pt x="1621" y="1953"/>
                      <a:pt x="1600" y="1833"/>
                    </a:cubicBezTo>
                    <a:cubicBezTo>
                      <a:pt x="1596" y="1811"/>
                      <a:pt x="1579" y="1768"/>
                      <a:pt x="1579" y="1768"/>
                    </a:cubicBezTo>
                    <a:cubicBezTo>
                      <a:pt x="1571" y="1708"/>
                      <a:pt x="1539" y="1629"/>
                      <a:pt x="1611" y="1604"/>
                    </a:cubicBezTo>
                    <a:cubicBezTo>
                      <a:pt x="1622" y="1611"/>
                      <a:pt x="1637" y="1615"/>
                      <a:pt x="1644" y="1626"/>
                    </a:cubicBezTo>
                    <a:cubicBezTo>
                      <a:pt x="1656" y="1645"/>
                      <a:pt x="1654" y="1672"/>
                      <a:pt x="1666" y="1691"/>
                    </a:cubicBezTo>
                    <a:cubicBezTo>
                      <a:pt x="1680" y="1713"/>
                      <a:pt x="1694" y="1735"/>
                      <a:pt x="1709" y="1757"/>
                    </a:cubicBezTo>
                    <a:cubicBezTo>
                      <a:pt x="1716" y="1768"/>
                      <a:pt x="1719" y="1785"/>
                      <a:pt x="1731" y="1789"/>
                    </a:cubicBezTo>
                    <a:cubicBezTo>
                      <a:pt x="1753" y="1796"/>
                      <a:pt x="1797" y="1811"/>
                      <a:pt x="1797" y="1811"/>
                    </a:cubicBezTo>
                    <a:cubicBezTo>
                      <a:pt x="1818" y="1804"/>
                      <a:pt x="1846" y="1797"/>
                      <a:pt x="1862" y="1779"/>
                    </a:cubicBezTo>
                    <a:cubicBezTo>
                      <a:pt x="1908" y="1728"/>
                      <a:pt x="1898" y="1693"/>
                      <a:pt x="1949" y="1659"/>
                    </a:cubicBezTo>
                    <a:cubicBezTo>
                      <a:pt x="1956" y="1648"/>
                      <a:pt x="1965" y="1638"/>
                      <a:pt x="1971" y="1626"/>
                    </a:cubicBezTo>
                    <a:cubicBezTo>
                      <a:pt x="1976" y="1616"/>
                      <a:pt x="1976" y="1603"/>
                      <a:pt x="1982" y="1593"/>
                    </a:cubicBezTo>
                    <a:cubicBezTo>
                      <a:pt x="1995" y="1570"/>
                      <a:pt x="2026" y="1528"/>
                      <a:pt x="2026" y="1528"/>
                    </a:cubicBezTo>
                    <a:cubicBezTo>
                      <a:pt x="2051" y="1452"/>
                      <a:pt x="2067" y="1365"/>
                      <a:pt x="2113" y="1299"/>
                    </a:cubicBezTo>
                    <a:cubicBezTo>
                      <a:pt x="2141" y="1216"/>
                      <a:pt x="2103" y="1318"/>
                      <a:pt x="2146" y="1233"/>
                    </a:cubicBezTo>
                    <a:cubicBezTo>
                      <a:pt x="2172" y="1180"/>
                      <a:pt x="2181" y="1115"/>
                      <a:pt x="2200" y="1059"/>
                    </a:cubicBezTo>
                    <a:cubicBezTo>
                      <a:pt x="2196" y="815"/>
                      <a:pt x="2196" y="572"/>
                      <a:pt x="2189" y="328"/>
                    </a:cubicBezTo>
                    <a:cubicBezTo>
                      <a:pt x="2187" y="259"/>
                      <a:pt x="2108" y="186"/>
                      <a:pt x="2059" y="153"/>
                    </a:cubicBezTo>
                    <a:cubicBezTo>
                      <a:pt x="2040" y="140"/>
                      <a:pt x="2015" y="138"/>
                      <a:pt x="1993" y="131"/>
                    </a:cubicBezTo>
                    <a:cubicBezTo>
                      <a:pt x="1982" y="127"/>
                      <a:pt x="1960" y="120"/>
                      <a:pt x="1960" y="120"/>
                    </a:cubicBezTo>
                    <a:cubicBezTo>
                      <a:pt x="1928" y="124"/>
                      <a:pt x="1857" y="142"/>
                      <a:pt x="1819" y="142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851440" y="2043360"/>
                <a:ext cx="414360" cy="1020960"/>
              </a:xfrm>
              <a:custGeom>
                <a:avLst/>
                <a:gdLst/>
                <a:ahLst/>
                <a:rect l="l" t="t" r="r" b="b"/>
                <a:pathLst>
                  <a:path w="480" h="982">
                    <a:moveTo>
                      <a:pt x="0" y="982"/>
                    </a:moveTo>
                    <a:cubicBezTo>
                      <a:pt x="24" y="907"/>
                      <a:pt x="48" y="802"/>
                      <a:pt x="130" y="774"/>
                    </a:cubicBezTo>
                    <a:cubicBezTo>
                      <a:pt x="181" y="698"/>
                      <a:pt x="159" y="731"/>
                      <a:pt x="196" y="676"/>
                    </a:cubicBezTo>
                    <a:cubicBezTo>
                      <a:pt x="203" y="665"/>
                      <a:pt x="211" y="654"/>
                      <a:pt x="218" y="643"/>
                    </a:cubicBezTo>
                    <a:cubicBezTo>
                      <a:pt x="225" y="632"/>
                      <a:pt x="240" y="611"/>
                      <a:pt x="240" y="611"/>
                    </a:cubicBezTo>
                    <a:cubicBezTo>
                      <a:pt x="262" y="539"/>
                      <a:pt x="308" y="476"/>
                      <a:pt x="349" y="414"/>
                    </a:cubicBezTo>
                    <a:cubicBezTo>
                      <a:pt x="407" y="327"/>
                      <a:pt x="332" y="439"/>
                      <a:pt x="392" y="349"/>
                    </a:cubicBezTo>
                    <a:cubicBezTo>
                      <a:pt x="399" y="338"/>
                      <a:pt x="414" y="316"/>
                      <a:pt x="414" y="316"/>
                    </a:cubicBezTo>
                    <a:cubicBezTo>
                      <a:pt x="441" y="209"/>
                      <a:pt x="429" y="101"/>
                      <a:pt x="480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821920" y="2815200"/>
                <a:ext cx="491760" cy="1906920"/>
              </a:xfrm>
              <a:custGeom>
                <a:avLst/>
                <a:gdLst/>
                <a:ahLst/>
                <a:rect l="l" t="t" r="r" b="b"/>
                <a:pathLst>
                  <a:path w="513" h="1920">
                    <a:moveTo>
                      <a:pt x="0" y="1920"/>
                    </a:moveTo>
                    <a:cubicBezTo>
                      <a:pt x="22" y="1913"/>
                      <a:pt x="44" y="1905"/>
                      <a:pt x="66" y="1898"/>
                    </a:cubicBezTo>
                    <a:cubicBezTo>
                      <a:pt x="69" y="1897"/>
                      <a:pt x="141" y="1785"/>
                      <a:pt x="153" y="1767"/>
                    </a:cubicBezTo>
                    <a:cubicBezTo>
                      <a:pt x="160" y="1756"/>
                      <a:pt x="171" y="1747"/>
                      <a:pt x="175" y="1734"/>
                    </a:cubicBezTo>
                    <a:cubicBezTo>
                      <a:pt x="182" y="1712"/>
                      <a:pt x="197" y="1669"/>
                      <a:pt x="197" y="1669"/>
                    </a:cubicBezTo>
                    <a:cubicBezTo>
                      <a:pt x="201" y="1614"/>
                      <a:pt x="202" y="1559"/>
                      <a:pt x="208" y="1505"/>
                    </a:cubicBezTo>
                    <a:cubicBezTo>
                      <a:pt x="209" y="1493"/>
                      <a:pt x="219" y="1484"/>
                      <a:pt x="219" y="1472"/>
                    </a:cubicBezTo>
                    <a:cubicBezTo>
                      <a:pt x="219" y="1418"/>
                      <a:pt x="216" y="1363"/>
                      <a:pt x="208" y="1309"/>
                    </a:cubicBezTo>
                    <a:cubicBezTo>
                      <a:pt x="205" y="1286"/>
                      <a:pt x="186" y="1243"/>
                      <a:pt x="186" y="1243"/>
                    </a:cubicBezTo>
                    <a:cubicBezTo>
                      <a:pt x="197" y="1189"/>
                      <a:pt x="198" y="1163"/>
                      <a:pt x="251" y="1145"/>
                    </a:cubicBezTo>
                    <a:cubicBezTo>
                      <a:pt x="287" y="1169"/>
                      <a:pt x="303" y="1198"/>
                      <a:pt x="339" y="1222"/>
                    </a:cubicBezTo>
                    <a:cubicBezTo>
                      <a:pt x="404" y="1200"/>
                      <a:pt x="403" y="1152"/>
                      <a:pt x="415" y="1091"/>
                    </a:cubicBezTo>
                    <a:cubicBezTo>
                      <a:pt x="440" y="842"/>
                      <a:pt x="471" y="596"/>
                      <a:pt x="513" y="349"/>
                    </a:cubicBezTo>
                    <a:cubicBezTo>
                      <a:pt x="509" y="258"/>
                      <a:pt x="509" y="167"/>
                      <a:pt x="502" y="76"/>
                    </a:cubicBezTo>
                    <a:cubicBezTo>
                      <a:pt x="499" y="40"/>
                      <a:pt x="426" y="0"/>
                      <a:pt x="426" y="0"/>
                    </a:cubicBezTo>
                    <a:cubicBezTo>
                      <a:pt x="404" y="7"/>
                      <a:pt x="360" y="14"/>
                      <a:pt x="360" y="43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282360" y="2078280"/>
                <a:ext cx="220320" cy="768600"/>
              </a:xfrm>
              <a:custGeom>
                <a:avLst/>
                <a:gdLst/>
                <a:ahLst/>
                <a:rect l="l" t="t" r="r" b="b"/>
                <a:pathLst>
                  <a:path w="230" h="774">
                    <a:moveTo>
                      <a:pt x="0" y="774"/>
                    </a:moveTo>
                    <a:cubicBezTo>
                      <a:pt x="7" y="752"/>
                      <a:pt x="9" y="728"/>
                      <a:pt x="22" y="709"/>
                    </a:cubicBezTo>
                    <a:cubicBezTo>
                      <a:pt x="29" y="698"/>
                      <a:pt x="39" y="688"/>
                      <a:pt x="44" y="676"/>
                    </a:cubicBezTo>
                    <a:cubicBezTo>
                      <a:pt x="62" y="635"/>
                      <a:pt x="74" y="588"/>
                      <a:pt x="88" y="545"/>
                    </a:cubicBezTo>
                    <a:cubicBezTo>
                      <a:pt x="99" y="512"/>
                      <a:pt x="110" y="480"/>
                      <a:pt x="120" y="447"/>
                    </a:cubicBezTo>
                    <a:cubicBezTo>
                      <a:pt x="124" y="436"/>
                      <a:pt x="131" y="414"/>
                      <a:pt x="131" y="414"/>
                    </a:cubicBezTo>
                    <a:cubicBezTo>
                      <a:pt x="135" y="360"/>
                      <a:pt x="136" y="305"/>
                      <a:pt x="142" y="251"/>
                    </a:cubicBezTo>
                    <a:cubicBezTo>
                      <a:pt x="146" y="214"/>
                      <a:pt x="197" y="153"/>
                      <a:pt x="197" y="153"/>
                    </a:cubicBezTo>
                    <a:cubicBezTo>
                      <a:pt x="218" y="89"/>
                      <a:pt x="230" y="64"/>
                      <a:pt x="230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000120" y="2815200"/>
                <a:ext cx="72720" cy="5328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0" y="0"/>
                    </a:moveTo>
                    <a:cubicBezTo>
                      <a:pt x="18" y="4"/>
                      <a:pt x="39" y="1"/>
                      <a:pt x="54" y="11"/>
                    </a:cubicBezTo>
                    <a:cubicBezTo>
                      <a:pt x="67" y="20"/>
                      <a:pt x="65" y="43"/>
                      <a:pt x="76" y="54"/>
                    </a:cubicBezTo>
                  </a:path>
                </a:pathLst>
              </a:custGeom>
              <a:noFill/>
              <a:ln w="66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989680" y="2663280"/>
                <a:ext cx="492840" cy="2123640"/>
              </a:xfrm>
              <a:custGeom>
                <a:avLst/>
                <a:gdLst/>
                <a:ahLst/>
                <a:rect l="l" t="t" r="r" b="b"/>
                <a:pathLst>
                  <a:path w="514" h="2138">
                    <a:moveTo>
                      <a:pt x="0" y="2138"/>
                    </a:moveTo>
                    <a:cubicBezTo>
                      <a:pt x="15" y="2116"/>
                      <a:pt x="29" y="2095"/>
                      <a:pt x="44" y="2073"/>
                    </a:cubicBezTo>
                    <a:cubicBezTo>
                      <a:pt x="57" y="2054"/>
                      <a:pt x="58" y="2029"/>
                      <a:pt x="65" y="2007"/>
                    </a:cubicBezTo>
                    <a:cubicBezTo>
                      <a:pt x="84" y="1950"/>
                      <a:pt x="97" y="1894"/>
                      <a:pt x="131" y="1844"/>
                    </a:cubicBezTo>
                    <a:cubicBezTo>
                      <a:pt x="142" y="1811"/>
                      <a:pt x="153" y="1778"/>
                      <a:pt x="164" y="1745"/>
                    </a:cubicBezTo>
                    <a:cubicBezTo>
                      <a:pt x="182" y="1690"/>
                      <a:pt x="229" y="1658"/>
                      <a:pt x="262" y="1615"/>
                    </a:cubicBezTo>
                    <a:cubicBezTo>
                      <a:pt x="302" y="1564"/>
                      <a:pt x="308" y="1528"/>
                      <a:pt x="360" y="1495"/>
                    </a:cubicBezTo>
                    <a:cubicBezTo>
                      <a:pt x="367" y="1484"/>
                      <a:pt x="373" y="1471"/>
                      <a:pt x="382" y="1462"/>
                    </a:cubicBezTo>
                    <a:cubicBezTo>
                      <a:pt x="391" y="1453"/>
                      <a:pt x="406" y="1450"/>
                      <a:pt x="415" y="1440"/>
                    </a:cubicBezTo>
                    <a:cubicBezTo>
                      <a:pt x="432" y="1420"/>
                      <a:pt x="458" y="1375"/>
                      <a:pt x="458" y="1375"/>
                    </a:cubicBezTo>
                    <a:cubicBezTo>
                      <a:pt x="462" y="1364"/>
                      <a:pt x="473" y="1353"/>
                      <a:pt x="469" y="1342"/>
                    </a:cubicBezTo>
                    <a:cubicBezTo>
                      <a:pt x="457" y="1312"/>
                      <a:pt x="370" y="1302"/>
                      <a:pt x="349" y="1298"/>
                    </a:cubicBezTo>
                    <a:cubicBezTo>
                      <a:pt x="375" y="1219"/>
                      <a:pt x="349" y="1305"/>
                      <a:pt x="371" y="1145"/>
                    </a:cubicBezTo>
                    <a:cubicBezTo>
                      <a:pt x="377" y="1098"/>
                      <a:pt x="392" y="1050"/>
                      <a:pt x="404" y="1004"/>
                    </a:cubicBezTo>
                    <a:cubicBezTo>
                      <a:pt x="406" y="966"/>
                      <a:pt x="419" y="730"/>
                      <a:pt x="425" y="676"/>
                    </a:cubicBezTo>
                    <a:cubicBezTo>
                      <a:pt x="441" y="523"/>
                      <a:pt x="483" y="369"/>
                      <a:pt x="513" y="218"/>
                    </a:cubicBezTo>
                    <a:cubicBezTo>
                      <a:pt x="509" y="193"/>
                      <a:pt x="514" y="165"/>
                      <a:pt x="502" y="142"/>
                    </a:cubicBezTo>
                    <a:cubicBezTo>
                      <a:pt x="497" y="132"/>
                      <a:pt x="477" y="139"/>
                      <a:pt x="469" y="131"/>
                    </a:cubicBezTo>
                    <a:cubicBezTo>
                      <a:pt x="452" y="114"/>
                      <a:pt x="440" y="30"/>
                      <a:pt x="425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450120" y="2329560"/>
                <a:ext cx="378000" cy="593640"/>
              </a:xfrm>
              <a:custGeom>
                <a:avLst/>
                <a:gdLst/>
                <a:ahLst/>
                <a:rect l="l" t="t" r="r" b="b"/>
                <a:pathLst>
                  <a:path w="361" h="698">
                    <a:moveTo>
                      <a:pt x="305" y="698"/>
                    </a:moveTo>
                    <a:cubicBezTo>
                      <a:pt x="361" y="614"/>
                      <a:pt x="325" y="493"/>
                      <a:pt x="272" y="414"/>
                    </a:cubicBezTo>
                    <a:cubicBezTo>
                      <a:pt x="254" y="356"/>
                      <a:pt x="268" y="391"/>
                      <a:pt x="218" y="316"/>
                    </a:cubicBezTo>
                    <a:cubicBezTo>
                      <a:pt x="212" y="306"/>
                      <a:pt x="214" y="292"/>
                      <a:pt x="207" y="283"/>
                    </a:cubicBezTo>
                    <a:cubicBezTo>
                      <a:pt x="199" y="273"/>
                      <a:pt x="185" y="268"/>
                      <a:pt x="174" y="261"/>
                    </a:cubicBezTo>
                    <a:cubicBezTo>
                      <a:pt x="159" y="218"/>
                      <a:pt x="147" y="199"/>
                      <a:pt x="109" y="174"/>
                    </a:cubicBezTo>
                    <a:cubicBezTo>
                      <a:pt x="81" y="90"/>
                      <a:pt x="119" y="193"/>
                      <a:pt x="76" y="109"/>
                    </a:cubicBezTo>
                    <a:cubicBezTo>
                      <a:pt x="71" y="99"/>
                      <a:pt x="72" y="85"/>
                      <a:pt x="65" y="76"/>
                    </a:cubicBezTo>
                    <a:cubicBezTo>
                      <a:pt x="57" y="66"/>
                      <a:pt x="43" y="61"/>
                      <a:pt x="32" y="54"/>
                    </a:cubicBezTo>
                    <a:cubicBezTo>
                      <a:pt x="19" y="11"/>
                      <a:pt x="30" y="29"/>
                      <a:pt x="0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104880" y="2034360"/>
                <a:ext cx="136080" cy="129960"/>
              </a:xfrm>
              <a:custGeom>
                <a:avLst/>
                <a:gdLst/>
                <a:ahLst/>
                <a:rect l="l" t="t" r="r" b="b"/>
                <a:pathLst>
                  <a:path w="142" h="131">
                    <a:moveTo>
                      <a:pt x="142" y="131"/>
                    </a:moveTo>
                    <a:cubicBezTo>
                      <a:pt x="68" y="106"/>
                      <a:pt x="82" y="131"/>
                      <a:pt x="65" y="77"/>
                    </a:cubicBezTo>
                    <a:cubicBezTo>
                      <a:pt x="61" y="66"/>
                      <a:pt x="60" y="54"/>
                      <a:pt x="55" y="44"/>
                    </a:cubicBezTo>
                    <a:cubicBezTo>
                      <a:pt x="49" y="32"/>
                      <a:pt x="43" y="19"/>
                      <a:pt x="33" y="11"/>
                    </a:cubicBezTo>
                    <a:cubicBezTo>
                      <a:pt x="24" y="4"/>
                      <a:pt x="0" y="0"/>
                      <a:pt x="0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936760" y="2131920"/>
                <a:ext cx="146520" cy="151920"/>
              </a:xfrm>
              <a:custGeom>
                <a:avLst/>
                <a:gdLst/>
                <a:ahLst/>
                <a:rect l="l" t="t" r="r" b="b"/>
                <a:pathLst>
                  <a:path w="153" h="153">
                    <a:moveTo>
                      <a:pt x="153" y="153"/>
                    </a:moveTo>
                    <a:cubicBezTo>
                      <a:pt x="142" y="146"/>
                      <a:pt x="128" y="141"/>
                      <a:pt x="120" y="131"/>
                    </a:cubicBezTo>
                    <a:cubicBezTo>
                      <a:pt x="78" y="78"/>
                      <a:pt x="150" y="112"/>
                      <a:pt x="77" y="88"/>
                    </a:cubicBezTo>
                    <a:cubicBezTo>
                      <a:pt x="70" y="77"/>
                      <a:pt x="65" y="63"/>
                      <a:pt x="55" y="55"/>
                    </a:cubicBezTo>
                    <a:cubicBezTo>
                      <a:pt x="31" y="36"/>
                      <a:pt x="0" y="45"/>
                      <a:pt x="0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433280" y="2175480"/>
                <a:ext cx="335520" cy="552240"/>
              </a:xfrm>
              <a:custGeom>
                <a:avLst/>
                <a:gdLst/>
                <a:ahLst/>
                <a:rect l="l" t="t" r="r" b="b"/>
                <a:pathLst>
                  <a:path w="350" h="556">
                    <a:moveTo>
                      <a:pt x="0" y="556"/>
                    </a:moveTo>
                    <a:cubicBezTo>
                      <a:pt x="5" y="555"/>
                      <a:pt x="68" y="542"/>
                      <a:pt x="77" y="535"/>
                    </a:cubicBezTo>
                    <a:cubicBezTo>
                      <a:pt x="87" y="527"/>
                      <a:pt x="90" y="511"/>
                      <a:pt x="99" y="502"/>
                    </a:cubicBezTo>
                    <a:cubicBezTo>
                      <a:pt x="108" y="493"/>
                      <a:pt x="120" y="487"/>
                      <a:pt x="131" y="480"/>
                    </a:cubicBezTo>
                    <a:cubicBezTo>
                      <a:pt x="138" y="332"/>
                      <a:pt x="120" y="148"/>
                      <a:pt x="262" y="55"/>
                    </a:cubicBezTo>
                    <a:cubicBezTo>
                      <a:pt x="269" y="44"/>
                      <a:pt x="273" y="29"/>
                      <a:pt x="284" y="22"/>
                    </a:cubicBezTo>
                    <a:cubicBezTo>
                      <a:pt x="304" y="10"/>
                      <a:pt x="350" y="0"/>
                      <a:pt x="350" y="0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171200" y="1981080"/>
                <a:ext cx="387360" cy="324720"/>
              </a:xfrm>
              <a:custGeom>
                <a:avLst/>
                <a:gdLst/>
                <a:ahLst/>
                <a:rect l="l" t="t" r="r" b="b"/>
                <a:pathLst>
                  <a:path w="404" h="327">
                    <a:moveTo>
                      <a:pt x="404" y="109"/>
                    </a:moveTo>
                    <a:cubicBezTo>
                      <a:pt x="382" y="116"/>
                      <a:pt x="361" y="124"/>
                      <a:pt x="339" y="131"/>
                    </a:cubicBezTo>
                    <a:cubicBezTo>
                      <a:pt x="314" y="139"/>
                      <a:pt x="317" y="181"/>
                      <a:pt x="295" y="196"/>
                    </a:cubicBezTo>
                    <a:cubicBezTo>
                      <a:pt x="284" y="203"/>
                      <a:pt x="274" y="211"/>
                      <a:pt x="263" y="218"/>
                    </a:cubicBezTo>
                    <a:cubicBezTo>
                      <a:pt x="202" y="309"/>
                      <a:pt x="282" y="204"/>
                      <a:pt x="208" y="262"/>
                    </a:cubicBezTo>
                    <a:cubicBezTo>
                      <a:pt x="198" y="270"/>
                      <a:pt x="197" y="287"/>
                      <a:pt x="186" y="294"/>
                    </a:cubicBezTo>
                    <a:cubicBezTo>
                      <a:pt x="167" y="306"/>
                      <a:pt x="143" y="309"/>
                      <a:pt x="121" y="316"/>
                    </a:cubicBezTo>
                    <a:cubicBezTo>
                      <a:pt x="110" y="320"/>
                      <a:pt x="88" y="327"/>
                      <a:pt x="88" y="327"/>
                    </a:cubicBezTo>
                    <a:cubicBezTo>
                      <a:pt x="73" y="323"/>
                      <a:pt x="59" y="320"/>
                      <a:pt x="44" y="316"/>
                    </a:cubicBezTo>
                    <a:cubicBezTo>
                      <a:pt x="33" y="313"/>
                      <a:pt x="14" y="316"/>
                      <a:pt x="12" y="305"/>
                    </a:cubicBezTo>
                    <a:cubicBezTo>
                      <a:pt x="0" y="239"/>
                      <a:pt x="34" y="160"/>
                      <a:pt x="55" y="98"/>
                    </a:cubicBezTo>
                    <a:cubicBezTo>
                      <a:pt x="62" y="76"/>
                      <a:pt x="64" y="51"/>
                      <a:pt x="77" y="32"/>
                    </a:cubicBezTo>
                    <a:cubicBezTo>
                      <a:pt x="84" y="21"/>
                      <a:pt x="99" y="0"/>
                      <a:pt x="99" y="0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680520" y="1981080"/>
                <a:ext cx="334440" cy="617760"/>
              </a:xfrm>
              <a:custGeom>
                <a:avLst/>
                <a:gdLst/>
                <a:ahLst/>
                <a:rect l="l" t="t" r="r" b="b"/>
                <a:pathLst>
                  <a:path w="349" h="622">
                    <a:moveTo>
                      <a:pt x="349" y="0"/>
                    </a:moveTo>
                    <a:cubicBezTo>
                      <a:pt x="324" y="73"/>
                      <a:pt x="317" y="141"/>
                      <a:pt x="251" y="185"/>
                    </a:cubicBezTo>
                    <a:cubicBezTo>
                      <a:pt x="212" y="243"/>
                      <a:pt x="170" y="291"/>
                      <a:pt x="131" y="349"/>
                    </a:cubicBezTo>
                    <a:cubicBezTo>
                      <a:pt x="72" y="438"/>
                      <a:pt x="146" y="327"/>
                      <a:pt x="87" y="414"/>
                    </a:cubicBezTo>
                    <a:cubicBezTo>
                      <a:pt x="80" y="425"/>
                      <a:pt x="65" y="447"/>
                      <a:pt x="65" y="447"/>
                    </a:cubicBezTo>
                    <a:cubicBezTo>
                      <a:pt x="48" y="502"/>
                      <a:pt x="59" y="469"/>
                      <a:pt x="33" y="545"/>
                    </a:cubicBezTo>
                    <a:cubicBezTo>
                      <a:pt x="23" y="575"/>
                      <a:pt x="0" y="587"/>
                      <a:pt x="0" y="622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972840" y="2868840"/>
                <a:ext cx="146520" cy="76320"/>
              </a:xfrm>
              <a:custGeom>
                <a:avLst/>
                <a:gdLst/>
                <a:ahLst/>
                <a:rect l="l" t="t" r="r" b="b"/>
                <a:pathLst>
                  <a:path w="153" h="77">
                    <a:moveTo>
                      <a:pt x="153" y="0"/>
                    </a:moveTo>
                    <a:cubicBezTo>
                      <a:pt x="89" y="22"/>
                      <a:pt x="47" y="30"/>
                      <a:pt x="0" y="77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471000" y="2859840"/>
                <a:ext cx="125640" cy="41760"/>
              </a:xfrm>
              <a:custGeom>
                <a:avLst/>
                <a:gdLst/>
                <a:ahLst/>
                <a:rect l="l" t="t" r="r" b="b"/>
                <a:pathLst>
                  <a:path w="131" h="42">
                    <a:moveTo>
                      <a:pt x="0" y="42"/>
                    </a:moveTo>
                    <a:cubicBezTo>
                      <a:pt x="45" y="27"/>
                      <a:pt x="89" y="0"/>
                      <a:pt x="131" y="42"/>
                    </a:cubicBezTo>
                  </a:path>
                </a:pathLst>
              </a:custGeom>
              <a:noFill/>
              <a:ln w="66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680520" y="2822400"/>
                <a:ext cx="104400" cy="3564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109" y="15"/>
                    </a:moveTo>
                    <a:cubicBezTo>
                      <a:pt x="65" y="0"/>
                      <a:pt x="35" y="3"/>
                      <a:pt x="0" y="36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4267080" y="213372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97760" y="2840040"/>
              <a:ext cx="322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67080" y="33526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867280" y="31240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24680" y="47242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001000" y="3657600"/>
              <a:ext cx="322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545000" y="2266920"/>
              <a:ext cx="920880" cy="1904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498920" y="2982600"/>
              <a:ext cx="1289160" cy="4762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6064200" y="1980720"/>
              <a:ext cx="322200" cy="1096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 flipV="1">
              <a:off x="7031160" y="2600280"/>
              <a:ext cx="969840" cy="3715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6892560" y="3887640"/>
              <a:ext cx="1104840" cy="142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7030800" y="4699080"/>
              <a:ext cx="874440" cy="2858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762120" y="25146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row R pumps blood to the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81952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the ventr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the l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the lu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4267080" y="1980720"/>
            <a:ext cx="4056120" cy="3203280"/>
            <a:chOff x="4267080" y="1980720"/>
            <a:chExt cx="4056120" cy="3203280"/>
          </a:xfrm>
        </p:grpSpPr>
        <p:grpSp>
          <p:nvGrpSpPr>
            <p:cNvPr id="804" name=""/>
            <p:cNvGrpSpPr/>
            <p:nvPr/>
          </p:nvGrpSpPr>
          <p:grpSpPr>
            <a:xfrm>
              <a:off x="5143680" y="1981080"/>
              <a:ext cx="2625120" cy="3022200"/>
              <a:chOff x="5143680" y="1981080"/>
              <a:chExt cx="2625120" cy="3022200"/>
            </a:xfrm>
          </p:grpSpPr>
          <p:sp>
            <p:nvSpPr>
              <p:cNvPr id="805" name=""/>
              <p:cNvSpPr/>
              <p:nvPr/>
            </p:nvSpPr>
            <p:spPr>
              <a:xfrm>
                <a:off x="5173200" y="2208240"/>
                <a:ext cx="250920" cy="649440"/>
              </a:xfrm>
              <a:custGeom>
                <a:avLst/>
                <a:gdLst/>
                <a:ahLst/>
                <a:rect l="l" t="t" r="r" b="b"/>
                <a:pathLst>
                  <a:path w="262" h="654">
                    <a:moveTo>
                      <a:pt x="44" y="0"/>
                    </a:moveTo>
                    <a:cubicBezTo>
                      <a:pt x="90" y="70"/>
                      <a:pt x="116" y="94"/>
                      <a:pt x="66" y="185"/>
                    </a:cubicBezTo>
                    <a:cubicBezTo>
                      <a:pt x="53" y="208"/>
                      <a:pt x="30" y="226"/>
                      <a:pt x="22" y="251"/>
                    </a:cubicBezTo>
                    <a:cubicBezTo>
                      <a:pt x="15" y="273"/>
                      <a:pt x="0" y="316"/>
                      <a:pt x="0" y="316"/>
                    </a:cubicBezTo>
                    <a:cubicBezTo>
                      <a:pt x="2" y="326"/>
                      <a:pt x="14" y="397"/>
                      <a:pt x="22" y="403"/>
                    </a:cubicBezTo>
                    <a:cubicBezTo>
                      <a:pt x="50" y="423"/>
                      <a:pt x="117" y="435"/>
                      <a:pt x="153" y="447"/>
                    </a:cubicBezTo>
                    <a:cubicBezTo>
                      <a:pt x="167" y="452"/>
                      <a:pt x="182" y="454"/>
                      <a:pt x="196" y="458"/>
                    </a:cubicBezTo>
                    <a:cubicBezTo>
                      <a:pt x="218" y="465"/>
                      <a:pt x="262" y="480"/>
                      <a:pt x="262" y="480"/>
                    </a:cubicBezTo>
                    <a:cubicBezTo>
                      <a:pt x="258" y="516"/>
                      <a:pt x="258" y="553"/>
                      <a:pt x="251" y="589"/>
                    </a:cubicBezTo>
                    <a:cubicBezTo>
                      <a:pt x="247" y="611"/>
                      <a:pt x="229" y="654"/>
                      <a:pt x="229" y="654"/>
                    </a:cubicBezTo>
                  </a:path>
                </a:pathLst>
              </a:custGeom>
              <a:noFill/>
              <a:ln w="88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393160" y="2078280"/>
                <a:ext cx="280800" cy="228240"/>
              </a:xfrm>
              <a:custGeom>
                <a:avLst/>
                <a:gdLst/>
                <a:ahLst/>
                <a:rect l="l" t="t" r="r" b="b"/>
                <a:pathLst>
                  <a:path w="293" h="230">
                    <a:moveTo>
                      <a:pt x="0" y="76"/>
                    </a:moveTo>
                    <a:cubicBezTo>
                      <a:pt x="22" y="142"/>
                      <a:pt x="7" y="165"/>
                      <a:pt x="66" y="185"/>
                    </a:cubicBezTo>
                    <a:cubicBezTo>
                      <a:pt x="131" y="230"/>
                      <a:pt x="209" y="217"/>
                      <a:pt x="273" y="174"/>
                    </a:cubicBezTo>
                    <a:cubicBezTo>
                      <a:pt x="293" y="115"/>
                      <a:pt x="267" y="54"/>
                      <a:pt x="240" y="0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9280" y="2090880"/>
                <a:ext cx="368280" cy="381240"/>
              </a:xfrm>
              <a:custGeom>
                <a:avLst/>
                <a:gdLst/>
                <a:ahLst/>
                <a:rect l="l" t="t" r="r" b="b"/>
                <a:pathLst>
                  <a:path w="218" h="404">
                    <a:moveTo>
                      <a:pt x="0" y="0"/>
                    </a:moveTo>
                    <a:cubicBezTo>
                      <a:pt x="25" y="78"/>
                      <a:pt x="8" y="47"/>
                      <a:pt x="43" y="98"/>
                    </a:cubicBezTo>
                    <a:cubicBezTo>
                      <a:pt x="62" y="156"/>
                      <a:pt x="79" y="215"/>
                      <a:pt x="98" y="273"/>
                    </a:cubicBezTo>
                    <a:cubicBezTo>
                      <a:pt x="98" y="274"/>
                      <a:pt x="115" y="344"/>
                      <a:pt x="120" y="349"/>
                    </a:cubicBezTo>
                    <a:cubicBezTo>
                      <a:pt x="158" y="387"/>
                      <a:pt x="177" y="390"/>
                      <a:pt x="218" y="404"/>
                    </a:cubicBezTo>
                    <a:cubicBezTo>
                      <a:pt x="214" y="349"/>
                      <a:pt x="213" y="295"/>
                      <a:pt x="207" y="240"/>
                    </a:cubicBezTo>
                    <a:cubicBezTo>
                      <a:pt x="205" y="222"/>
                      <a:pt x="201" y="204"/>
                      <a:pt x="196" y="186"/>
                    </a:cubicBezTo>
                    <a:cubicBezTo>
                      <a:pt x="193" y="175"/>
                      <a:pt x="185" y="153"/>
                      <a:pt x="185" y="153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143680" y="2706840"/>
                <a:ext cx="2468160" cy="2296440"/>
              </a:xfrm>
              <a:custGeom>
                <a:avLst/>
                <a:gdLst/>
                <a:ahLst/>
                <a:rect l="l" t="t" r="r" b="b"/>
                <a:pathLst>
                  <a:path w="2573" h="2312">
                    <a:moveTo>
                      <a:pt x="271" y="152"/>
                    </a:moveTo>
                    <a:cubicBezTo>
                      <a:pt x="298" y="233"/>
                      <a:pt x="257" y="304"/>
                      <a:pt x="238" y="381"/>
                    </a:cubicBezTo>
                    <a:cubicBezTo>
                      <a:pt x="221" y="447"/>
                      <a:pt x="192" y="496"/>
                      <a:pt x="162" y="556"/>
                    </a:cubicBezTo>
                    <a:cubicBezTo>
                      <a:pt x="139" y="602"/>
                      <a:pt x="131" y="659"/>
                      <a:pt x="118" y="709"/>
                    </a:cubicBezTo>
                    <a:cubicBezTo>
                      <a:pt x="102" y="771"/>
                      <a:pt x="94" y="833"/>
                      <a:pt x="75" y="894"/>
                    </a:cubicBezTo>
                    <a:cubicBezTo>
                      <a:pt x="67" y="921"/>
                      <a:pt x="52" y="962"/>
                      <a:pt x="42" y="992"/>
                    </a:cubicBezTo>
                    <a:cubicBezTo>
                      <a:pt x="38" y="1003"/>
                      <a:pt x="31" y="1025"/>
                      <a:pt x="31" y="1025"/>
                    </a:cubicBezTo>
                    <a:cubicBezTo>
                      <a:pt x="34" y="1125"/>
                      <a:pt x="0" y="1478"/>
                      <a:pt x="140" y="1571"/>
                    </a:cubicBezTo>
                    <a:cubicBezTo>
                      <a:pt x="159" y="1627"/>
                      <a:pt x="145" y="1595"/>
                      <a:pt x="195" y="1669"/>
                    </a:cubicBezTo>
                    <a:cubicBezTo>
                      <a:pt x="202" y="1680"/>
                      <a:pt x="217" y="1701"/>
                      <a:pt x="217" y="1701"/>
                    </a:cubicBezTo>
                    <a:cubicBezTo>
                      <a:pt x="239" y="1773"/>
                      <a:pt x="208" y="1698"/>
                      <a:pt x="260" y="1756"/>
                    </a:cubicBezTo>
                    <a:cubicBezTo>
                      <a:pt x="309" y="1811"/>
                      <a:pt x="329" y="1907"/>
                      <a:pt x="402" y="1931"/>
                    </a:cubicBezTo>
                    <a:cubicBezTo>
                      <a:pt x="434" y="1962"/>
                      <a:pt x="453" y="1993"/>
                      <a:pt x="489" y="2018"/>
                    </a:cubicBezTo>
                    <a:cubicBezTo>
                      <a:pt x="496" y="2029"/>
                      <a:pt x="505" y="2039"/>
                      <a:pt x="511" y="2051"/>
                    </a:cubicBezTo>
                    <a:cubicBezTo>
                      <a:pt x="516" y="2061"/>
                      <a:pt x="514" y="2075"/>
                      <a:pt x="522" y="2083"/>
                    </a:cubicBezTo>
                    <a:cubicBezTo>
                      <a:pt x="541" y="2102"/>
                      <a:pt x="587" y="2127"/>
                      <a:pt x="587" y="2127"/>
                    </a:cubicBezTo>
                    <a:cubicBezTo>
                      <a:pt x="594" y="2138"/>
                      <a:pt x="607" y="2147"/>
                      <a:pt x="609" y="2160"/>
                    </a:cubicBezTo>
                    <a:cubicBezTo>
                      <a:pt x="611" y="2171"/>
                      <a:pt x="594" y="2182"/>
                      <a:pt x="598" y="2192"/>
                    </a:cubicBezTo>
                    <a:cubicBezTo>
                      <a:pt x="608" y="2217"/>
                      <a:pt x="672" y="2221"/>
                      <a:pt x="686" y="2225"/>
                    </a:cubicBezTo>
                    <a:cubicBezTo>
                      <a:pt x="719" y="2234"/>
                      <a:pt x="751" y="2247"/>
                      <a:pt x="784" y="2258"/>
                    </a:cubicBezTo>
                    <a:cubicBezTo>
                      <a:pt x="818" y="2269"/>
                      <a:pt x="843" y="2298"/>
                      <a:pt x="882" y="2301"/>
                    </a:cubicBezTo>
                    <a:cubicBezTo>
                      <a:pt x="962" y="2307"/>
                      <a:pt x="1042" y="2308"/>
                      <a:pt x="1122" y="2312"/>
                    </a:cubicBezTo>
                    <a:cubicBezTo>
                      <a:pt x="1306" y="2301"/>
                      <a:pt x="1482" y="2277"/>
                      <a:pt x="1667" y="2269"/>
                    </a:cubicBezTo>
                    <a:cubicBezTo>
                      <a:pt x="1706" y="2256"/>
                      <a:pt x="1831" y="2225"/>
                      <a:pt x="1864" y="2203"/>
                    </a:cubicBezTo>
                    <a:cubicBezTo>
                      <a:pt x="1909" y="2173"/>
                      <a:pt x="1945" y="2144"/>
                      <a:pt x="1995" y="2127"/>
                    </a:cubicBezTo>
                    <a:cubicBezTo>
                      <a:pt x="2030" y="2103"/>
                      <a:pt x="2046" y="2074"/>
                      <a:pt x="2082" y="2051"/>
                    </a:cubicBezTo>
                    <a:cubicBezTo>
                      <a:pt x="2089" y="2040"/>
                      <a:pt x="2095" y="2027"/>
                      <a:pt x="2104" y="2018"/>
                    </a:cubicBezTo>
                    <a:cubicBezTo>
                      <a:pt x="2113" y="2009"/>
                      <a:pt x="2129" y="2006"/>
                      <a:pt x="2137" y="1996"/>
                    </a:cubicBezTo>
                    <a:cubicBezTo>
                      <a:pt x="2196" y="1920"/>
                      <a:pt x="2085" y="2004"/>
                      <a:pt x="2180" y="1941"/>
                    </a:cubicBezTo>
                    <a:cubicBezTo>
                      <a:pt x="2195" y="1898"/>
                      <a:pt x="2208" y="1879"/>
                      <a:pt x="2246" y="1854"/>
                    </a:cubicBezTo>
                    <a:cubicBezTo>
                      <a:pt x="2300" y="1769"/>
                      <a:pt x="2230" y="1869"/>
                      <a:pt x="2300" y="1800"/>
                    </a:cubicBezTo>
                    <a:cubicBezTo>
                      <a:pt x="2378" y="1724"/>
                      <a:pt x="2263" y="1806"/>
                      <a:pt x="2355" y="1745"/>
                    </a:cubicBezTo>
                    <a:cubicBezTo>
                      <a:pt x="2371" y="1698"/>
                      <a:pt x="2400" y="1659"/>
                      <a:pt x="2420" y="1614"/>
                    </a:cubicBezTo>
                    <a:cubicBezTo>
                      <a:pt x="2459" y="1528"/>
                      <a:pt x="2479" y="1430"/>
                      <a:pt x="2507" y="1341"/>
                    </a:cubicBezTo>
                    <a:cubicBezTo>
                      <a:pt x="2548" y="1212"/>
                      <a:pt x="2551" y="1071"/>
                      <a:pt x="2573" y="938"/>
                    </a:cubicBezTo>
                    <a:cubicBezTo>
                      <a:pt x="2569" y="687"/>
                      <a:pt x="2572" y="436"/>
                      <a:pt x="2562" y="185"/>
                    </a:cubicBezTo>
                    <a:cubicBezTo>
                      <a:pt x="2561" y="169"/>
                      <a:pt x="2533" y="70"/>
                      <a:pt x="2507" y="54"/>
                    </a:cubicBezTo>
                    <a:cubicBezTo>
                      <a:pt x="2462" y="26"/>
                      <a:pt x="2386" y="13"/>
                      <a:pt x="2333" y="0"/>
                    </a:cubicBezTo>
                    <a:cubicBezTo>
                      <a:pt x="2282" y="4"/>
                      <a:pt x="2230" y="2"/>
                      <a:pt x="2180" y="11"/>
                    </a:cubicBezTo>
                    <a:cubicBezTo>
                      <a:pt x="2146" y="17"/>
                      <a:pt x="2121" y="68"/>
                      <a:pt x="2093" y="87"/>
                    </a:cubicBezTo>
                    <a:cubicBezTo>
                      <a:pt x="2086" y="98"/>
                      <a:pt x="2080" y="111"/>
                      <a:pt x="2071" y="120"/>
                    </a:cubicBezTo>
                    <a:cubicBezTo>
                      <a:pt x="2062" y="129"/>
                      <a:pt x="2046" y="131"/>
                      <a:pt x="2038" y="141"/>
                    </a:cubicBezTo>
                    <a:cubicBezTo>
                      <a:pt x="2031" y="150"/>
                      <a:pt x="2032" y="164"/>
                      <a:pt x="2027" y="174"/>
                    </a:cubicBezTo>
                    <a:cubicBezTo>
                      <a:pt x="2025" y="178"/>
                      <a:pt x="2020" y="181"/>
                      <a:pt x="2017" y="185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403600" y="2696040"/>
                <a:ext cx="282960" cy="302760"/>
              </a:xfrm>
              <a:custGeom>
                <a:avLst/>
                <a:gdLst/>
                <a:ahLst/>
                <a:rect l="l" t="t" r="r" b="b"/>
                <a:pathLst>
                  <a:path w="295" h="305">
                    <a:moveTo>
                      <a:pt x="0" y="0"/>
                    </a:moveTo>
                    <a:cubicBezTo>
                      <a:pt x="62" y="16"/>
                      <a:pt x="125" y="34"/>
                      <a:pt x="186" y="54"/>
                    </a:cubicBezTo>
                    <a:cubicBezTo>
                      <a:pt x="270" y="112"/>
                      <a:pt x="295" y="209"/>
                      <a:pt x="295" y="305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333400" y="2738520"/>
                <a:ext cx="2110320" cy="2104920"/>
              </a:xfrm>
              <a:custGeom>
                <a:avLst/>
                <a:gdLst/>
                <a:ahLst/>
                <a:rect l="l" t="t" r="r" b="b"/>
                <a:pathLst>
                  <a:path w="2200" h="2119">
                    <a:moveTo>
                      <a:pt x="193" y="0"/>
                    </a:moveTo>
                    <a:cubicBezTo>
                      <a:pt x="186" y="203"/>
                      <a:pt x="190" y="253"/>
                      <a:pt x="160" y="404"/>
                    </a:cubicBezTo>
                    <a:cubicBezTo>
                      <a:pt x="156" y="451"/>
                      <a:pt x="155" y="499"/>
                      <a:pt x="149" y="546"/>
                    </a:cubicBezTo>
                    <a:cubicBezTo>
                      <a:pt x="142" y="600"/>
                      <a:pt x="113" y="657"/>
                      <a:pt x="95" y="709"/>
                    </a:cubicBezTo>
                    <a:cubicBezTo>
                      <a:pt x="44" y="857"/>
                      <a:pt x="97" y="637"/>
                      <a:pt x="62" y="775"/>
                    </a:cubicBezTo>
                    <a:cubicBezTo>
                      <a:pt x="50" y="822"/>
                      <a:pt x="41" y="870"/>
                      <a:pt x="29" y="917"/>
                    </a:cubicBezTo>
                    <a:cubicBezTo>
                      <a:pt x="26" y="931"/>
                      <a:pt x="22" y="946"/>
                      <a:pt x="19" y="960"/>
                    </a:cubicBezTo>
                    <a:cubicBezTo>
                      <a:pt x="15" y="975"/>
                      <a:pt x="8" y="1004"/>
                      <a:pt x="8" y="1004"/>
                    </a:cubicBezTo>
                    <a:cubicBezTo>
                      <a:pt x="12" y="1048"/>
                      <a:pt x="0" y="1096"/>
                      <a:pt x="19" y="1135"/>
                    </a:cubicBezTo>
                    <a:cubicBezTo>
                      <a:pt x="29" y="1155"/>
                      <a:pt x="84" y="1157"/>
                      <a:pt x="84" y="1157"/>
                    </a:cubicBezTo>
                    <a:cubicBezTo>
                      <a:pt x="145" y="1065"/>
                      <a:pt x="63" y="1180"/>
                      <a:pt x="139" y="1102"/>
                    </a:cubicBezTo>
                    <a:cubicBezTo>
                      <a:pt x="187" y="1053"/>
                      <a:pt x="129" y="1078"/>
                      <a:pt x="193" y="1059"/>
                    </a:cubicBezTo>
                    <a:cubicBezTo>
                      <a:pt x="204" y="1062"/>
                      <a:pt x="218" y="1061"/>
                      <a:pt x="226" y="1069"/>
                    </a:cubicBezTo>
                    <a:cubicBezTo>
                      <a:pt x="251" y="1093"/>
                      <a:pt x="234" y="1166"/>
                      <a:pt x="215" y="1189"/>
                    </a:cubicBezTo>
                    <a:cubicBezTo>
                      <a:pt x="207" y="1199"/>
                      <a:pt x="193" y="1204"/>
                      <a:pt x="182" y="1211"/>
                    </a:cubicBezTo>
                    <a:cubicBezTo>
                      <a:pt x="143" y="1270"/>
                      <a:pt x="133" y="1288"/>
                      <a:pt x="117" y="1353"/>
                    </a:cubicBezTo>
                    <a:cubicBezTo>
                      <a:pt x="124" y="1442"/>
                      <a:pt x="101" y="1503"/>
                      <a:pt x="171" y="1549"/>
                    </a:cubicBezTo>
                    <a:cubicBezTo>
                      <a:pt x="205" y="1600"/>
                      <a:pt x="221" y="1637"/>
                      <a:pt x="269" y="1669"/>
                    </a:cubicBezTo>
                    <a:cubicBezTo>
                      <a:pt x="297" y="1752"/>
                      <a:pt x="256" y="1653"/>
                      <a:pt x="313" y="1724"/>
                    </a:cubicBezTo>
                    <a:cubicBezTo>
                      <a:pt x="320" y="1733"/>
                      <a:pt x="318" y="1747"/>
                      <a:pt x="324" y="1757"/>
                    </a:cubicBezTo>
                    <a:cubicBezTo>
                      <a:pt x="361" y="1823"/>
                      <a:pt x="353" y="1812"/>
                      <a:pt x="400" y="1844"/>
                    </a:cubicBezTo>
                    <a:cubicBezTo>
                      <a:pt x="407" y="1855"/>
                      <a:pt x="413" y="1868"/>
                      <a:pt x="422" y="1877"/>
                    </a:cubicBezTo>
                    <a:cubicBezTo>
                      <a:pt x="431" y="1886"/>
                      <a:pt x="447" y="1889"/>
                      <a:pt x="455" y="1899"/>
                    </a:cubicBezTo>
                    <a:cubicBezTo>
                      <a:pt x="516" y="1974"/>
                      <a:pt x="403" y="1889"/>
                      <a:pt x="499" y="1953"/>
                    </a:cubicBezTo>
                    <a:cubicBezTo>
                      <a:pt x="526" y="1995"/>
                      <a:pt x="571" y="2013"/>
                      <a:pt x="619" y="2029"/>
                    </a:cubicBezTo>
                    <a:cubicBezTo>
                      <a:pt x="758" y="2074"/>
                      <a:pt x="898" y="2086"/>
                      <a:pt x="1044" y="2095"/>
                    </a:cubicBezTo>
                    <a:cubicBezTo>
                      <a:pt x="1185" y="2119"/>
                      <a:pt x="1206" y="2115"/>
                      <a:pt x="1393" y="2106"/>
                    </a:cubicBezTo>
                    <a:cubicBezTo>
                      <a:pt x="1415" y="2099"/>
                      <a:pt x="1440" y="2097"/>
                      <a:pt x="1459" y="2084"/>
                    </a:cubicBezTo>
                    <a:cubicBezTo>
                      <a:pt x="1470" y="2077"/>
                      <a:pt x="1479" y="2067"/>
                      <a:pt x="1491" y="2062"/>
                    </a:cubicBezTo>
                    <a:cubicBezTo>
                      <a:pt x="1613" y="2007"/>
                      <a:pt x="1514" y="2068"/>
                      <a:pt x="1589" y="2019"/>
                    </a:cubicBezTo>
                    <a:cubicBezTo>
                      <a:pt x="1619" y="1928"/>
                      <a:pt x="1621" y="1953"/>
                      <a:pt x="1600" y="1833"/>
                    </a:cubicBezTo>
                    <a:cubicBezTo>
                      <a:pt x="1596" y="1811"/>
                      <a:pt x="1579" y="1768"/>
                      <a:pt x="1579" y="1768"/>
                    </a:cubicBezTo>
                    <a:cubicBezTo>
                      <a:pt x="1571" y="1708"/>
                      <a:pt x="1539" y="1629"/>
                      <a:pt x="1611" y="1604"/>
                    </a:cubicBezTo>
                    <a:cubicBezTo>
                      <a:pt x="1622" y="1611"/>
                      <a:pt x="1637" y="1615"/>
                      <a:pt x="1644" y="1626"/>
                    </a:cubicBezTo>
                    <a:cubicBezTo>
                      <a:pt x="1656" y="1645"/>
                      <a:pt x="1654" y="1672"/>
                      <a:pt x="1666" y="1691"/>
                    </a:cubicBezTo>
                    <a:cubicBezTo>
                      <a:pt x="1680" y="1713"/>
                      <a:pt x="1694" y="1735"/>
                      <a:pt x="1709" y="1757"/>
                    </a:cubicBezTo>
                    <a:cubicBezTo>
                      <a:pt x="1716" y="1768"/>
                      <a:pt x="1719" y="1785"/>
                      <a:pt x="1731" y="1789"/>
                    </a:cubicBezTo>
                    <a:cubicBezTo>
                      <a:pt x="1753" y="1796"/>
                      <a:pt x="1797" y="1811"/>
                      <a:pt x="1797" y="1811"/>
                    </a:cubicBezTo>
                    <a:cubicBezTo>
                      <a:pt x="1818" y="1804"/>
                      <a:pt x="1846" y="1797"/>
                      <a:pt x="1862" y="1779"/>
                    </a:cubicBezTo>
                    <a:cubicBezTo>
                      <a:pt x="1908" y="1728"/>
                      <a:pt x="1898" y="1693"/>
                      <a:pt x="1949" y="1659"/>
                    </a:cubicBezTo>
                    <a:cubicBezTo>
                      <a:pt x="1956" y="1648"/>
                      <a:pt x="1965" y="1638"/>
                      <a:pt x="1971" y="1626"/>
                    </a:cubicBezTo>
                    <a:cubicBezTo>
                      <a:pt x="1976" y="1616"/>
                      <a:pt x="1976" y="1603"/>
                      <a:pt x="1982" y="1593"/>
                    </a:cubicBezTo>
                    <a:cubicBezTo>
                      <a:pt x="1995" y="1570"/>
                      <a:pt x="2026" y="1528"/>
                      <a:pt x="2026" y="1528"/>
                    </a:cubicBezTo>
                    <a:cubicBezTo>
                      <a:pt x="2051" y="1452"/>
                      <a:pt x="2067" y="1365"/>
                      <a:pt x="2113" y="1299"/>
                    </a:cubicBezTo>
                    <a:cubicBezTo>
                      <a:pt x="2141" y="1216"/>
                      <a:pt x="2103" y="1318"/>
                      <a:pt x="2146" y="1233"/>
                    </a:cubicBezTo>
                    <a:cubicBezTo>
                      <a:pt x="2172" y="1180"/>
                      <a:pt x="2181" y="1115"/>
                      <a:pt x="2200" y="1059"/>
                    </a:cubicBezTo>
                    <a:cubicBezTo>
                      <a:pt x="2196" y="815"/>
                      <a:pt x="2196" y="572"/>
                      <a:pt x="2189" y="328"/>
                    </a:cubicBezTo>
                    <a:cubicBezTo>
                      <a:pt x="2187" y="259"/>
                      <a:pt x="2108" y="186"/>
                      <a:pt x="2059" y="153"/>
                    </a:cubicBezTo>
                    <a:cubicBezTo>
                      <a:pt x="2040" y="140"/>
                      <a:pt x="2015" y="138"/>
                      <a:pt x="1993" y="131"/>
                    </a:cubicBezTo>
                    <a:cubicBezTo>
                      <a:pt x="1982" y="127"/>
                      <a:pt x="1960" y="120"/>
                      <a:pt x="1960" y="120"/>
                    </a:cubicBezTo>
                    <a:cubicBezTo>
                      <a:pt x="1928" y="124"/>
                      <a:pt x="1857" y="142"/>
                      <a:pt x="1819" y="142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851440" y="2043360"/>
                <a:ext cx="414360" cy="1020960"/>
              </a:xfrm>
              <a:custGeom>
                <a:avLst/>
                <a:gdLst/>
                <a:ahLst/>
                <a:rect l="l" t="t" r="r" b="b"/>
                <a:pathLst>
                  <a:path w="480" h="982">
                    <a:moveTo>
                      <a:pt x="0" y="982"/>
                    </a:moveTo>
                    <a:cubicBezTo>
                      <a:pt x="24" y="907"/>
                      <a:pt x="48" y="802"/>
                      <a:pt x="130" y="774"/>
                    </a:cubicBezTo>
                    <a:cubicBezTo>
                      <a:pt x="181" y="698"/>
                      <a:pt x="159" y="731"/>
                      <a:pt x="196" y="676"/>
                    </a:cubicBezTo>
                    <a:cubicBezTo>
                      <a:pt x="203" y="665"/>
                      <a:pt x="211" y="654"/>
                      <a:pt x="218" y="643"/>
                    </a:cubicBezTo>
                    <a:cubicBezTo>
                      <a:pt x="225" y="632"/>
                      <a:pt x="240" y="611"/>
                      <a:pt x="240" y="611"/>
                    </a:cubicBezTo>
                    <a:cubicBezTo>
                      <a:pt x="262" y="539"/>
                      <a:pt x="308" y="476"/>
                      <a:pt x="349" y="414"/>
                    </a:cubicBezTo>
                    <a:cubicBezTo>
                      <a:pt x="407" y="327"/>
                      <a:pt x="332" y="439"/>
                      <a:pt x="392" y="349"/>
                    </a:cubicBezTo>
                    <a:cubicBezTo>
                      <a:pt x="399" y="338"/>
                      <a:pt x="414" y="316"/>
                      <a:pt x="414" y="316"/>
                    </a:cubicBezTo>
                    <a:cubicBezTo>
                      <a:pt x="441" y="209"/>
                      <a:pt x="429" y="101"/>
                      <a:pt x="480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21920" y="2815200"/>
                <a:ext cx="491760" cy="1906920"/>
              </a:xfrm>
              <a:custGeom>
                <a:avLst/>
                <a:gdLst/>
                <a:ahLst/>
                <a:rect l="l" t="t" r="r" b="b"/>
                <a:pathLst>
                  <a:path w="513" h="1920">
                    <a:moveTo>
                      <a:pt x="0" y="1920"/>
                    </a:moveTo>
                    <a:cubicBezTo>
                      <a:pt x="22" y="1913"/>
                      <a:pt x="44" y="1905"/>
                      <a:pt x="66" y="1898"/>
                    </a:cubicBezTo>
                    <a:cubicBezTo>
                      <a:pt x="69" y="1897"/>
                      <a:pt x="141" y="1785"/>
                      <a:pt x="153" y="1767"/>
                    </a:cubicBezTo>
                    <a:cubicBezTo>
                      <a:pt x="160" y="1756"/>
                      <a:pt x="171" y="1747"/>
                      <a:pt x="175" y="1734"/>
                    </a:cubicBezTo>
                    <a:cubicBezTo>
                      <a:pt x="182" y="1712"/>
                      <a:pt x="197" y="1669"/>
                      <a:pt x="197" y="1669"/>
                    </a:cubicBezTo>
                    <a:cubicBezTo>
                      <a:pt x="201" y="1614"/>
                      <a:pt x="202" y="1559"/>
                      <a:pt x="208" y="1505"/>
                    </a:cubicBezTo>
                    <a:cubicBezTo>
                      <a:pt x="209" y="1493"/>
                      <a:pt x="219" y="1484"/>
                      <a:pt x="219" y="1472"/>
                    </a:cubicBezTo>
                    <a:cubicBezTo>
                      <a:pt x="219" y="1418"/>
                      <a:pt x="216" y="1363"/>
                      <a:pt x="208" y="1309"/>
                    </a:cubicBezTo>
                    <a:cubicBezTo>
                      <a:pt x="205" y="1286"/>
                      <a:pt x="186" y="1243"/>
                      <a:pt x="186" y="1243"/>
                    </a:cubicBezTo>
                    <a:cubicBezTo>
                      <a:pt x="197" y="1189"/>
                      <a:pt x="198" y="1163"/>
                      <a:pt x="251" y="1145"/>
                    </a:cubicBezTo>
                    <a:cubicBezTo>
                      <a:pt x="287" y="1169"/>
                      <a:pt x="303" y="1198"/>
                      <a:pt x="339" y="1222"/>
                    </a:cubicBezTo>
                    <a:cubicBezTo>
                      <a:pt x="404" y="1200"/>
                      <a:pt x="403" y="1152"/>
                      <a:pt x="415" y="1091"/>
                    </a:cubicBezTo>
                    <a:cubicBezTo>
                      <a:pt x="440" y="842"/>
                      <a:pt x="471" y="596"/>
                      <a:pt x="513" y="349"/>
                    </a:cubicBezTo>
                    <a:cubicBezTo>
                      <a:pt x="509" y="258"/>
                      <a:pt x="509" y="167"/>
                      <a:pt x="502" y="76"/>
                    </a:cubicBezTo>
                    <a:cubicBezTo>
                      <a:pt x="499" y="40"/>
                      <a:pt x="426" y="0"/>
                      <a:pt x="426" y="0"/>
                    </a:cubicBezTo>
                    <a:cubicBezTo>
                      <a:pt x="404" y="7"/>
                      <a:pt x="360" y="14"/>
                      <a:pt x="360" y="43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282360" y="2078280"/>
                <a:ext cx="220320" cy="768600"/>
              </a:xfrm>
              <a:custGeom>
                <a:avLst/>
                <a:gdLst/>
                <a:ahLst/>
                <a:rect l="l" t="t" r="r" b="b"/>
                <a:pathLst>
                  <a:path w="230" h="774">
                    <a:moveTo>
                      <a:pt x="0" y="774"/>
                    </a:moveTo>
                    <a:cubicBezTo>
                      <a:pt x="7" y="752"/>
                      <a:pt x="9" y="728"/>
                      <a:pt x="22" y="709"/>
                    </a:cubicBezTo>
                    <a:cubicBezTo>
                      <a:pt x="29" y="698"/>
                      <a:pt x="39" y="688"/>
                      <a:pt x="44" y="676"/>
                    </a:cubicBezTo>
                    <a:cubicBezTo>
                      <a:pt x="62" y="635"/>
                      <a:pt x="74" y="588"/>
                      <a:pt x="88" y="545"/>
                    </a:cubicBezTo>
                    <a:cubicBezTo>
                      <a:pt x="99" y="512"/>
                      <a:pt x="110" y="480"/>
                      <a:pt x="120" y="447"/>
                    </a:cubicBezTo>
                    <a:cubicBezTo>
                      <a:pt x="124" y="436"/>
                      <a:pt x="131" y="414"/>
                      <a:pt x="131" y="414"/>
                    </a:cubicBezTo>
                    <a:cubicBezTo>
                      <a:pt x="135" y="360"/>
                      <a:pt x="136" y="305"/>
                      <a:pt x="142" y="251"/>
                    </a:cubicBezTo>
                    <a:cubicBezTo>
                      <a:pt x="146" y="214"/>
                      <a:pt x="197" y="153"/>
                      <a:pt x="197" y="153"/>
                    </a:cubicBezTo>
                    <a:cubicBezTo>
                      <a:pt x="218" y="89"/>
                      <a:pt x="230" y="64"/>
                      <a:pt x="230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000120" y="2815200"/>
                <a:ext cx="72720" cy="5328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0" y="0"/>
                    </a:moveTo>
                    <a:cubicBezTo>
                      <a:pt x="18" y="4"/>
                      <a:pt x="39" y="1"/>
                      <a:pt x="54" y="11"/>
                    </a:cubicBezTo>
                    <a:cubicBezTo>
                      <a:pt x="67" y="20"/>
                      <a:pt x="65" y="43"/>
                      <a:pt x="76" y="54"/>
                    </a:cubicBezTo>
                  </a:path>
                </a:pathLst>
              </a:custGeom>
              <a:noFill/>
              <a:ln w="66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989680" y="2663280"/>
                <a:ext cx="492840" cy="2123640"/>
              </a:xfrm>
              <a:custGeom>
                <a:avLst/>
                <a:gdLst/>
                <a:ahLst/>
                <a:rect l="l" t="t" r="r" b="b"/>
                <a:pathLst>
                  <a:path w="514" h="2138">
                    <a:moveTo>
                      <a:pt x="0" y="2138"/>
                    </a:moveTo>
                    <a:cubicBezTo>
                      <a:pt x="15" y="2116"/>
                      <a:pt x="29" y="2095"/>
                      <a:pt x="44" y="2073"/>
                    </a:cubicBezTo>
                    <a:cubicBezTo>
                      <a:pt x="57" y="2054"/>
                      <a:pt x="58" y="2029"/>
                      <a:pt x="65" y="2007"/>
                    </a:cubicBezTo>
                    <a:cubicBezTo>
                      <a:pt x="84" y="1950"/>
                      <a:pt x="97" y="1894"/>
                      <a:pt x="131" y="1844"/>
                    </a:cubicBezTo>
                    <a:cubicBezTo>
                      <a:pt x="142" y="1811"/>
                      <a:pt x="153" y="1778"/>
                      <a:pt x="164" y="1745"/>
                    </a:cubicBezTo>
                    <a:cubicBezTo>
                      <a:pt x="182" y="1690"/>
                      <a:pt x="229" y="1658"/>
                      <a:pt x="262" y="1615"/>
                    </a:cubicBezTo>
                    <a:cubicBezTo>
                      <a:pt x="302" y="1564"/>
                      <a:pt x="308" y="1528"/>
                      <a:pt x="360" y="1495"/>
                    </a:cubicBezTo>
                    <a:cubicBezTo>
                      <a:pt x="367" y="1484"/>
                      <a:pt x="373" y="1471"/>
                      <a:pt x="382" y="1462"/>
                    </a:cubicBezTo>
                    <a:cubicBezTo>
                      <a:pt x="391" y="1453"/>
                      <a:pt x="406" y="1450"/>
                      <a:pt x="415" y="1440"/>
                    </a:cubicBezTo>
                    <a:cubicBezTo>
                      <a:pt x="432" y="1420"/>
                      <a:pt x="458" y="1375"/>
                      <a:pt x="458" y="1375"/>
                    </a:cubicBezTo>
                    <a:cubicBezTo>
                      <a:pt x="462" y="1364"/>
                      <a:pt x="473" y="1353"/>
                      <a:pt x="469" y="1342"/>
                    </a:cubicBezTo>
                    <a:cubicBezTo>
                      <a:pt x="457" y="1312"/>
                      <a:pt x="370" y="1302"/>
                      <a:pt x="349" y="1298"/>
                    </a:cubicBezTo>
                    <a:cubicBezTo>
                      <a:pt x="375" y="1219"/>
                      <a:pt x="349" y="1305"/>
                      <a:pt x="371" y="1145"/>
                    </a:cubicBezTo>
                    <a:cubicBezTo>
                      <a:pt x="377" y="1098"/>
                      <a:pt x="392" y="1050"/>
                      <a:pt x="404" y="1004"/>
                    </a:cubicBezTo>
                    <a:cubicBezTo>
                      <a:pt x="406" y="966"/>
                      <a:pt x="419" y="730"/>
                      <a:pt x="425" y="676"/>
                    </a:cubicBezTo>
                    <a:cubicBezTo>
                      <a:pt x="441" y="523"/>
                      <a:pt x="483" y="369"/>
                      <a:pt x="513" y="218"/>
                    </a:cubicBezTo>
                    <a:cubicBezTo>
                      <a:pt x="509" y="193"/>
                      <a:pt x="514" y="165"/>
                      <a:pt x="502" y="142"/>
                    </a:cubicBezTo>
                    <a:cubicBezTo>
                      <a:pt x="497" y="132"/>
                      <a:pt x="477" y="139"/>
                      <a:pt x="469" y="131"/>
                    </a:cubicBezTo>
                    <a:cubicBezTo>
                      <a:pt x="452" y="114"/>
                      <a:pt x="440" y="30"/>
                      <a:pt x="425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50120" y="2329560"/>
                <a:ext cx="378000" cy="593640"/>
              </a:xfrm>
              <a:custGeom>
                <a:avLst/>
                <a:gdLst/>
                <a:ahLst/>
                <a:rect l="l" t="t" r="r" b="b"/>
                <a:pathLst>
                  <a:path w="361" h="698">
                    <a:moveTo>
                      <a:pt x="305" y="698"/>
                    </a:moveTo>
                    <a:cubicBezTo>
                      <a:pt x="361" y="614"/>
                      <a:pt x="325" y="493"/>
                      <a:pt x="272" y="414"/>
                    </a:cubicBezTo>
                    <a:cubicBezTo>
                      <a:pt x="254" y="356"/>
                      <a:pt x="268" y="391"/>
                      <a:pt x="218" y="316"/>
                    </a:cubicBezTo>
                    <a:cubicBezTo>
                      <a:pt x="212" y="306"/>
                      <a:pt x="214" y="292"/>
                      <a:pt x="207" y="283"/>
                    </a:cubicBezTo>
                    <a:cubicBezTo>
                      <a:pt x="199" y="273"/>
                      <a:pt x="185" y="268"/>
                      <a:pt x="174" y="261"/>
                    </a:cubicBezTo>
                    <a:cubicBezTo>
                      <a:pt x="159" y="218"/>
                      <a:pt x="147" y="199"/>
                      <a:pt x="109" y="174"/>
                    </a:cubicBezTo>
                    <a:cubicBezTo>
                      <a:pt x="81" y="90"/>
                      <a:pt x="119" y="193"/>
                      <a:pt x="76" y="109"/>
                    </a:cubicBezTo>
                    <a:cubicBezTo>
                      <a:pt x="71" y="99"/>
                      <a:pt x="72" y="85"/>
                      <a:pt x="65" y="76"/>
                    </a:cubicBezTo>
                    <a:cubicBezTo>
                      <a:pt x="57" y="66"/>
                      <a:pt x="43" y="61"/>
                      <a:pt x="32" y="54"/>
                    </a:cubicBezTo>
                    <a:cubicBezTo>
                      <a:pt x="19" y="11"/>
                      <a:pt x="30" y="29"/>
                      <a:pt x="0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104880" y="2034360"/>
                <a:ext cx="136080" cy="129960"/>
              </a:xfrm>
              <a:custGeom>
                <a:avLst/>
                <a:gdLst/>
                <a:ahLst/>
                <a:rect l="l" t="t" r="r" b="b"/>
                <a:pathLst>
                  <a:path w="142" h="131">
                    <a:moveTo>
                      <a:pt x="142" y="131"/>
                    </a:moveTo>
                    <a:cubicBezTo>
                      <a:pt x="68" y="106"/>
                      <a:pt x="82" y="131"/>
                      <a:pt x="65" y="77"/>
                    </a:cubicBezTo>
                    <a:cubicBezTo>
                      <a:pt x="61" y="66"/>
                      <a:pt x="60" y="54"/>
                      <a:pt x="55" y="44"/>
                    </a:cubicBezTo>
                    <a:cubicBezTo>
                      <a:pt x="49" y="32"/>
                      <a:pt x="43" y="19"/>
                      <a:pt x="33" y="11"/>
                    </a:cubicBezTo>
                    <a:cubicBezTo>
                      <a:pt x="24" y="4"/>
                      <a:pt x="0" y="0"/>
                      <a:pt x="0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936760" y="2131920"/>
                <a:ext cx="146520" cy="151920"/>
              </a:xfrm>
              <a:custGeom>
                <a:avLst/>
                <a:gdLst/>
                <a:ahLst/>
                <a:rect l="l" t="t" r="r" b="b"/>
                <a:pathLst>
                  <a:path w="153" h="153">
                    <a:moveTo>
                      <a:pt x="153" y="153"/>
                    </a:moveTo>
                    <a:cubicBezTo>
                      <a:pt x="142" y="146"/>
                      <a:pt x="128" y="141"/>
                      <a:pt x="120" y="131"/>
                    </a:cubicBezTo>
                    <a:cubicBezTo>
                      <a:pt x="78" y="78"/>
                      <a:pt x="150" y="112"/>
                      <a:pt x="77" y="88"/>
                    </a:cubicBezTo>
                    <a:cubicBezTo>
                      <a:pt x="70" y="77"/>
                      <a:pt x="65" y="63"/>
                      <a:pt x="55" y="55"/>
                    </a:cubicBezTo>
                    <a:cubicBezTo>
                      <a:pt x="31" y="36"/>
                      <a:pt x="0" y="45"/>
                      <a:pt x="0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433280" y="2175480"/>
                <a:ext cx="335520" cy="552240"/>
              </a:xfrm>
              <a:custGeom>
                <a:avLst/>
                <a:gdLst/>
                <a:ahLst/>
                <a:rect l="l" t="t" r="r" b="b"/>
                <a:pathLst>
                  <a:path w="350" h="556">
                    <a:moveTo>
                      <a:pt x="0" y="556"/>
                    </a:moveTo>
                    <a:cubicBezTo>
                      <a:pt x="5" y="555"/>
                      <a:pt x="68" y="542"/>
                      <a:pt x="77" y="535"/>
                    </a:cubicBezTo>
                    <a:cubicBezTo>
                      <a:pt x="87" y="527"/>
                      <a:pt x="90" y="511"/>
                      <a:pt x="99" y="502"/>
                    </a:cubicBezTo>
                    <a:cubicBezTo>
                      <a:pt x="108" y="493"/>
                      <a:pt x="120" y="487"/>
                      <a:pt x="131" y="480"/>
                    </a:cubicBezTo>
                    <a:cubicBezTo>
                      <a:pt x="138" y="332"/>
                      <a:pt x="120" y="148"/>
                      <a:pt x="262" y="55"/>
                    </a:cubicBezTo>
                    <a:cubicBezTo>
                      <a:pt x="269" y="44"/>
                      <a:pt x="273" y="29"/>
                      <a:pt x="284" y="22"/>
                    </a:cubicBezTo>
                    <a:cubicBezTo>
                      <a:pt x="304" y="10"/>
                      <a:pt x="350" y="0"/>
                      <a:pt x="350" y="0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71200" y="1981080"/>
                <a:ext cx="387360" cy="324720"/>
              </a:xfrm>
              <a:custGeom>
                <a:avLst/>
                <a:gdLst/>
                <a:ahLst/>
                <a:rect l="l" t="t" r="r" b="b"/>
                <a:pathLst>
                  <a:path w="404" h="327">
                    <a:moveTo>
                      <a:pt x="404" y="109"/>
                    </a:moveTo>
                    <a:cubicBezTo>
                      <a:pt x="382" y="116"/>
                      <a:pt x="361" y="124"/>
                      <a:pt x="339" y="131"/>
                    </a:cubicBezTo>
                    <a:cubicBezTo>
                      <a:pt x="314" y="139"/>
                      <a:pt x="317" y="181"/>
                      <a:pt x="295" y="196"/>
                    </a:cubicBezTo>
                    <a:cubicBezTo>
                      <a:pt x="284" y="203"/>
                      <a:pt x="274" y="211"/>
                      <a:pt x="263" y="218"/>
                    </a:cubicBezTo>
                    <a:cubicBezTo>
                      <a:pt x="202" y="309"/>
                      <a:pt x="282" y="204"/>
                      <a:pt x="208" y="262"/>
                    </a:cubicBezTo>
                    <a:cubicBezTo>
                      <a:pt x="198" y="270"/>
                      <a:pt x="197" y="287"/>
                      <a:pt x="186" y="294"/>
                    </a:cubicBezTo>
                    <a:cubicBezTo>
                      <a:pt x="167" y="306"/>
                      <a:pt x="143" y="309"/>
                      <a:pt x="121" y="316"/>
                    </a:cubicBezTo>
                    <a:cubicBezTo>
                      <a:pt x="110" y="320"/>
                      <a:pt x="88" y="327"/>
                      <a:pt x="88" y="327"/>
                    </a:cubicBezTo>
                    <a:cubicBezTo>
                      <a:pt x="73" y="323"/>
                      <a:pt x="59" y="320"/>
                      <a:pt x="44" y="316"/>
                    </a:cubicBezTo>
                    <a:cubicBezTo>
                      <a:pt x="33" y="313"/>
                      <a:pt x="14" y="316"/>
                      <a:pt x="12" y="305"/>
                    </a:cubicBezTo>
                    <a:cubicBezTo>
                      <a:pt x="0" y="239"/>
                      <a:pt x="34" y="160"/>
                      <a:pt x="55" y="98"/>
                    </a:cubicBezTo>
                    <a:cubicBezTo>
                      <a:pt x="62" y="76"/>
                      <a:pt x="64" y="51"/>
                      <a:pt x="77" y="32"/>
                    </a:cubicBezTo>
                    <a:cubicBezTo>
                      <a:pt x="84" y="21"/>
                      <a:pt x="99" y="0"/>
                      <a:pt x="99" y="0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680520" y="1981080"/>
                <a:ext cx="334440" cy="617760"/>
              </a:xfrm>
              <a:custGeom>
                <a:avLst/>
                <a:gdLst/>
                <a:ahLst/>
                <a:rect l="l" t="t" r="r" b="b"/>
                <a:pathLst>
                  <a:path w="349" h="622">
                    <a:moveTo>
                      <a:pt x="349" y="0"/>
                    </a:moveTo>
                    <a:cubicBezTo>
                      <a:pt x="324" y="73"/>
                      <a:pt x="317" y="141"/>
                      <a:pt x="251" y="185"/>
                    </a:cubicBezTo>
                    <a:cubicBezTo>
                      <a:pt x="212" y="243"/>
                      <a:pt x="170" y="291"/>
                      <a:pt x="131" y="349"/>
                    </a:cubicBezTo>
                    <a:cubicBezTo>
                      <a:pt x="72" y="438"/>
                      <a:pt x="146" y="327"/>
                      <a:pt x="87" y="414"/>
                    </a:cubicBezTo>
                    <a:cubicBezTo>
                      <a:pt x="80" y="425"/>
                      <a:pt x="65" y="447"/>
                      <a:pt x="65" y="447"/>
                    </a:cubicBezTo>
                    <a:cubicBezTo>
                      <a:pt x="48" y="502"/>
                      <a:pt x="59" y="469"/>
                      <a:pt x="33" y="545"/>
                    </a:cubicBezTo>
                    <a:cubicBezTo>
                      <a:pt x="23" y="575"/>
                      <a:pt x="0" y="587"/>
                      <a:pt x="0" y="622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72840" y="2868840"/>
                <a:ext cx="146520" cy="76320"/>
              </a:xfrm>
              <a:custGeom>
                <a:avLst/>
                <a:gdLst/>
                <a:ahLst/>
                <a:rect l="l" t="t" r="r" b="b"/>
                <a:pathLst>
                  <a:path w="153" h="77">
                    <a:moveTo>
                      <a:pt x="153" y="0"/>
                    </a:moveTo>
                    <a:cubicBezTo>
                      <a:pt x="89" y="22"/>
                      <a:pt x="47" y="30"/>
                      <a:pt x="0" y="77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71000" y="2859840"/>
                <a:ext cx="125640" cy="41760"/>
              </a:xfrm>
              <a:custGeom>
                <a:avLst/>
                <a:gdLst/>
                <a:ahLst/>
                <a:rect l="l" t="t" r="r" b="b"/>
                <a:pathLst>
                  <a:path w="131" h="42">
                    <a:moveTo>
                      <a:pt x="0" y="42"/>
                    </a:moveTo>
                    <a:cubicBezTo>
                      <a:pt x="45" y="27"/>
                      <a:pt x="89" y="0"/>
                      <a:pt x="131" y="42"/>
                    </a:cubicBezTo>
                  </a:path>
                </a:pathLst>
              </a:custGeom>
              <a:noFill/>
              <a:ln w="66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680520" y="2822400"/>
                <a:ext cx="104400" cy="3564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109" y="15"/>
                    </a:moveTo>
                    <a:cubicBezTo>
                      <a:pt x="65" y="0"/>
                      <a:pt x="35" y="3"/>
                      <a:pt x="0" y="36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4267080" y="213372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997760" y="2840040"/>
              <a:ext cx="322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267080" y="33526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867280" y="31240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924680" y="47242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001000" y="3657600"/>
              <a:ext cx="322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545000" y="2266920"/>
              <a:ext cx="920880" cy="1904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4498920" y="2982600"/>
              <a:ext cx="1289160" cy="4762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6064200" y="1980720"/>
              <a:ext cx="322200" cy="1096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7031160" y="2600280"/>
              <a:ext cx="969840" cy="3715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6892560" y="3887640"/>
              <a:ext cx="1104840" cy="142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>
              <a:off x="7030800" y="4699080"/>
              <a:ext cx="874440" cy="2858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685800" y="5029200"/>
            <a:ext cx="2209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row P shows the blood coming from th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432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e stom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the 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the lu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267080" y="1980720"/>
            <a:ext cx="4056120" cy="3203280"/>
            <a:chOff x="4267080" y="1980720"/>
            <a:chExt cx="4056120" cy="3203280"/>
          </a:xfrm>
        </p:grpSpPr>
        <p:grpSp>
          <p:nvGrpSpPr>
            <p:cNvPr id="841" name=""/>
            <p:cNvGrpSpPr/>
            <p:nvPr/>
          </p:nvGrpSpPr>
          <p:grpSpPr>
            <a:xfrm>
              <a:off x="5143680" y="1981080"/>
              <a:ext cx="2625120" cy="3022200"/>
              <a:chOff x="5143680" y="1981080"/>
              <a:chExt cx="2625120" cy="3022200"/>
            </a:xfrm>
          </p:grpSpPr>
          <p:sp>
            <p:nvSpPr>
              <p:cNvPr id="842" name=""/>
              <p:cNvSpPr/>
              <p:nvPr/>
            </p:nvSpPr>
            <p:spPr>
              <a:xfrm>
                <a:off x="5173200" y="2208240"/>
                <a:ext cx="250920" cy="649440"/>
              </a:xfrm>
              <a:custGeom>
                <a:avLst/>
                <a:gdLst/>
                <a:ahLst/>
                <a:rect l="l" t="t" r="r" b="b"/>
                <a:pathLst>
                  <a:path w="262" h="654">
                    <a:moveTo>
                      <a:pt x="44" y="0"/>
                    </a:moveTo>
                    <a:cubicBezTo>
                      <a:pt x="90" y="70"/>
                      <a:pt x="116" y="94"/>
                      <a:pt x="66" y="185"/>
                    </a:cubicBezTo>
                    <a:cubicBezTo>
                      <a:pt x="53" y="208"/>
                      <a:pt x="30" y="226"/>
                      <a:pt x="22" y="251"/>
                    </a:cubicBezTo>
                    <a:cubicBezTo>
                      <a:pt x="15" y="273"/>
                      <a:pt x="0" y="316"/>
                      <a:pt x="0" y="316"/>
                    </a:cubicBezTo>
                    <a:cubicBezTo>
                      <a:pt x="2" y="326"/>
                      <a:pt x="14" y="397"/>
                      <a:pt x="22" y="403"/>
                    </a:cubicBezTo>
                    <a:cubicBezTo>
                      <a:pt x="50" y="423"/>
                      <a:pt x="117" y="435"/>
                      <a:pt x="153" y="447"/>
                    </a:cubicBezTo>
                    <a:cubicBezTo>
                      <a:pt x="167" y="452"/>
                      <a:pt x="182" y="454"/>
                      <a:pt x="196" y="458"/>
                    </a:cubicBezTo>
                    <a:cubicBezTo>
                      <a:pt x="218" y="465"/>
                      <a:pt x="262" y="480"/>
                      <a:pt x="262" y="480"/>
                    </a:cubicBezTo>
                    <a:cubicBezTo>
                      <a:pt x="258" y="516"/>
                      <a:pt x="258" y="553"/>
                      <a:pt x="251" y="589"/>
                    </a:cubicBezTo>
                    <a:cubicBezTo>
                      <a:pt x="247" y="611"/>
                      <a:pt x="229" y="654"/>
                      <a:pt x="229" y="654"/>
                    </a:cubicBezTo>
                  </a:path>
                </a:pathLst>
              </a:custGeom>
              <a:noFill/>
              <a:ln w="88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393160" y="2078280"/>
                <a:ext cx="280800" cy="228240"/>
              </a:xfrm>
              <a:custGeom>
                <a:avLst/>
                <a:gdLst/>
                <a:ahLst/>
                <a:rect l="l" t="t" r="r" b="b"/>
                <a:pathLst>
                  <a:path w="293" h="230">
                    <a:moveTo>
                      <a:pt x="0" y="76"/>
                    </a:moveTo>
                    <a:cubicBezTo>
                      <a:pt x="22" y="142"/>
                      <a:pt x="7" y="165"/>
                      <a:pt x="66" y="185"/>
                    </a:cubicBezTo>
                    <a:cubicBezTo>
                      <a:pt x="131" y="230"/>
                      <a:pt x="209" y="217"/>
                      <a:pt x="273" y="174"/>
                    </a:cubicBezTo>
                    <a:cubicBezTo>
                      <a:pt x="293" y="115"/>
                      <a:pt x="267" y="54"/>
                      <a:pt x="240" y="0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59280" y="2090880"/>
                <a:ext cx="368280" cy="381240"/>
              </a:xfrm>
              <a:custGeom>
                <a:avLst/>
                <a:gdLst/>
                <a:ahLst/>
                <a:rect l="l" t="t" r="r" b="b"/>
                <a:pathLst>
                  <a:path w="218" h="404">
                    <a:moveTo>
                      <a:pt x="0" y="0"/>
                    </a:moveTo>
                    <a:cubicBezTo>
                      <a:pt x="25" y="78"/>
                      <a:pt x="8" y="47"/>
                      <a:pt x="43" y="98"/>
                    </a:cubicBezTo>
                    <a:cubicBezTo>
                      <a:pt x="62" y="156"/>
                      <a:pt x="79" y="215"/>
                      <a:pt x="98" y="273"/>
                    </a:cubicBezTo>
                    <a:cubicBezTo>
                      <a:pt x="98" y="274"/>
                      <a:pt x="115" y="344"/>
                      <a:pt x="120" y="349"/>
                    </a:cubicBezTo>
                    <a:cubicBezTo>
                      <a:pt x="158" y="387"/>
                      <a:pt x="177" y="390"/>
                      <a:pt x="218" y="404"/>
                    </a:cubicBezTo>
                    <a:cubicBezTo>
                      <a:pt x="214" y="349"/>
                      <a:pt x="213" y="295"/>
                      <a:pt x="207" y="240"/>
                    </a:cubicBezTo>
                    <a:cubicBezTo>
                      <a:pt x="205" y="222"/>
                      <a:pt x="201" y="204"/>
                      <a:pt x="196" y="186"/>
                    </a:cubicBezTo>
                    <a:cubicBezTo>
                      <a:pt x="193" y="175"/>
                      <a:pt x="185" y="153"/>
                      <a:pt x="185" y="153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143680" y="2706840"/>
                <a:ext cx="2468160" cy="2296440"/>
              </a:xfrm>
              <a:custGeom>
                <a:avLst/>
                <a:gdLst/>
                <a:ahLst/>
                <a:rect l="l" t="t" r="r" b="b"/>
                <a:pathLst>
                  <a:path w="2573" h="2312">
                    <a:moveTo>
                      <a:pt x="271" y="152"/>
                    </a:moveTo>
                    <a:cubicBezTo>
                      <a:pt x="298" y="233"/>
                      <a:pt x="257" y="304"/>
                      <a:pt x="238" y="381"/>
                    </a:cubicBezTo>
                    <a:cubicBezTo>
                      <a:pt x="221" y="447"/>
                      <a:pt x="192" y="496"/>
                      <a:pt x="162" y="556"/>
                    </a:cubicBezTo>
                    <a:cubicBezTo>
                      <a:pt x="139" y="602"/>
                      <a:pt x="131" y="659"/>
                      <a:pt x="118" y="709"/>
                    </a:cubicBezTo>
                    <a:cubicBezTo>
                      <a:pt x="102" y="771"/>
                      <a:pt x="94" y="833"/>
                      <a:pt x="75" y="894"/>
                    </a:cubicBezTo>
                    <a:cubicBezTo>
                      <a:pt x="67" y="921"/>
                      <a:pt x="52" y="962"/>
                      <a:pt x="42" y="992"/>
                    </a:cubicBezTo>
                    <a:cubicBezTo>
                      <a:pt x="38" y="1003"/>
                      <a:pt x="31" y="1025"/>
                      <a:pt x="31" y="1025"/>
                    </a:cubicBezTo>
                    <a:cubicBezTo>
                      <a:pt x="34" y="1125"/>
                      <a:pt x="0" y="1478"/>
                      <a:pt x="140" y="1571"/>
                    </a:cubicBezTo>
                    <a:cubicBezTo>
                      <a:pt x="159" y="1627"/>
                      <a:pt x="145" y="1595"/>
                      <a:pt x="195" y="1669"/>
                    </a:cubicBezTo>
                    <a:cubicBezTo>
                      <a:pt x="202" y="1680"/>
                      <a:pt x="217" y="1701"/>
                      <a:pt x="217" y="1701"/>
                    </a:cubicBezTo>
                    <a:cubicBezTo>
                      <a:pt x="239" y="1773"/>
                      <a:pt x="208" y="1698"/>
                      <a:pt x="260" y="1756"/>
                    </a:cubicBezTo>
                    <a:cubicBezTo>
                      <a:pt x="309" y="1811"/>
                      <a:pt x="329" y="1907"/>
                      <a:pt x="402" y="1931"/>
                    </a:cubicBezTo>
                    <a:cubicBezTo>
                      <a:pt x="434" y="1962"/>
                      <a:pt x="453" y="1993"/>
                      <a:pt x="489" y="2018"/>
                    </a:cubicBezTo>
                    <a:cubicBezTo>
                      <a:pt x="496" y="2029"/>
                      <a:pt x="505" y="2039"/>
                      <a:pt x="511" y="2051"/>
                    </a:cubicBezTo>
                    <a:cubicBezTo>
                      <a:pt x="516" y="2061"/>
                      <a:pt x="514" y="2075"/>
                      <a:pt x="522" y="2083"/>
                    </a:cubicBezTo>
                    <a:cubicBezTo>
                      <a:pt x="541" y="2102"/>
                      <a:pt x="587" y="2127"/>
                      <a:pt x="587" y="2127"/>
                    </a:cubicBezTo>
                    <a:cubicBezTo>
                      <a:pt x="594" y="2138"/>
                      <a:pt x="607" y="2147"/>
                      <a:pt x="609" y="2160"/>
                    </a:cubicBezTo>
                    <a:cubicBezTo>
                      <a:pt x="611" y="2171"/>
                      <a:pt x="594" y="2182"/>
                      <a:pt x="598" y="2192"/>
                    </a:cubicBezTo>
                    <a:cubicBezTo>
                      <a:pt x="608" y="2217"/>
                      <a:pt x="672" y="2221"/>
                      <a:pt x="686" y="2225"/>
                    </a:cubicBezTo>
                    <a:cubicBezTo>
                      <a:pt x="719" y="2234"/>
                      <a:pt x="751" y="2247"/>
                      <a:pt x="784" y="2258"/>
                    </a:cubicBezTo>
                    <a:cubicBezTo>
                      <a:pt x="818" y="2269"/>
                      <a:pt x="843" y="2298"/>
                      <a:pt x="882" y="2301"/>
                    </a:cubicBezTo>
                    <a:cubicBezTo>
                      <a:pt x="962" y="2307"/>
                      <a:pt x="1042" y="2308"/>
                      <a:pt x="1122" y="2312"/>
                    </a:cubicBezTo>
                    <a:cubicBezTo>
                      <a:pt x="1306" y="2301"/>
                      <a:pt x="1482" y="2277"/>
                      <a:pt x="1667" y="2269"/>
                    </a:cubicBezTo>
                    <a:cubicBezTo>
                      <a:pt x="1706" y="2256"/>
                      <a:pt x="1831" y="2225"/>
                      <a:pt x="1864" y="2203"/>
                    </a:cubicBezTo>
                    <a:cubicBezTo>
                      <a:pt x="1909" y="2173"/>
                      <a:pt x="1945" y="2144"/>
                      <a:pt x="1995" y="2127"/>
                    </a:cubicBezTo>
                    <a:cubicBezTo>
                      <a:pt x="2030" y="2103"/>
                      <a:pt x="2046" y="2074"/>
                      <a:pt x="2082" y="2051"/>
                    </a:cubicBezTo>
                    <a:cubicBezTo>
                      <a:pt x="2089" y="2040"/>
                      <a:pt x="2095" y="2027"/>
                      <a:pt x="2104" y="2018"/>
                    </a:cubicBezTo>
                    <a:cubicBezTo>
                      <a:pt x="2113" y="2009"/>
                      <a:pt x="2129" y="2006"/>
                      <a:pt x="2137" y="1996"/>
                    </a:cubicBezTo>
                    <a:cubicBezTo>
                      <a:pt x="2196" y="1920"/>
                      <a:pt x="2085" y="2004"/>
                      <a:pt x="2180" y="1941"/>
                    </a:cubicBezTo>
                    <a:cubicBezTo>
                      <a:pt x="2195" y="1898"/>
                      <a:pt x="2208" y="1879"/>
                      <a:pt x="2246" y="1854"/>
                    </a:cubicBezTo>
                    <a:cubicBezTo>
                      <a:pt x="2300" y="1769"/>
                      <a:pt x="2230" y="1869"/>
                      <a:pt x="2300" y="1800"/>
                    </a:cubicBezTo>
                    <a:cubicBezTo>
                      <a:pt x="2378" y="1724"/>
                      <a:pt x="2263" y="1806"/>
                      <a:pt x="2355" y="1745"/>
                    </a:cubicBezTo>
                    <a:cubicBezTo>
                      <a:pt x="2371" y="1698"/>
                      <a:pt x="2400" y="1659"/>
                      <a:pt x="2420" y="1614"/>
                    </a:cubicBezTo>
                    <a:cubicBezTo>
                      <a:pt x="2459" y="1528"/>
                      <a:pt x="2479" y="1430"/>
                      <a:pt x="2507" y="1341"/>
                    </a:cubicBezTo>
                    <a:cubicBezTo>
                      <a:pt x="2548" y="1212"/>
                      <a:pt x="2551" y="1071"/>
                      <a:pt x="2573" y="938"/>
                    </a:cubicBezTo>
                    <a:cubicBezTo>
                      <a:pt x="2569" y="687"/>
                      <a:pt x="2572" y="436"/>
                      <a:pt x="2562" y="185"/>
                    </a:cubicBezTo>
                    <a:cubicBezTo>
                      <a:pt x="2561" y="169"/>
                      <a:pt x="2533" y="70"/>
                      <a:pt x="2507" y="54"/>
                    </a:cubicBezTo>
                    <a:cubicBezTo>
                      <a:pt x="2462" y="26"/>
                      <a:pt x="2386" y="13"/>
                      <a:pt x="2333" y="0"/>
                    </a:cubicBezTo>
                    <a:cubicBezTo>
                      <a:pt x="2282" y="4"/>
                      <a:pt x="2230" y="2"/>
                      <a:pt x="2180" y="11"/>
                    </a:cubicBezTo>
                    <a:cubicBezTo>
                      <a:pt x="2146" y="17"/>
                      <a:pt x="2121" y="68"/>
                      <a:pt x="2093" y="87"/>
                    </a:cubicBezTo>
                    <a:cubicBezTo>
                      <a:pt x="2086" y="98"/>
                      <a:pt x="2080" y="111"/>
                      <a:pt x="2071" y="120"/>
                    </a:cubicBezTo>
                    <a:cubicBezTo>
                      <a:pt x="2062" y="129"/>
                      <a:pt x="2046" y="131"/>
                      <a:pt x="2038" y="141"/>
                    </a:cubicBezTo>
                    <a:cubicBezTo>
                      <a:pt x="2031" y="150"/>
                      <a:pt x="2032" y="164"/>
                      <a:pt x="2027" y="174"/>
                    </a:cubicBezTo>
                    <a:cubicBezTo>
                      <a:pt x="2025" y="178"/>
                      <a:pt x="2020" y="181"/>
                      <a:pt x="2017" y="185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403600" y="2696040"/>
                <a:ext cx="282960" cy="302760"/>
              </a:xfrm>
              <a:custGeom>
                <a:avLst/>
                <a:gdLst/>
                <a:ahLst/>
                <a:rect l="l" t="t" r="r" b="b"/>
                <a:pathLst>
                  <a:path w="295" h="305">
                    <a:moveTo>
                      <a:pt x="0" y="0"/>
                    </a:moveTo>
                    <a:cubicBezTo>
                      <a:pt x="62" y="16"/>
                      <a:pt x="125" y="34"/>
                      <a:pt x="186" y="54"/>
                    </a:cubicBezTo>
                    <a:cubicBezTo>
                      <a:pt x="270" y="112"/>
                      <a:pt x="295" y="209"/>
                      <a:pt x="295" y="305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33400" y="2738520"/>
                <a:ext cx="2110320" cy="2104920"/>
              </a:xfrm>
              <a:custGeom>
                <a:avLst/>
                <a:gdLst/>
                <a:ahLst/>
                <a:rect l="l" t="t" r="r" b="b"/>
                <a:pathLst>
                  <a:path w="2200" h="2119">
                    <a:moveTo>
                      <a:pt x="193" y="0"/>
                    </a:moveTo>
                    <a:cubicBezTo>
                      <a:pt x="186" y="203"/>
                      <a:pt x="190" y="253"/>
                      <a:pt x="160" y="404"/>
                    </a:cubicBezTo>
                    <a:cubicBezTo>
                      <a:pt x="156" y="451"/>
                      <a:pt x="155" y="499"/>
                      <a:pt x="149" y="546"/>
                    </a:cubicBezTo>
                    <a:cubicBezTo>
                      <a:pt x="142" y="600"/>
                      <a:pt x="113" y="657"/>
                      <a:pt x="95" y="709"/>
                    </a:cubicBezTo>
                    <a:cubicBezTo>
                      <a:pt x="44" y="857"/>
                      <a:pt x="97" y="637"/>
                      <a:pt x="62" y="775"/>
                    </a:cubicBezTo>
                    <a:cubicBezTo>
                      <a:pt x="50" y="822"/>
                      <a:pt x="41" y="870"/>
                      <a:pt x="29" y="917"/>
                    </a:cubicBezTo>
                    <a:cubicBezTo>
                      <a:pt x="26" y="931"/>
                      <a:pt x="22" y="946"/>
                      <a:pt x="19" y="960"/>
                    </a:cubicBezTo>
                    <a:cubicBezTo>
                      <a:pt x="15" y="975"/>
                      <a:pt x="8" y="1004"/>
                      <a:pt x="8" y="1004"/>
                    </a:cubicBezTo>
                    <a:cubicBezTo>
                      <a:pt x="12" y="1048"/>
                      <a:pt x="0" y="1096"/>
                      <a:pt x="19" y="1135"/>
                    </a:cubicBezTo>
                    <a:cubicBezTo>
                      <a:pt x="29" y="1155"/>
                      <a:pt x="84" y="1157"/>
                      <a:pt x="84" y="1157"/>
                    </a:cubicBezTo>
                    <a:cubicBezTo>
                      <a:pt x="145" y="1065"/>
                      <a:pt x="63" y="1180"/>
                      <a:pt x="139" y="1102"/>
                    </a:cubicBezTo>
                    <a:cubicBezTo>
                      <a:pt x="187" y="1053"/>
                      <a:pt x="129" y="1078"/>
                      <a:pt x="193" y="1059"/>
                    </a:cubicBezTo>
                    <a:cubicBezTo>
                      <a:pt x="204" y="1062"/>
                      <a:pt x="218" y="1061"/>
                      <a:pt x="226" y="1069"/>
                    </a:cubicBezTo>
                    <a:cubicBezTo>
                      <a:pt x="251" y="1093"/>
                      <a:pt x="234" y="1166"/>
                      <a:pt x="215" y="1189"/>
                    </a:cubicBezTo>
                    <a:cubicBezTo>
                      <a:pt x="207" y="1199"/>
                      <a:pt x="193" y="1204"/>
                      <a:pt x="182" y="1211"/>
                    </a:cubicBezTo>
                    <a:cubicBezTo>
                      <a:pt x="143" y="1270"/>
                      <a:pt x="133" y="1288"/>
                      <a:pt x="117" y="1353"/>
                    </a:cubicBezTo>
                    <a:cubicBezTo>
                      <a:pt x="124" y="1442"/>
                      <a:pt x="101" y="1503"/>
                      <a:pt x="171" y="1549"/>
                    </a:cubicBezTo>
                    <a:cubicBezTo>
                      <a:pt x="205" y="1600"/>
                      <a:pt x="221" y="1637"/>
                      <a:pt x="269" y="1669"/>
                    </a:cubicBezTo>
                    <a:cubicBezTo>
                      <a:pt x="297" y="1752"/>
                      <a:pt x="256" y="1653"/>
                      <a:pt x="313" y="1724"/>
                    </a:cubicBezTo>
                    <a:cubicBezTo>
                      <a:pt x="320" y="1733"/>
                      <a:pt x="318" y="1747"/>
                      <a:pt x="324" y="1757"/>
                    </a:cubicBezTo>
                    <a:cubicBezTo>
                      <a:pt x="361" y="1823"/>
                      <a:pt x="353" y="1812"/>
                      <a:pt x="400" y="1844"/>
                    </a:cubicBezTo>
                    <a:cubicBezTo>
                      <a:pt x="407" y="1855"/>
                      <a:pt x="413" y="1868"/>
                      <a:pt x="422" y="1877"/>
                    </a:cubicBezTo>
                    <a:cubicBezTo>
                      <a:pt x="431" y="1886"/>
                      <a:pt x="447" y="1889"/>
                      <a:pt x="455" y="1899"/>
                    </a:cubicBezTo>
                    <a:cubicBezTo>
                      <a:pt x="516" y="1974"/>
                      <a:pt x="403" y="1889"/>
                      <a:pt x="499" y="1953"/>
                    </a:cubicBezTo>
                    <a:cubicBezTo>
                      <a:pt x="526" y="1995"/>
                      <a:pt x="571" y="2013"/>
                      <a:pt x="619" y="2029"/>
                    </a:cubicBezTo>
                    <a:cubicBezTo>
                      <a:pt x="758" y="2074"/>
                      <a:pt x="898" y="2086"/>
                      <a:pt x="1044" y="2095"/>
                    </a:cubicBezTo>
                    <a:cubicBezTo>
                      <a:pt x="1185" y="2119"/>
                      <a:pt x="1206" y="2115"/>
                      <a:pt x="1393" y="2106"/>
                    </a:cubicBezTo>
                    <a:cubicBezTo>
                      <a:pt x="1415" y="2099"/>
                      <a:pt x="1440" y="2097"/>
                      <a:pt x="1459" y="2084"/>
                    </a:cubicBezTo>
                    <a:cubicBezTo>
                      <a:pt x="1470" y="2077"/>
                      <a:pt x="1479" y="2067"/>
                      <a:pt x="1491" y="2062"/>
                    </a:cubicBezTo>
                    <a:cubicBezTo>
                      <a:pt x="1613" y="2007"/>
                      <a:pt x="1514" y="2068"/>
                      <a:pt x="1589" y="2019"/>
                    </a:cubicBezTo>
                    <a:cubicBezTo>
                      <a:pt x="1619" y="1928"/>
                      <a:pt x="1621" y="1953"/>
                      <a:pt x="1600" y="1833"/>
                    </a:cubicBezTo>
                    <a:cubicBezTo>
                      <a:pt x="1596" y="1811"/>
                      <a:pt x="1579" y="1768"/>
                      <a:pt x="1579" y="1768"/>
                    </a:cubicBezTo>
                    <a:cubicBezTo>
                      <a:pt x="1571" y="1708"/>
                      <a:pt x="1539" y="1629"/>
                      <a:pt x="1611" y="1604"/>
                    </a:cubicBezTo>
                    <a:cubicBezTo>
                      <a:pt x="1622" y="1611"/>
                      <a:pt x="1637" y="1615"/>
                      <a:pt x="1644" y="1626"/>
                    </a:cubicBezTo>
                    <a:cubicBezTo>
                      <a:pt x="1656" y="1645"/>
                      <a:pt x="1654" y="1672"/>
                      <a:pt x="1666" y="1691"/>
                    </a:cubicBezTo>
                    <a:cubicBezTo>
                      <a:pt x="1680" y="1713"/>
                      <a:pt x="1694" y="1735"/>
                      <a:pt x="1709" y="1757"/>
                    </a:cubicBezTo>
                    <a:cubicBezTo>
                      <a:pt x="1716" y="1768"/>
                      <a:pt x="1719" y="1785"/>
                      <a:pt x="1731" y="1789"/>
                    </a:cubicBezTo>
                    <a:cubicBezTo>
                      <a:pt x="1753" y="1796"/>
                      <a:pt x="1797" y="1811"/>
                      <a:pt x="1797" y="1811"/>
                    </a:cubicBezTo>
                    <a:cubicBezTo>
                      <a:pt x="1818" y="1804"/>
                      <a:pt x="1846" y="1797"/>
                      <a:pt x="1862" y="1779"/>
                    </a:cubicBezTo>
                    <a:cubicBezTo>
                      <a:pt x="1908" y="1728"/>
                      <a:pt x="1898" y="1693"/>
                      <a:pt x="1949" y="1659"/>
                    </a:cubicBezTo>
                    <a:cubicBezTo>
                      <a:pt x="1956" y="1648"/>
                      <a:pt x="1965" y="1638"/>
                      <a:pt x="1971" y="1626"/>
                    </a:cubicBezTo>
                    <a:cubicBezTo>
                      <a:pt x="1976" y="1616"/>
                      <a:pt x="1976" y="1603"/>
                      <a:pt x="1982" y="1593"/>
                    </a:cubicBezTo>
                    <a:cubicBezTo>
                      <a:pt x="1995" y="1570"/>
                      <a:pt x="2026" y="1528"/>
                      <a:pt x="2026" y="1528"/>
                    </a:cubicBezTo>
                    <a:cubicBezTo>
                      <a:pt x="2051" y="1452"/>
                      <a:pt x="2067" y="1365"/>
                      <a:pt x="2113" y="1299"/>
                    </a:cubicBezTo>
                    <a:cubicBezTo>
                      <a:pt x="2141" y="1216"/>
                      <a:pt x="2103" y="1318"/>
                      <a:pt x="2146" y="1233"/>
                    </a:cubicBezTo>
                    <a:cubicBezTo>
                      <a:pt x="2172" y="1180"/>
                      <a:pt x="2181" y="1115"/>
                      <a:pt x="2200" y="1059"/>
                    </a:cubicBezTo>
                    <a:cubicBezTo>
                      <a:pt x="2196" y="815"/>
                      <a:pt x="2196" y="572"/>
                      <a:pt x="2189" y="328"/>
                    </a:cubicBezTo>
                    <a:cubicBezTo>
                      <a:pt x="2187" y="259"/>
                      <a:pt x="2108" y="186"/>
                      <a:pt x="2059" y="153"/>
                    </a:cubicBezTo>
                    <a:cubicBezTo>
                      <a:pt x="2040" y="140"/>
                      <a:pt x="2015" y="138"/>
                      <a:pt x="1993" y="131"/>
                    </a:cubicBezTo>
                    <a:cubicBezTo>
                      <a:pt x="1982" y="127"/>
                      <a:pt x="1960" y="120"/>
                      <a:pt x="1960" y="120"/>
                    </a:cubicBezTo>
                    <a:cubicBezTo>
                      <a:pt x="1928" y="124"/>
                      <a:pt x="1857" y="142"/>
                      <a:pt x="1819" y="142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851440" y="2043360"/>
                <a:ext cx="414360" cy="1020960"/>
              </a:xfrm>
              <a:custGeom>
                <a:avLst/>
                <a:gdLst/>
                <a:ahLst/>
                <a:rect l="l" t="t" r="r" b="b"/>
                <a:pathLst>
                  <a:path w="480" h="982">
                    <a:moveTo>
                      <a:pt x="0" y="982"/>
                    </a:moveTo>
                    <a:cubicBezTo>
                      <a:pt x="24" y="907"/>
                      <a:pt x="48" y="802"/>
                      <a:pt x="130" y="774"/>
                    </a:cubicBezTo>
                    <a:cubicBezTo>
                      <a:pt x="181" y="698"/>
                      <a:pt x="159" y="731"/>
                      <a:pt x="196" y="676"/>
                    </a:cubicBezTo>
                    <a:cubicBezTo>
                      <a:pt x="203" y="665"/>
                      <a:pt x="211" y="654"/>
                      <a:pt x="218" y="643"/>
                    </a:cubicBezTo>
                    <a:cubicBezTo>
                      <a:pt x="225" y="632"/>
                      <a:pt x="240" y="611"/>
                      <a:pt x="240" y="611"/>
                    </a:cubicBezTo>
                    <a:cubicBezTo>
                      <a:pt x="262" y="539"/>
                      <a:pt x="308" y="476"/>
                      <a:pt x="349" y="414"/>
                    </a:cubicBezTo>
                    <a:cubicBezTo>
                      <a:pt x="407" y="327"/>
                      <a:pt x="332" y="439"/>
                      <a:pt x="392" y="349"/>
                    </a:cubicBezTo>
                    <a:cubicBezTo>
                      <a:pt x="399" y="338"/>
                      <a:pt x="414" y="316"/>
                      <a:pt x="414" y="316"/>
                    </a:cubicBezTo>
                    <a:cubicBezTo>
                      <a:pt x="441" y="209"/>
                      <a:pt x="429" y="101"/>
                      <a:pt x="480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821920" y="2815200"/>
                <a:ext cx="491760" cy="1906920"/>
              </a:xfrm>
              <a:custGeom>
                <a:avLst/>
                <a:gdLst/>
                <a:ahLst/>
                <a:rect l="l" t="t" r="r" b="b"/>
                <a:pathLst>
                  <a:path w="513" h="1920">
                    <a:moveTo>
                      <a:pt x="0" y="1920"/>
                    </a:moveTo>
                    <a:cubicBezTo>
                      <a:pt x="22" y="1913"/>
                      <a:pt x="44" y="1905"/>
                      <a:pt x="66" y="1898"/>
                    </a:cubicBezTo>
                    <a:cubicBezTo>
                      <a:pt x="69" y="1897"/>
                      <a:pt x="141" y="1785"/>
                      <a:pt x="153" y="1767"/>
                    </a:cubicBezTo>
                    <a:cubicBezTo>
                      <a:pt x="160" y="1756"/>
                      <a:pt x="171" y="1747"/>
                      <a:pt x="175" y="1734"/>
                    </a:cubicBezTo>
                    <a:cubicBezTo>
                      <a:pt x="182" y="1712"/>
                      <a:pt x="197" y="1669"/>
                      <a:pt x="197" y="1669"/>
                    </a:cubicBezTo>
                    <a:cubicBezTo>
                      <a:pt x="201" y="1614"/>
                      <a:pt x="202" y="1559"/>
                      <a:pt x="208" y="1505"/>
                    </a:cubicBezTo>
                    <a:cubicBezTo>
                      <a:pt x="209" y="1493"/>
                      <a:pt x="219" y="1484"/>
                      <a:pt x="219" y="1472"/>
                    </a:cubicBezTo>
                    <a:cubicBezTo>
                      <a:pt x="219" y="1418"/>
                      <a:pt x="216" y="1363"/>
                      <a:pt x="208" y="1309"/>
                    </a:cubicBezTo>
                    <a:cubicBezTo>
                      <a:pt x="205" y="1286"/>
                      <a:pt x="186" y="1243"/>
                      <a:pt x="186" y="1243"/>
                    </a:cubicBezTo>
                    <a:cubicBezTo>
                      <a:pt x="197" y="1189"/>
                      <a:pt x="198" y="1163"/>
                      <a:pt x="251" y="1145"/>
                    </a:cubicBezTo>
                    <a:cubicBezTo>
                      <a:pt x="287" y="1169"/>
                      <a:pt x="303" y="1198"/>
                      <a:pt x="339" y="1222"/>
                    </a:cubicBezTo>
                    <a:cubicBezTo>
                      <a:pt x="404" y="1200"/>
                      <a:pt x="403" y="1152"/>
                      <a:pt x="415" y="1091"/>
                    </a:cubicBezTo>
                    <a:cubicBezTo>
                      <a:pt x="440" y="842"/>
                      <a:pt x="471" y="596"/>
                      <a:pt x="513" y="349"/>
                    </a:cubicBezTo>
                    <a:cubicBezTo>
                      <a:pt x="509" y="258"/>
                      <a:pt x="509" y="167"/>
                      <a:pt x="502" y="76"/>
                    </a:cubicBezTo>
                    <a:cubicBezTo>
                      <a:pt x="499" y="40"/>
                      <a:pt x="426" y="0"/>
                      <a:pt x="426" y="0"/>
                    </a:cubicBezTo>
                    <a:cubicBezTo>
                      <a:pt x="404" y="7"/>
                      <a:pt x="360" y="14"/>
                      <a:pt x="360" y="43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82360" y="2078280"/>
                <a:ext cx="220320" cy="768600"/>
              </a:xfrm>
              <a:custGeom>
                <a:avLst/>
                <a:gdLst/>
                <a:ahLst/>
                <a:rect l="l" t="t" r="r" b="b"/>
                <a:pathLst>
                  <a:path w="230" h="774">
                    <a:moveTo>
                      <a:pt x="0" y="774"/>
                    </a:moveTo>
                    <a:cubicBezTo>
                      <a:pt x="7" y="752"/>
                      <a:pt x="9" y="728"/>
                      <a:pt x="22" y="709"/>
                    </a:cubicBezTo>
                    <a:cubicBezTo>
                      <a:pt x="29" y="698"/>
                      <a:pt x="39" y="688"/>
                      <a:pt x="44" y="676"/>
                    </a:cubicBezTo>
                    <a:cubicBezTo>
                      <a:pt x="62" y="635"/>
                      <a:pt x="74" y="588"/>
                      <a:pt x="88" y="545"/>
                    </a:cubicBezTo>
                    <a:cubicBezTo>
                      <a:pt x="99" y="512"/>
                      <a:pt x="110" y="480"/>
                      <a:pt x="120" y="447"/>
                    </a:cubicBezTo>
                    <a:cubicBezTo>
                      <a:pt x="124" y="436"/>
                      <a:pt x="131" y="414"/>
                      <a:pt x="131" y="414"/>
                    </a:cubicBezTo>
                    <a:cubicBezTo>
                      <a:pt x="135" y="360"/>
                      <a:pt x="136" y="305"/>
                      <a:pt x="142" y="251"/>
                    </a:cubicBezTo>
                    <a:cubicBezTo>
                      <a:pt x="146" y="214"/>
                      <a:pt x="197" y="153"/>
                      <a:pt x="197" y="153"/>
                    </a:cubicBezTo>
                    <a:cubicBezTo>
                      <a:pt x="218" y="89"/>
                      <a:pt x="230" y="64"/>
                      <a:pt x="230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000120" y="2815200"/>
                <a:ext cx="72720" cy="5328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0" y="0"/>
                    </a:moveTo>
                    <a:cubicBezTo>
                      <a:pt x="18" y="4"/>
                      <a:pt x="39" y="1"/>
                      <a:pt x="54" y="11"/>
                    </a:cubicBezTo>
                    <a:cubicBezTo>
                      <a:pt x="67" y="20"/>
                      <a:pt x="65" y="43"/>
                      <a:pt x="76" y="54"/>
                    </a:cubicBezTo>
                  </a:path>
                </a:pathLst>
              </a:custGeom>
              <a:noFill/>
              <a:ln w="66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989680" y="2663280"/>
                <a:ext cx="492840" cy="2123640"/>
              </a:xfrm>
              <a:custGeom>
                <a:avLst/>
                <a:gdLst/>
                <a:ahLst/>
                <a:rect l="l" t="t" r="r" b="b"/>
                <a:pathLst>
                  <a:path w="514" h="2138">
                    <a:moveTo>
                      <a:pt x="0" y="2138"/>
                    </a:moveTo>
                    <a:cubicBezTo>
                      <a:pt x="15" y="2116"/>
                      <a:pt x="29" y="2095"/>
                      <a:pt x="44" y="2073"/>
                    </a:cubicBezTo>
                    <a:cubicBezTo>
                      <a:pt x="57" y="2054"/>
                      <a:pt x="58" y="2029"/>
                      <a:pt x="65" y="2007"/>
                    </a:cubicBezTo>
                    <a:cubicBezTo>
                      <a:pt x="84" y="1950"/>
                      <a:pt x="97" y="1894"/>
                      <a:pt x="131" y="1844"/>
                    </a:cubicBezTo>
                    <a:cubicBezTo>
                      <a:pt x="142" y="1811"/>
                      <a:pt x="153" y="1778"/>
                      <a:pt x="164" y="1745"/>
                    </a:cubicBezTo>
                    <a:cubicBezTo>
                      <a:pt x="182" y="1690"/>
                      <a:pt x="229" y="1658"/>
                      <a:pt x="262" y="1615"/>
                    </a:cubicBezTo>
                    <a:cubicBezTo>
                      <a:pt x="302" y="1564"/>
                      <a:pt x="308" y="1528"/>
                      <a:pt x="360" y="1495"/>
                    </a:cubicBezTo>
                    <a:cubicBezTo>
                      <a:pt x="367" y="1484"/>
                      <a:pt x="373" y="1471"/>
                      <a:pt x="382" y="1462"/>
                    </a:cubicBezTo>
                    <a:cubicBezTo>
                      <a:pt x="391" y="1453"/>
                      <a:pt x="406" y="1450"/>
                      <a:pt x="415" y="1440"/>
                    </a:cubicBezTo>
                    <a:cubicBezTo>
                      <a:pt x="432" y="1420"/>
                      <a:pt x="458" y="1375"/>
                      <a:pt x="458" y="1375"/>
                    </a:cubicBezTo>
                    <a:cubicBezTo>
                      <a:pt x="462" y="1364"/>
                      <a:pt x="473" y="1353"/>
                      <a:pt x="469" y="1342"/>
                    </a:cubicBezTo>
                    <a:cubicBezTo>
                      <a:pt x="457" y="1312"/>
                      <a:pt x="370" y="1302"/>
                      <a:pt x="349" y="1298"/>
                    </a:cubicBezTo>
                    <a:cubicBezTo>
                      <a:pt x="375" y="1219"/>
                      <a:pt x="349" y="1305"/>
                      <a:pt x="371" y="1145"/>
                    </a:cubicBezTo>
                    <a:cubicBezTo>
                      <a:pt x="377" y="1098"/>
                      <a:pt x="392" y="1050"/>
                      <a:pt x="404" y="1004"/>
                    </a:cubicBezTo>
                    <a:cubicBezTo>
                      <a:pt x="406" y="966"/>
                      <a:pt x="419" y="730"/>
                      <a:pt x="425" y="676"/>
                    </a:cubicBezTo>
                    <a:cubicBezTo>
                      <a:pt x="441" y="523"/>
                      <a:pt x="483" y="369"/>
                      <a:pt x="513" y="218"/>
                    </a:cubicBezTo>
                    <a:cubicBezTo>
                      <a:pt x="509" y="193"/>
                      <a:pt x="514" y="165"/>
                      <a:pt x="502" y="142"/>
                    </a:cubicBezTo>
                    <a:cubicBezTo>
                      <a:pt x="497" y="132"/>
                      <a:pt x="477" y="139"/>
                      <a:pt x="469" y="131"/>
                    </a:cubicBezTo>
                    <a:cubicBezTo>
                      <a:pt x="452" y="114"/>
                      <a:pt x="440" y="30"/>
                      <a:pt x="425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450120" y="2329560"/>
                <a:ext cx="378000" cy="593640"/>
              </a:xfrm>
              <a:custGeom>
                <a:avLst/>
                <a:gdLst/>
                <a:ahLst/>
                <a:rect l="l" t="t" r="r" b="b"/>
                <a:pathLst>
                  <a:path w="361" h="698">
                    <a:moveTo>
                      <a:pt x="305" y="698"/>
                    </a:moveTo>
                    <a:cubicBezTo>
                      <a:pt x="361" y="614"/>
                      <a:pt x="325" y="493"/>
                      <a:pt x="272" y="414"/>
                    </a:cubicBezTo>
                    <a:cubicBezTo>
                      <a:pt x="254" y="356"/>
                      <a:pt x="268" y="391"/>
                      <a:pt x="218" y="316"/>
                    </a:cubicBezTo>
                    <a:cubicBezTo>
                      <a:pt x="212" y="306"/>
                      <a:pt x="214" y="292"/>
                      <a:pt x="207" y="283"/>
                    </a:cubicBezTo>
                    <a:cubicBezTo>
                      <a:pt x="199" y="273"/>
                      <a:pt x="185" y="268"/>
                      <a:pt x="174" y="261"/>
                    </a:cubicBezTo>
                    <a:cubicBezTo>
                      <a:pt x="159" y="218"/>
                      <a:pt x="147" y="199"/>
                      <a:pt x="109" y="174"/>
                    </a:cubicBezTo>
                    <a:cubicBezTo>
                      <a:pt x="81" y="90"/>
                      <a:pt x="119" y="193"/>
                      <a:pt x="76" y="109"/>
                    </a:cubicBezTo>
                    <a:cubicBezTo>
                      <a:pt x="71" y="99"/>
                      <a:pt x="72" y="85"/>
                      <a:pt x="65" y="76"/>
                    </a:cubicBezTo>
                    <a:cubicBezTo>
                      <a:pt x="57" y="66"/>
                      <a:pt x="43" y="61"/>
                      <a:pt x="32" y="54"/>
                    </a:cubicBezTo>
                    <a:cubicBezTo>
                      <a:pt x="19" y="11"/>
                      <a:pt x="30" y="29"/>
                      <a:pt x="0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104880" y="2034360"/>
                <a:ext cx="136080" cy="129960"/>
              </a:xfrm>
              <a:custGeom>
                <a:avLst/>
                <a:gdLst/>
                <a:ahLst/>
                <a:rect l="l" t="t" r="r" b="b"/>
                <a:pathLst>
                  <a:path w="142" h="131">
                    <a:moveTo>
                      <a:pt x="142" y="131"/>
                    </a:moveTo>
                    <a:cubicBezTo>
                      <a:pt x="68" y="106"/>
                      <a:pt x="82" y="131"/>
                      <a:pt x="65" y="77"/>
                    </a:cubicBezTo>
                    <a:cubicBezTo>
                      <a:pt x="61" y="66"/>
                      <a:pt x="60" y="54"/>
                      <a:pt x="55" y="44"/>
                    </a:cubicBezTo>
                    <a:cubicBezTo>
                      <a:pt x="49" y="32"/>
                      <a:pt x="43" y="19"/>
                      <a:pt x="33" y="11"/>
                    </a:cubicBezTo>
                    <a:cubicBezTo>
                      <a:pt x="24" y="4"/>
                      <a:pt x="0" y="0"/>
                      <a:pt x="0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936760" y="2131920"/>
                <a:ext cx="146520" cy="151920"/>
              </a:xfrm>
              <a:custGeom>
                <a:avLst/>
                <a:gdLst/>
                <a:ahLst/>
                <a:rect l="l" t="t" r="r" b="b"/>
                <a:pathLst>
                  <a:path w="153" h="153">
                    <a:moveTo>
                      <a:pt x="153" y="153"/>
                    </a:moveTo>
                    <a:cubicBezTo>
                      <a:pt x="142" y="146"/>
                      <a:pt x="128" y="141"/>
                      <a:pt x="120" y="131"/>
                    </a:cubicBezTo>
                    <a:cubicBezTo>
                      <a:pt x="78" y="78"/>
                      <a:pt x="150" y="112"/>
                      <a:pt x="77" y="88"/>
                    </a:cubicBezTo>
                    <a:cubicBezTo>
                      <a:pt x="70" y="77"/>
                      <a:pt x="65" y="63"/>
                      <a:pt x="55" y="55"/>
                    </a:cubicBezTo>
                    <a:cubicBezTo>
                      <a:pt x="31" y="36"/>
                      <a:pt x="0" y="45"/>
                      <a:pt x="0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433280" y="2175480"/>
                <a:ext cx="335520" cy="552240"/>
              </a:xfrm>
              <a:custGeom>
                <a:avLst/>
                <a:gdLst/>
                <a:ahLst/>
                <a:rect l="l" t="t" r="r" b="b"/>
                <a:pathLst>
                  <a:path w="350" h="556">
                    <a:moveTo>
                      <a:pt x="0" y="556"/>
                    </a:moveTo>
                    <a:cubicBezTo>
                      <a:pt x="5" y="555"/>
                      <a:pt x="68" y="542"/>
                      <a:pt x="77" y="535"/>
                    </a:cubicBezTo>
                    <a:cubicBezTo>
                      <a:pt x="87" y="527"/>
                      <a:pt x="90" y="511"/>
                      <a:pt x="99" y="502"/>
                    </a:cubicBezTo>
                    <a:cubicBezTo>
                      <a:pt x="108" y="493"/>
                      <a:pt x="120" y="487"/>
                      <a:pt x="131" y="480"/>
                    </a:cubicBezTo>
                    <a:cubicBezTo>
                      <a:pt x="138" y="332"/>
                      <a:pt x="120" y="148"/>
                      <a:pt x="262" y="55"/>
                    </a:cubicBezTo>
                    <a:cubicBezTo>
                      <a:pt x="269" y="44"/>
                      <a:pt x="273" y="29"/>
                      <a:pt x="284" y="22"/>
                    </a:cubicBezTo>
                    <a:cubicBezTo>
                      <a:pt x="304" y="10"/>
                      <a:pt x="350" y="0"/>
                      <a:pt x="350" y="0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171200" y="1981080"/>
                <a:ext cx="387360" cy="324720"/>
              </a:xfrm>
              <a:custGeom>
                <a:avLst/>
                <a:gdLst/>
                <a:ahLst/>
                <a:rect l="l" t="t" r="r" b="b"/>
                <a:pathLst>
                  <a:path w="404" h="327">
                    <a:moveTo>
                      <a:pt x="404" y="109"/>
                    </a:moveTo>
                    <a:cubicBezTo>
                      <a:pt x="382" y="116"/>
                      <a:pt x="361" y="124"/>
                      <a:pt x="339" y="131"/>
                    </a:cubicBezTo>
                    <a:cubicBezTo>
                      <a:pt x="314" y="139"/>
                      <a:pt x="317" y="181"/>
                      <a:pt x="295" y="196"/>
                    </a:cubicBezTo>
                    <a:cubicBezTo>
                      <a:pt x="284" y="203"/>
                      <a:pt x="274" y="211"/>
                      <a:pt x="263" y="218"/>
                    </a:cubicBezTo>
                    <a:cubicBezTo>
                      <a:pt x="202" y="309"/>
                      <a:pt x="282" y="204"/>
                      <a:pt x="208" y="262"/>
                    </a:cubicBezTo>
                    <a:cubicBezTo>
                      <a:pt x="198" y="270"/>
                      <a:pt x="197" y="287"/>
                      <a:pt x="186" y="294"/>
                    </a:cubicBezTo>
                    <a:cubicBezTo>
                      <a:pt x="167" y="306"/>
                      <a:pt x="143" y="309"/>
                      <a:pt x="121" y="316"/>
                    </a:cubicBezTo>
                    <a:cubicBezTo>
                      <a:pt x="110" y="320"/>
                      <a:pt x="88" y="327"/>
                      <a:pt x="88" y="327"/>
                    </a:cubicBezTo>
                    <a:cubicBezTo>
                      <a:pt x="73" y="323"/>
                      <a:pt x="59" y="320"/>
                      <a:pt x="44" y="316"/>
                    </a:cubicBezTo>
                    <a:cubicBezTo>
                      <a:pt x="33" y="313"/>
                      <a:pt x="14" y="316"/>
                      <a:pt x="12" y="305"/>
                    </a:cubicBezTo>
                    <a:cubicBezTo>
                      <a:pt x="0" y="239"/>
                      <a:pt x="34" y="160"/>
                      <a:pt x="55" y="98"/>
                    </a:cubicBezTo>
                    <a:cubicBezTo>
                      <a:pt x="62" y="76"/>
                      <a:pt x="64" y="51"/>
                      <a:pt x="77" y="32"/>
                    </a:cubicBezTo>
                    <a:cubicBezTo>
                      <a:pt x="84" y="21"/>
                      <a:pt x="99" y="0"/>
                      <a:pt x="99" y="0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680520" y="1981080"/>
                <a:ext cx="334440" cy="617760"/>
              </a:xfrm>
              <a:custGeom>
                <a:avLst/>
                <a:gdLst/>
                <a:ahLst/>
                <a:rect l="l" t="t" r="r" b="b"/>
                <a:pathLst>
                  <a:path w="349" h="622">
                    <a:moveTo>
                      <a:pt x="349" y="0"/>
                    </a:moveTo>
                    <a:cubicBezTo>
                      <a:pt x="324" y="73"/>
                      <a:pt x="317" y="141"/>
                      <a:pt x="251" y="185"/>
                    </a:cubicBezTo>
                    <a:cubicBezTo>
                      <a:pt x="212" y="243"/>
                      <a:pt x="170" y="291"/>
                      <a:pt x="131" y="349"/>
                    </a:cubicBezTo>
                    <a:cubicBezTo>
                      <a:pt x="72" y="438"/>
                      <a:pt x="146" y="327"/>
                      <a:pt x="87" y="414"/>
                    </a:cubicBezTo>
                    <a:cubicBezTo>
                      <a:pt x="80" y="425"/>
                      <a:pt x="65" y="447"/>
                      <a:pt x="65" y="447"/>
                    </a:cubicBezTo>
                    <a:cubicBezTo>
                      <a:pt x="48" y="502"/>
                      <a:pt x="59" y="469"/>
                      <a:pt x="33" y="545"/>
                    </a:cubicBezTo>
                    <a:cubicBezTo>
                      <a:pt x="23" y="575"/>
                      <a:pt x="0" y="587"/>
                      <a:pt x="0" y="622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972840" y="2868840"/>
                <a:ext cx="146520" cy="76320"/>
              </a:xfrm>
              <a:custGeom>
                <a:avLst/>
                <a:gdLst/>
                <a:ahLst/>
                <a:rect l="l" t="t" r="r" b="b"/>
                <a:pathLst>
                  <a:path w="153" h="77">
                    <a:moveTo>
                      <a:pt x="153" y="0"/>
                    </a:moveTo>
                    <a:cubicBezTo>
                      <a:pt x="89" y="22"/>
                      <a:pt x="47" y="30"/>
                      <a:pt x="0" y="77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71000" y="2859840"/>
                <a:ext cx="125640" cy="41760"/>
              </a:xfrm>
              <a:custGeom>
                <a:avLst/>
                <a:gdLst/>
                <a:ahLst/>
                <a:rect l="l" t="t" r="r" b="b"/>
                <a:pathLst>
                  <a:path w="131" h="42">
                    <a:moveTo>
                      <a:pt x="0" y="42"/>
                    </a:moveTo>
                    <a:cubicBezTo>
                      <a:pt x="45" y="27"/>
                      <a:pt x="89" y="0"/>
                      <a:pt x="131" y="42"/>
                    </a:cubicBezTo>
                  </a:path>
                </a:pathLst>
              </a:custGeom>
              <a:noFill/>
              <a:ln w="66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80520" y="2822400"/>
                <a:ext cx="104400" cy="3564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109" y="15"/>
                    </a:moveTo>
                    <a:cubicBezTo>
                      <a:pt x="65" y="0"/>
                      <a:pt x="35" y="3"/>
                      <a:pt x="0" y="36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4267080" y="213372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997760" y="2840040"/>
              <a:ext cx="322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267080" y="33526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67280" y="31240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924680" y="47242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001000" y="3657600"/>
              <a:ext cx="322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45000" y="2266920"/>
              <a:ext cx="920880" cy="1904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4498920" y="2982600"/>
              <a:ext cx="1289160" cy="4762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064200" y="1980720"/>
              <a:ext cx="322200" cy="1096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7031160" y="2600280"/>
              <a:ext cx="969840" cy="3715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6892560" y="3887640"/>
              <a:ext cx="1104840" cy="142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flipV="1">
              <a:off x="7030800" y="4699080"/>
              <a:ext cx="874440" cy="2858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85800" y="4267080"/>
            <a:ext cx="2209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86200" y="1905120"/>
            <a:ext cx="838080" cy="6094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905120"/>
            <a:ext cx="762120" cy="6094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22860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895480"/>
            <a:ext cx="2362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ection of the system including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de of the heart, deals with the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deoxygen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3048120"/>
            <a:ext cx="236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ection of the system including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de of the heart, deal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ygen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2320" y="205740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13280" y="5969160"/>
            <a:ext cx="1523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095520" y="4648320"/>
            <a:ext cx="18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95520" y="2514600"/>
            <a:ext cx="1800" cy="533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5867280"/>
            <a:ext cx="838080" cy="6098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5867280"/>
            <a:ext cx="762120" cy="60984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429000" y="63244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29000" y="3504960"/>
            <a:ext cx="0" cy="2819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350532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505320" y="624852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505320" y="3580920"/>
            <a:ext cx="0" cy="2667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358128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429000" y="228600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22860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236232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2362320"/>
            <a:ext cx="0" cy="761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3124080"/>
            <a:ext cx="1042920" cy="1800"/>
          </a:xfrm>
          <a:custGeom>
            <a:avLst/>
            <a:gdLst/>
            <a:ahLst/>
            <a:rect l="l" t="t" r="r" b="b"/>
            <a:pathLst>
              <a:path w="657" h="1">
                <a:moveTo>
                  <a:pt x="0" y="0"/>
                </a:moveTo>
                <a:lnTo>
                  <a:pt x="657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3657600"/>
            <a:ext cx="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486400" y="6324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62485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867280" y="373356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276720" y="4800600"/>
            <a:ext cx="0" cy="838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276720" y="24382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3505320"/>
            <a:ext cx="0" cy="471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228600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29200" y="35053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34290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867280" y="236196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86400" y="23623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62560" y="3200400"/>
            <a:ext cx="1440" cy="728640"/>
          </a:xfrm>
          <a:custGeom>
            <a:avLst/>
            <a:gdLst/>
            <a:ahLst/>
            <a:rect l="l" t="t" r="r" b="b"/>
            <a:pathLst>
              <a:path w="1" h="459">
                <a:moveTo>
                  <a:pt x="0" y="459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548240" y="3133800"/>
            <a:ext cx="0" cy="761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36576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800240" y="37339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65760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37339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342900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05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37339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191120" y="3809880"/>
          <a:ext cx="85248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809880"/>
                    <a:ext cx="8524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952880" y="3733920"/>
            <a:ext cx="0" cy="27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3581280"/>
            <a:ext cx="1440" cy="495360"/>
          </a:xfrm>
          <a:custGeom>
            <a:avLst/>
            <a:gdLst/>
            <a:ahLst/>
            <a:rect l="l" t="t" r="r" b="b"/>
            <a:pathLst>
              <a:path w="1" h="312">
                <a:moveTo>
                  <a:pt x="0" y="0"/>
                </a:moveTo>
                <a:lnTo>
                  <a:pt x="0" y="312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3200400"/>
            <a:ext cx="1033560" cy="1440"/>
          </a:xfrm>
          <a:custGeom>
            <a:avLst/>
            <a:gdLst/>
            <a:ahLst/>
            <a:rect l="l" t="t" r="r" b="b"/>
            <a:pathLst>
              <a:path w="651" h="1">
                <a:moveTo>
                  <a:pt x="0" y="0"/>
                </a:moveTo>
                <a:lnTo>
                  <a:pt x="651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28600"/>
            <a:ext cx="769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 all times these two types of blood cannot mix.  Why do you think this i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cause of this our circulatory system is in two parts.  It is in fact called a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double circulatory syste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60" y="0"/>
            <a:ext cx="51246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Human Circulatory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ShockwaveFlash1"/>
          <p:cNvGraphicFramePr/>
          <p:nvPr/>
        </p:nvGraphicFramePr>
        <p:xfrm>
          <a:off x="914400" y="762120"/>
          <a:ext cx="739152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391520" cy="5638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34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160" y="380880"/>
            <a:ext cx="64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unit we are going to focus on the heart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19112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the pump at the centre of the circulatory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living organisms have hear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,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the heart can change, depending on what species you look 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3276720"/>
            <a:ext cx="205740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ShockwaveFlash1"/>
          <p:cNvGraphicFramePr/>
          <p:nvPr/>
        </p:nvGraphicFramePr>
        <p:xfrm>
          <a:off x="533520" y="1066680"/>
          <a:ext cx="205740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2057400" cy="221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08040" y="72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685800"/>
            <a:ext cx="7804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eart is made almost entirely of muscle.  It is un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other muscle in your body because it never ti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even though it is full of blood it still needs it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 supply.  Oxygenated blood is carried to the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oronary arte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side of the heart has two chamber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911240" indent="-19044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n top chamber or atrium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911240" indent="-19044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 bottom chamber or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4724280"/>
            <a:ext cx="83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of these chambers has its own function.  Look at the diagram on the next slide to see what tha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36576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heart%20with%20labels" descr=""/>
          <p:cNvPicPr/>
          <p:nvPr/>
        </p:nvPicPr>
        <p:blipFill>
          <a:blip r:embed="rId1"/>
          <a:stretch/>
        </p:blipFill>
        <p:spPr>
          <a:xfrm>
            <a:off x="762120" y="741240"/>
            <a:ext cx="769608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17:12:25Z</dcterms:created>
  <dc:creator>Boardworks Ltd</dc:creator>
  <dc:description/>
  <dc:language>en-US</dc:language>
  <cp:lastModifiedBy>Julie Kilcoyne</cp:lastModifiedBy>
  <dcterms:modified xsi:type="dcterms:W3CDTF">2003-04-29T16:12:17Z</dcterms:modified>
  <cp:revision>202</cp:revision>
  <dc:subject/>
  <dc:title>No Slide Title</dc:title>
</cp:coreProperties>
</file>